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2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Slide </a:t>
            </a:r>
            <a:fld id="{06A55CBE-E87C-4095-8A49-81A73BC14645}" type="slidenum">
              <a:rPr b="0" lang="en-GB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Help-01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90720" y="3048120"/>
            <a:ext cx="72388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3c65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94840" y="3251880"/>
            <a:ext cx="6830640" cy="963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94c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Help” Title Slide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itt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14T16:09:10Z</dcterms:modified>
  <cp:revision>42</cp:revision>
  <dc:subject/>
  <dc:title>Free Sample Awesome PowerPoint Background Template</dc:title>
</cp:coreProperties>
</file>