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hain-Links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551c7"/>
                </a:solidFill>
                <a:latin typeface="Arial"/>
              </a:rPr>
              <a:t>Slide </a:t>
            </a:r>
            <a:fld id="{BBF0989C-9D72-4CA4-BD1D-CA635851393A}" type="slidenum">
              <a:rPr b="0" lang="en-GB" sz="1400" spc="-1" strike="noStrike">
                <a:solidFill>
                  <a:srgbClr val="3551c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4419720" cy="190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165"/>
              </a:gs>
              <a:gs pos="100000">
                <a:srgbClr val="67a5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7880" y="691200"/>
            <a:ext cx="3646080" cy="1131480"/>
          </a:xfrm>
          <a:prstGeom prst="rect">
            <a:avLst/>
          </a:prstGeom>
          <a:gradFill rotWithShape="0">
            <a:gsLst>
              <a:gs pos="0">
                <a:srgbClr val="67a5ff"/>
              </a:gs>
              <a:gs pos="100000">
                <a:srgbClr val="3352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in Links”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23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343400"/>
            <a:ext cx="1981080" cy="685800"/>
          </a:xfrm>
          <a:prstGeom prst="ellipse">
            <a:avLst/>
          </a:prstGeom>
          <a:gradFill rotWithShape="0">
            <a:gsLst>
              <a:gs pos="0">
                <a:srgbClr val="67a5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 your Logo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0320" y="1499040"/>
            <a:ext cx="28926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1720" y="3404160"/>
            <a:ext cx="20541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708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180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8:11Z</dcterms:modified>
  <cp:revision>44</cp:revision>
  <dc:subject/>
  <dc:title>Free Sample Awesome PowerPoint Background Template</dc:title>
</cp:coreProperties>
</file>