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3458"/>
        <c:axId val="37945593"/>
      </c:barChart>
      <c:catAx>
        <c:axId val="69834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45593"/>
        <c:crosses val="autoZero"/>
        <c:auto val="1"/>
        <c:lblAlgn val="ctr"/>
        <c:lblOffset val="100"/>
        <c:noMultiLvlLbl val="0"/>
      </c:catAx>
      <c:valAx>
        <c:axId val="379455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34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5D3B-966B-4485-A282-EB77DE0C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6B3-882A-4F93-B575-83FB40D7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ABA-1810-4F8B-A08C-D288E22A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4C5-D5CA-4A4C-A26B-A6047A35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25D4-1659-410B-8C98-8906F2B8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DE00-2DB6-4BEC-A0FC-1B97A462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C7F-224B-4F13-BCEA-A064EA92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51C2-817C-456A-B693-26CDCFFE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687-3C08-4E3A-A6D0-9FF11DCE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6FB1-4198-43AC-8CF5-78ED0261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497-B33B-4963-8F2A-78D646D2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FBF4-B199-4AAA-9987-3C6D8EE1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A11CF-D627-4EE5-A996-D0D56814DC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