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804402"/>
        <c:axId val="11768578"/>
      </c:barChart>
      <c:catAx>
        <c:axId val="298044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68578"/>
        <c:crosses val="autoZero"/>
        <c:auto val="1"/>
        <c:lblAlgn val="ctr"/>
        <c:lblOffset val="100"/>
        <c:noMultiLvlLbl val="0"/>
      </c:catAx>
      <c:valAx>
        <c:axId val="117685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044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A79D-A882-45F0-8271-67953C1C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64F1-4C2B-482E-A6D1-711F4B5F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EF23-B3BD-48A4-85B4-1C9CF0FA8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9BF0-5E16-424B-9BB5-278620FF6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96DC-BF98-48A5-94B3-8353ED83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6C8B-1268-4323-8830-3E1807A7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36EC-D0C1-4A47-A764-B9FCB243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9595-D5BE-45C4-8C54-D577550F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CD9E-522C-4DA8-9AF9-79C2F202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F768-0F10-432A-93BF-30743611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3693-2B54-44DF-BDFA-74CCB6B9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E29B-5348-4942-8C56-0A7C744E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39393-0934-408F-ACDB-79C8050B9F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