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99288"/>
        <c:axId val="66330188"/>
      </c:barChart>
      <c:catAx>
        <c:axId val="70899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30188"/>
        <c:crosses val="autoZero"/>
        <c:auto val="1"/>
        <c:lblAlgn val="ctr"/>
        <c:lblOffset val="100"/>
        <c:noMultiLvlLbl val="0"/>
      </c:catAx>
      <c:valAx>
        <c:axId val="66330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9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DE1-BD6D-4D33-8E58-221570D7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996-BECF-4C6E-AA48-4C3C89B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420-7C8B-422A-ADAC-349B18D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747-0E72-46D7-ADCC-BC443DD3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3C6-BA45-4CCB-B374-F3222B5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356-8CE5-426C-A281-A69AFFF2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58B-8456-4E00-80B7-D131037A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DBF-00D1-4B7C-984C-56F6D16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31B-7253-497A-BF4F-D8A37EA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CD7-F560-4D8D-9C8C-FFDD38C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752-14EA-486C-A63B-04AC7B8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8C6-EFFC-4452-9460-83CDE96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288DD-A57F-4770-BD69-ECC55338AC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