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259236"/>
        <c:axId val="72349882"/>
      </c:barChart>
      <c:catAx>
        <c:axId val="302592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349882"/>
        <c:crosses val="autoZero"/>
        <c:auto val="1"/>
        <c:lblAlgn val="ctr"/>
        <c:lblOffset val="100"/>
        <c:noMultiLvlLbl val="0"/>
      </c:catAx>
      <c:valAx>
        <c:axId val="723498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592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08E2-A331-4129-ACC9-D89D16463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4114-4172-45D0-A4D6-EFA679FA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EA2B-373A-42F8-990B-D438764C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0779-9D9E-446A-B49B-07D6BE253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0236-2C00-4DEF-BD11-E2C1B878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4272-0E21-49DF-A225-60FC6FD8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ADA6-55AF-4E52-B83F-1D975CEC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38EB-BF02-42BF-9D17-4C345B6C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3F62-B74E-45B4-9C45-3B8126FB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96E5-F503-4DBC-B392-054F0C6C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0B26-F071-434D-981A-62DFFADC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EAA8-3F28-4462-AB5F-F8EBD4DA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D6799-F38E-407D-B981-A6B8549D6E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