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54598"/>
        <c:axId val="98754088"/>
      </c:barChart>
      <c:catAx>
        <c:axId val="49854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4088"/>
        <c:crosses val="autoZero"/>
        <c:auto val="1"/>
        <c:lblAlgn val="ctr"/>
        <c:lblOffset val="100"/>
        <c:noMultiLvlLbl val="0"/>
      </c:catAx>
      <c:valAx>
        <c:axId val="98754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4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BB8-EF4E-45CA-969F-5DD714A1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8BE-5559-461A-A7AA-43ECEDFB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57C-17B3-4B74-9CA1-460A22FF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DB9-7636-4B98-99DA-7DD9D1BD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6F5-2748-4F24-ABD8-B7C2338D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2B6-88E6-44A3-860B-6DEBDFC3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E1D-12C9-40AB-9025-536F6B0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A03-D842-451F-A9A4-8DF2825B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30B-44DB-4EA2-9BD1-4CF1CCD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1B7-7907-429A-869C-A471AA8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E2D-BA66-46CC-9810-1BDFB9A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57E-F33C-4E14-BDB2-38CA270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9DA6B-2E44-48DE-945F-7F65E1609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