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531779"/>
        <c:axId val="38441823"/>
      </c:barChart>
      <c:catAx>
        <c:axId val="275317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441823"/>
        <c:crosses val="autoZero"/>
        <c:auto val="1"/>
        <c:lblAlgn val="ctr"/>
        <c:lblOffset val="100"/>
        <c:noMultiLvlLbl val="0"/>
      </c:catAx>
      <c:valAx>
        <c:axId val="384418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5317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9B43-A028-46FF-8134-587E40574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FCA7-E725-4E4E-8FDF-7DC9899D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081E-0691-4D2B-9C79-AFF870B72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EE84-6A66-4DAE-93A5-F081358C7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1A69-06FF-4562-9058-801CE4DB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A131-CB8D-42E4-8733-40DDC4F9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A38B-D66E-4D89-A136-C419CDF7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D61C-1135-48A0-9DD3-1BBB3965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6B7D-039C-4525-8CC6-BBCC4C0C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5BB0-64E6-40BB-BBDF-8134C32D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D9FE-A359-44CF-9AD4-1D2FADA7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93E0-D533-4808-BD13-235F17E6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4F1001-B6D9-4E98-B2AF-A9FD05072F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