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5290E9E-3B8D-4E3C-9DA4-B11E4A92262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DECC7FB-F7F3-424D-B875-CCA57E43510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A99C171-B5A8-45F6-9573-02D61A9856E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27E5B72-D327-49A4-A045-11376CC4109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3879AFA-F96C-4FA4-AB1B-032B8ABED6A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4B502E4-7D9A-43C7-8486-807BAD98B8E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29D253C-B2D7-481D-811B-15CA026478F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B32DBDC-D8DF-43F0-A956-4CD0BCAB8F9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20715F3-1AC8-403B-A663-61BAF144D2A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9C3B8F1-5957-4A95-B7D4-796A7090D6E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BBC901F-BB7D-410B-B802-CAE6A40BD68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57604BC-C943-4C6C-B1DF-1A98C962C77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BB9F7EC-3E82-4740-A5F7-203AEF9D85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D96F081-3D0A-47CC-9198-0F6532DB81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223AF98-6B7B-49B4-8BE2-0403FCCD81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0E98B05-51BF-41C0-88A9-9004F16E90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5A4C300-EE11-4135-B515-A8C42FD3405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E5AFB06-B3CF-4D41-866C-DEF64D0A6B3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FC78A7A-2084-41CC-A6BE-86E70F322A5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22839DD-74D9-4B4C-9479-32EC7D987F6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B1734AD-B7E2-44EF-B2DA-EF778DBE30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0C8A334-65EC-402F-9843-BBEF385F441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E2B6582-4065-4F3F-85E5-49C95FE439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6A6DAEB-9539-4C64-BF4B-71B3AC7037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59DB51E-E1E4-4841-87CA-990F6062697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5379D05-01D2-4DD0-A99E-37FCFA14E77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2FADBA4-57A1-48D1-B004-EF878A40C21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6EAF245-FEB7-4418-BBDC-456FC61B74F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0C1D3D7-3951-49A9-BF22-32409EB11CB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67D3BFF-9364-4A62-BC43-AE164E2B1D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52FDB9A-5E4C-4E83-9928-B6C5A25F64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5DC7F0-A2B9-47CE-8DC9-32AB3C7E26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AC5C564-561B-4E74-BDF0-DC5264D81B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90C3F7-286F-4816-ADB3-F3023B0917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F748BF-8C80-44CE-87CC-9AD9CFE037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26EF6D-62FB-4F78-AD8C-E1E921C032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D4887-E897-4E57-99B4-69F104C1FA7A}"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F83F6-5DFD-4694-9D90-CB2B01319223}"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2C234DB-92CD-4506-98A0-C85F2F1E5BC2}"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9991A70-D3A1-4248-94A7-D15F6CFB6AB5}"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D62DCA6-C474-4D48-A7CD-CD3081DCC599}"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2ABA580-2B9E-40A8-B9DD-EDC9E64291C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E19894E-6EF1-4DEE-8EF3-227EAD50FD31}"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FFAC233-8E3C-4A00-B053-C1ED93C7BDFA}"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0E908A7-2BA8-4003-ABA8-97FE939A6BF9}"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A3C00D2-F910-4EB5-8A38-D182ABE13123}"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C1E5065-6DEB-4CFD-8862-872C0C5C93C8}"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C8A613C-8132-4F6F-BA2A-1A63FBD49211}"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B2665C7-4423-439E-A613-AD8DA74F2606}"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FC5AD864-ECBE-41CF-B837-4B02176E2511}"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EA57DC8-A4DC-4FA1-A9ED-274A575C78F5}"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875D373-EB1A-4291-B141-7AF9427D9A1E}"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43EAE22-57ED-46CC-A85D-A577CD4BCA1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D8369B3-912F-4BFD-9AA2-988772CCD7EF}"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2E06F76-2389-4249-ADC8-9A40D8A56F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756E4C2-20CD-48D4-A797-86EB4E2A0F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6A4EA7-A634-428E-BA1A-A806FF3C3BC5}"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E43799-B9BF-4447-82E8-FCBF954EF0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0516E5A-06DB-4885-88F3-E01AFB4A32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3D242CB-AEC5-41D9-B797-B5A83EC13F3F}"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25D2359-BF4B-4182-8880-22997F62C5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32D715D-4411-4B4C-B395-4DB5DBF24F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BB2BC09-6E36-4DA8-83F6-7CDDCDC4B8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C4BABF5-414A-41D0-A1EA-F2E764FE21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877570-F1FC-449F-AE5F-54EC7B6DC27D}"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01306CA-11B3-4557-B89F-B608C360BF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8FDC933-23DF-4AB5-BCD0-937104C072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560D21E-0E97-4740-87B7-EA3593D84E9E}"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2A8FE69-3E97-45F1-89DF-3BE7CF523B5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A8118D6-7150-4397-A651-4762896657A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D522464-E678-46B3-9E38-4B67153CAFE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99384F4-A86D-4E70-A676-E12FFCCDB23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C921981-DD45-4127-92BC-F74053B8797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171F312-F658-4244-A058-579EDF9B20D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D71BDC5-30B9-430D-94D4-8C506F949E1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1889995-52A2-4FCD-8B3D-4B34209D42E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0C10C0B-98BF-4497-84C2-4B367E22572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98C3B73-4588-4459-92DB-EBBEAA84B6D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29889BC-CC68-42AB-94F1-C4FE6620BAA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56C288A-0901-48D9-B61D-5C3B135AAF34}"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8104002-323E-45EE-9260-377874C6162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3A72615-3B3C-4B31-9B31-083E90BA300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17B0F8F-242D-483D-AECC-25F4A1DFB91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20E8C49-3CAD-419D-8B7B-0F4172A79485}"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C25FB6-F9A7-4969-B5B1-E959202FE00D}"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83F5795-7B2F-4811-BE03-2372B76FEEB7}"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180D938-3D41-42A8-80D2-59B08B6B6E83}"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8BC0EC3-1CF1-4404-9D62-9F9E336681D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266FE3B-1B6C-4F3D-B656-ED30E4DCEBA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DDEBC3-D7A1-406C-9097-ECF77E18A5E9}"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DEB3323-9BAD-438A-96EF-0646AB9213D7}"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CF2A2F2-B321-4709-96BD-8C9DE92626A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B584FE3-1E09-4AA1-8E5A-5E4446F7C2F6}"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AF7834E-233F-4917-AF27-AE40537908FB}"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E56D4F9-C526-4BF3-AE95-F1E805E8ADFA}"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74371C0-0D02-468C-BD60-CC5410BD6BF2}"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0941FF3-7FE6-4B4E-9D1F-13FE75FC6DF6}"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2334CF3-D7C5-4268-BF2C-B36242E22F4D}"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29804FA-72F7-48C7-A6C2-C6D904CE9CA4}"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7813663-2731-4123-B796-5F1CD8C5AF60}"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4C12AF3-D146-4807-8236-D012A2524F2F}"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A349943-C9B9-4C3B-B71B-99FEDD4589FE}"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ED393D9-431C-4A89-93FE-FF92D72F0850}"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305D946-7DA5-4726-AE4F-F3F25058EB93}"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53E9D40-A569-4C50-AAA8-80EBF6D2CFE1}"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5A2BE5F-21F1-4E1A-92B6-EB9C59B886E1}"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ED7F925-CEB3-4C8E-8392-01A334C5E510}"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F0F0E86-B3A8-4503-89D0-15C5E9F1BC86}"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6898205-4D92-4C7A-980C-724120E3FBFE}"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F3ED6CB-92E0-4E04-8EC8-EBA65C82B5F4}"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8CCAEA8-4847-4B22-BCE4-8F3D0D9B7BE0}"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7F4C9A5-7CDE-4269-8C0A-E28CAE3BB06C}"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7BFA24-8993-4EC9-AA39-0F926D4432F9}"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5487CAE-B655-4E08-9791-B7EDB32EF46E}"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3C12CC8-B654-451A-A0E8-FE944709A1F1}"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FA6DBBB-93CB-4D22-AD9D-CE34945E952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1D1C51F-55FC-485B-9C9C-7D023DD00DA2}"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627149B-B599-4C4E-96B2-83CFE56B9C5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DB73500-D0D1-4809-A306-1600DBB0ECFE}"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A4E7EC1-50B6-4AB4-8E61-BE4D435E1B6F}"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D2CFCF1-A3EB-4F13-BA9A-1CBDEF32B88A}"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54C20BB-8098-4E25-8113-D331A11344FA}"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C658867-4893-48B6-8F23-B3ADA026C5D3}"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B07C66-4262-41A1-9C9C-D7469B3667F6}"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E54FC56-7772-457A-9D9C-BEF72768412B}"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A3CFA35-BBE7-442E-9BE4-BD7A4CE8D831}"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84984DC-EA9B-462C-B617-5767EA25A18D}"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2004309-E1A7-41AF-8B31-C7B7796BA6B8}"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55C46C3-803A-49A2-A527-09A8FE332940}"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A19CE6B-029E-4635-8AED-351AFA664A11}"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89E5F14-360B-42A7-85B8-09D595889679}"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D061E9E-902A-4EF4-AC88-1F87DAC16854}"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5726966-4EBD-45AA-8A64-7AC9ED40DBD9}"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37E87E2-7095-4656-9C31-E140DD98996C}"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C798638-E82B-4F4C-B3D5-61C6E375E1D3}"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BFEE8BF2-22E5-479F-BDDC-E4DE30128E74}"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F86B09-A1C5-4837-9E14-86EADB730BC8}"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43CBC65-82D8-43AC-B8F4-47CD6F797F86}"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052AA1F-62B7-448F-BB9D-CF88BC598F7B}"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AC57359-09E4-40EC-9322-1EA6D021C8B4}"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3722D16-BC10-439D-97B5-1C11CDCEE402}"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4B07216-9614-43A1-B699-8E6ACA0BB869}"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62EAB1E-8EE8-4CA5-91E7-38597E75BFE9}"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542E4B8-075F-40F3-BD1A-5AE0E4745CA3}"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603F1BB-4FF2-4EBB-A9F7-7B63CA512A51}"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F2DF957-FA51-4385-B249-E2DC7CB06CAB}"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CA827F8-A538-40F7-94DB-8CA65F1F6716}"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911AA0C-7FE7-45AD-AABB-50CD4A6231C3}"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CC8251E-3A08-4ABA-954D-DACA2409893A}"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