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C35D1-A0F2-41B1-AA5B-3082CFAEAA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7B611-9459-4A90-A6D9-EBE83433567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34C7C5-5606-41E9-AF8D-C075CB04216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324948-3552-45CF-8C40-CCEB2F41971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50C8A2-A290-4A68-B5BB-914A9D7F80C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B6D651-2882-452E-88CB-F868969E68A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5D8AA9-6B69-4D81-8ED4-32717C7E54D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9036EC-8733-45BC-96A4-52BC8ECB192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15E004-E4BC-41AB-969C-17F00494BE5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8ED44D-78F4-42B6-B930-7D5EDBFD142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869E58-0271-42ED-A500-E8DBBDB5B74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6C60AD-3C17-45CE-9E79-5B48434328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AC9A6-D7F0-4A9B-9D20-DF7F602F48C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3F5E5B-019B-480F-8951-7BC2C76F0AA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5A862A-AA61-4502-BB3C-51CA17006DD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CB4640-4893-4187-8085-D29ACB33A1D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07D704-7426-4C5A-B230-975BE279D1A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001925-0ED5-4926-A4E7-940A5AD1D06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A68523-575A-49FE-9626-D9F0F2CBB30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E9B6A9-379D-4970-B9B8-B1662EE26A9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AC34D9-43FE-4377-8DFF-E51EC3B3D89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8A9903-F2A6-4B81-9023-13C26504A51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BF4BBD-A5A4-4D0A-A75C-9D815A0A54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8643E-2806-41D4-934F-63A4DDF9205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5E277D-5CDD-4833-849B-714A7DBE242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7ECD0-ED3C-4298-AAB0-EA0FD4F3A69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C816F-543E-44AB-B764-8D553B1585E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7641A-C43D-4B53-859B-0B3EA4691D2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350CF-2EBD-41D8-BED8-9ABA0587BAF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77799-2ED3-430B-A8A0-60859D8D555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9208F-B23E-4BE3-8F80-5E70B433132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1232A-AD1A-4F89-9228-C6F737BC8A1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4D037-5B63-4618-AF5F-4C1A9EEA3CD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4A1E4-F032-4575-8BE2-EC18B0EBEE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A85C0-F5CB-44EF-9478-0139EFED7C0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622E2-A8E3-4F16-97FB-435118E4317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DD615-D20B-4DF6-B48A-5ADE60FCADD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D7F72-EE2C-49A2-A7FE-0DE78688409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ECA3E2-9F9A-4E19-B873-F7C0FF3EC79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ACDB7F-56F4-4889-BCA1-0DD1A665CFC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E494E7-581E-4976-9B51-C7C75820113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AF8DFA-58A3-46B3-B2FE-7655CC9DEE2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0FDCEB-94D4-4A25-B35A-72F80CAB307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200697-84BE-4978-8554-74E1AE63CDC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CB15E1-D56D-4D61-A45E-D0F6B126BC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9283F7-5885-4FA0-A1C9-26BA2D48392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8212D7-1576-4E83-BFE5-AFB644B328E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B3EE1B-7ABC-44A4-B403-A572D948C11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46D87A-D4C7-4D2E-A7F0-4EFA61C5D13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D8E986-3AC3-467E-96B0-E55FC5E650F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BEBAF2-F485-4BBF-9CEB-841382BE827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36252B3-379B-4F7A-A7CB-A2F7DFE0A51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13836C-01FB-496B-B6DE-6858E1D1CC8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C2B670-A31C-4ABE-B517-0653448646D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917C5C-B75C-4DA8-9873-C9EEF2EEF30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2C22C4-8ABE-4681-A1B2-FD163D0B06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6A6251-6BD8-49C6-B07F-1938ABA5779D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0A9303-9F60-498E-B60E-C5C7FDC0A72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518E3B-8F9A-4286-A39F-53DBB6662B5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75321B-E141-4F28-A7E3-BDB51714B08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6390ED-8C04-4C3D-9091-904660D16F2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F3D1A8-CF4B-454F-B4F8-177D3225418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BE7411-DD2D-4093-978D-35ECDEFA710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B7602F-9AF3-4E23-99D7-B7058FECC5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63A34A-62C9-427F-82D4-68262FD6A4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9EC579-05F0-4BF6-8951-FC91131598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48E7D-EDDB-4A5C-B218-0AC143A868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303452-3BE5-4780-9D3D-846132207E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E0D32-EDC3-4CB1-A814-2BD85D60B8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F9F63B-8BDD-4778-A87B-14CC926891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CDDFC-9359-447C-B267-0F6BBB8458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BB3F0F-7781-41BC-9165-06F55788BA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27FFF-E416-4EEF-8E4C-C1824E2015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9017F1-5910-4D2C-95D7-E1B2D92AF5D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9B14-0512-478C-8132-B8DFE34BC86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01CE-230E-4242-94B7-4B3B7026F73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3279-D861-475B-AFD5-8AC0EF93A2D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DB9FF-743D-4F4A-A411-E3000371F7B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A1D8-51B9-402E-AE01-DBB36E8FBC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21C4F-A3B6-48AD-9E12-0B41536951D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C9422-611D-47CB-9962-BFF5E0A27B3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FEBC2-AA34-4986-9123-191DE91D146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F445-DCBD-400B-A567-41D8B7E357D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4529-086E-4FC8-BA6D-6720BC700EE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D35D-A28A-4B9A-8A29-87544C51702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2AC19-6F67-4F17-A7A0-238D9F06B99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BBA3-4E15-43D4-9D25-83901EAF462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C9B01A-431B-4377-8179-4A7D42DFF3D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1A6AC5-6DBA-47A0-86D8-46E77D6DF57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F98DAF-750C-46AB-9200-B15975D8B4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9077E-7968-4C87-97FB-3B0BEBF14F1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E3C558-E465-49D5-B057-954A36DEA60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CBED0E-E03A-4528-BB4D-D9461D48496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37C63D-3B2C-4A0A-9D33-7CF47E7E5CB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5B9D69-60C3-4158-9DA6-BE5A5290076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157522-41D5-469C-8538-82099016A23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9EF8C6-DEC6-4E5F-8D7D-B38823DABB7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1B2A97-267C-47C2-90B5-D97867D8A2E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85579A-BE3D-434F-972D-8DF939E9CC8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8B5C16-5F82-47EB-96B0-7CE45D2F478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87D2A-9CCD-48E6-BAFC-FF9FA5D8DB6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6EA21-75D6-4877-A384-D29E86C30C7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36915-00C7-4942-B486-398EBB2A403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9AFA1D-754B-4ADA-A612-BF1AA4E418C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33853C-8C31-4DD4-B316-55D5036D7CB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5F0E34-276C-41EA-974F-E8BDC9D08DE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63FB8C-603A-4A84-B575-1900E521B25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52E079-7255-4EC6-A6EF-7CA6B8D901E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C435AC-D994-4DE2-92CB-1BDEB400CB1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4A9740-8CB4-4AEF-A2E2-D92D94D1F5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E7948-F5D7-48B9-9350-E40591385C1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61C128-F32D-43F9-8E14-AED1E783D26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53EFEB-5784-4B72-8FEF-64FFA8DDBF8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064231-F53C-4E84-841C-DB1D7E67869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BC4093-99F2-4FF7-881B-99E7A0CF70A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BBB4B2-B51A-430E-9FEF-2D1FED33847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74E39-5619-4E64-A1DC-D035AC5D589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847BA-26E6-474C-B21C-A5B47DE3BE1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5B653-973B-4483-91B0-A1BE1228F87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7B5FC-A8E3-48E2-A020-641ABF0AE7E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89026-BA27-499E-9594-C1A3DC2302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69093-3179-48A5-98FA-CEC2BB26614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626D0-88A7-4A09-9885-A32FF488081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C5244-34F9-4375-A714-918B28BD58B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F624E-3D2E-4931-819F-08D1C732CA9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77861-D545-44F3-A099-078E72EDDB5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56D4D-6DCA-4E6D-83B5-C5C29E9AB3A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54D04-622D-495E-A2F7-C2DD6A1A536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A5327-4943-4648-8B2C-8FD3F2F8C82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4D8400-D351-48DE-9C95-A7067072916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DF28FA-FA9C-4384-A1D9-5896D15C3D7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C51305-4ED1-4DDA-AD19-CD84EE8BFE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BKG-12x-Rul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0"/>
          <p:cNvGrpSpPr/>
          <p:nvPr/>
        </p:nvGrpSpPr>
        <p:grpSpPr>
          <a:xfrm>
            <a:off x="5648400" y="6510240"/>
            <a:ext cx="2419200" cy="323640"/>
            <a:chOff x="5648400" y="6510240"/>
            <a:chExt cx="2419200" cy="323640"/>
          </a:xfrm>
        </p:grpSpPr>
        <p:sp>
          <p:nvSpPr>
            <p:cNvPr id="2" name="Text Box 24"/>
            <p:cNvSpPr/>
            <p:nvPr/>
          </p:nvSpPr>
          <p:spPr>
            <a:xfrm>
              <a:off x="5648400" y="6510240"/>
              <a:ext cx="2419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33"/>
                  </a:solidFill>
                  <a:latin typeface="Tahoma"/>
                </a:rPr>
                <a:t>© 2010 Mentor Graphics Corp. Company Confidential</a:t>
              </a:r>
              <a:endParaRPr b="0" lang="en-US" sz="7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3" name="Text Box 22"/>
            <p:cNvSpPr/>
            <p:nvPr/>
          </p:nvSpPr>
          <p:spPr>
            <a:xfrm>
              <a:off x="5653080" y="6619680"/>
              <a:ext cx="14479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286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33"/>
                  </a:solidFill>
                  <a:latin typeface="Tahoma"/>
                </a:rPr>
                <a:t>www.mentor.com</a:t>
              </a:r>
              <a:endParaRPr b="0" lang="en-US" sz="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8442-9777-491C-BA3D-05E24999EFA3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D9E0-8F69-4824-9F5F-1CD4D7DDFC3B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7"/>
          </p:nvPr>
        </p:nvSpPr>
        <p:spPr>
          <a:xfrm>
            <a:off x="41904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1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0126-FD3D-4546-BA5F-28FBC9214AF0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1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D8AF-0552-4097-BB33-762DC93448B5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196D-0F03-4FE0-9E8B-1932AC44CBAE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-360" y="6629040"/>
            <a:ext cx="384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773C-7AF6-46BB-8F48-221B046449C2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0928-6180-4A3D-9909-126A879FFA6A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05D5-55D9-4665-88AE-49F3E048A2A2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C:\Documents and Settings\lseigneu\Desktop\PPT MAIN DEV\TESTING FILE SIZES\SET PS bkgs in PP saved as JPGs then used for template\A\_B AS POSTED w C bkgs dropped in\Slide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Documents and Settings\lseigneu\Desktop\PPT MAIN DEV\TESTING FILE SIZES\SET PS bkgs in PP saved as JPGs then used for template\A\_B AS POSTED w C bkgs dropped in\Slide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0891-E425-4348-9D2F-73A842A000FF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C:\Documents and Settings\lseigneu\Desktop\template 032110 home\lite clos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Your Initials, Presentation Title, Month Yea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927E-86C9-4303-AC3C-F2FBCBFCC4AB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ftr" idx="1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14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E066-1C99-4679-9833-5E0171598F50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nhanced Tcl/Tk Widgets for EDA Applications</a:t>
            </a:r>
            <a:br>
              <a:rPr sz="3200"/>
            </a:br>
            <a:br>
              <a:rPr sz="32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 Bansal, Roshni Lalwani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_bansal@mentor.com, roshni_lalwani@mentor.com </a:t>
            </a:r>
            <a:endParaRPr b="1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5" name="TextBox 3"/>
          <p:cNvSpPr/>
          <p:nvPr/>
        </p:nvSpPr>
        <p:spPr>
          <a:xfrm>
            <a:off x="3774240" y="5464080"/>
            <a:ext cx="428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Gaurav Bansal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17'th Annual </a:t>
            </a:r>
            <a:r>
              <a:rPr b="1" i="1" lang="en-IN" sz="1600" spc="-1" strike="noStrike">
                <a:solidFill>
                  <a:srgbClr val="ffffff"/>
                </a:solidFill>
                <a:latin typeface="Tahoma"/>
              </a:rPr>
              <a:t>Tcl/Tk</a:t>
            </a: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 Conference (Tcl'2010)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October 11 - October 15, 2010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1268280" y="2354400"/>
            <a:ext cx="6337440" cy="1842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0" name=""/>
          <p:cNvSpPr/>
          <p:nvPr/>
        </p:nvSpPr>
        <p:spPr>
          <a:xfrm>
            <a:off x="1308240" y="1816200"/>
            <a:ext cx="6337080" cy="2682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1308240" y="2084400"/>
            <a:ext cx="6297480" cy="27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89" name=""/>
          <p:cNvCxnSpPr>
            <a:stCxn id="585" idx="2"/>
            <a:endCxn id="58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99" name=""/>
          <p:cNvCxnSpPr>
            <a:stCxn id="594" idx="2"/>
            <a:endCxn id="59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00" name=""/>
          <p:cNvCxnSpPr>
            <a:stCxn id="595" idx="2"/>
            <a:endCxn id="59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10" name=""/>
          <p:cNvCxnSpPr>
            <a:stCxn id="605" idx="2"/>
            <a:endCxn id="60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11" name=""/>
          <p:cNvCxnSpPr>
            <a:stCxn id="606" idx="2"/>
            <a:endCxn id="609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12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23" name=""/>
          <p:cNvCxnSpPr>
            <a:endCxn id="621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24" name=""/>
          <p:cNvCxnSpPr>
            <a:endCxn id="622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36" name=""/>
          <p:cNvCxnSpPr>
            <a:stCxn id="628" idx="2"/>
            <a:endCxn id="63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37" name=""/>
          <p:cNvCxnSpPr>
            <a:stCxn id="629" idx="2"/>
            <a:endCxn id="63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3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4" name=""/>
          <p:cNvCxnSpPr>
            <a:stCxn id="656" idx="2"/>
            <a:endCxn id="66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65" name=""/>
          <p:cNvCxnSpPr>
            <a:stCxn id="657" idx="2"/>
            <a:endCxn id="66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7" name=""/>
          <p:cNvCxnSpPr>
            <a:stCxn id="660" idx="2"/>
            <a:endCxn id="66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4" name=""/>
          <p:cNvCxnSpPr>
            <a:stCxn id="686" idx="2"/>
            <a:endCxn id="69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5" name=""/>
          <p:cNvCxnSpPr>
            <a:stCxn id="687" idx="2"/>
            <a:endCxn id="69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9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8" name=""/>
          <p:cNvCxnSpPr>
            <a:stCxn id="690" idx="2"/>
            <a:endCxn id="69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9" name=""/>
          <p:cNvCxnSpPr>
            <a:stCxn id="691" idx="2"/>
            <a:endCxn id="697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00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26" name=""/>
          <p:cNvCxnSpPr>
            <a:stCxn id="718" idx="2"/>
            <a:endCxn id="72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27" name=""/>
          <p:cNvCxnSpPr>
            <a:stCxn id="719" idx="2"/>
            <a:endCxn id="72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28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30" name=""/>
          <p:cNvCxnSpPr>
            <a:stCxn id="722" idx="2"/>
            <a:endCxn id="728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31" name=""/>
          <p:cNvCxnSpPr>
            <a:stCxn id="723" idx="2"/>
            <a:endCxn id="729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32" name=""/>
          <p:cNvSpPr/>
          <p:nvPr/>
        </p:nvSpPr>
        <p:spPr>
          <a:xfrm rot="16200000">
            <a:off x="5957640" y="3566520"/>
            <a:ext cx="304920" cy="3990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4040 h 3990960"/>
              <a:gd name="textAreaBottom" fmla="*/ 3886920 h 399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508788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7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8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9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4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7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51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3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5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6" name=""/>
          <p:cNvSpPr/>
          <p:nvPr/>
        </p:nvSpPr>
        <p:spPr>
          <a:xfrm>
            <a:off x="7772400" y="2971800"/>
            <a:ext cx="9144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35 {}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1" name=""/>
          <p:cNvCxnSpPr>
            <a:stCxn id="752" idx="2"/>
            <a:endCxn id="75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2" name=""/>
          <p:cNvCxnSpPr>
            <a:stCxn id="753" idx="2"/>
            <a:endCxn id="75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3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4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5" name=""/>
          <p:cNvCxnSpPr>
            <a:stCxn id="757" idx="2"/>
            <a:endCxn id="763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6" name=""/>
          <p:cNvCxnSpPr>
            <a:stCxn id="758" idx="2"/>
            <a:endCxn id="764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7" name=""/>
          <p:cNvSpPr/>
          <p:nvPr/>
        </p:nvSpPr>
        <p:spPr>
          <a:xfrm rot="16200000">
            <a:off x="6286320" y="3237840"/>
            <a:ext cx="304920" cy="4648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8" name=""/>
          <p:cNvSpPr/>
          <p:nvPr/>
        </p:nvSpPr>
        <p:spPr>
          <a:xfrm>
            <a:off x="543240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9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1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3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5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7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9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0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1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3" name=""/>
          <p:cNvSpPr/>
          <p:nvPr/>
        </p:nvSpPr>
        <p:spPr>
          <a:xfrm>
            <a:off x="8077320" y="3886200"/>
            <a:ext cx="609480" cy="30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4" name=""/>
          <p:cNvSpPr/>
          <p:nvPr/>
        </p:nvSpPr>
        <p:spPr>
          <a:xfrm>
            <a:off x="8153280" y="4572000"/>
            <a:ext cx="60984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7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154080" y="1469880"/>
            <a:ext cx="92962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Changes like addition/deletion of a column does not require any iterations by the widget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Display data is provided by the application - takes fraction of a second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2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7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2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3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4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8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9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0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1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5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6" name=""/>
          <p:cNvSpPr/>
          <p:nvPr/>
        </p:nvSpPr>
        <p:spPr>
          <a:xfrm>
            <a:off x="2651040" y="41860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0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1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2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3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7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8" name=""/>
          <p:cNvSpPr/>
          <p:nvPr/>
        </p:nvSpPr>
        <p:spPr>
          <a:xfrm>
            <a:off x="1192320" y="4927680"/>
            <a:ext cx="7951680" cy="1919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4927680"/>
            <a:ext cx="1192320" cy="1930320"/>
          </a:xfrm>
          <a:prstGeom prst="rect">
            <a:avLst/>
          </a:prstGeom>
          <a:noFill/>
          <a:ln w="2844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4159080"/>
            <a:ext cx="9144000" cy="806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sign and Wave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5532480" y="2200320"/>
            <a:ext cx="2495520" cy="257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5494320" y="4773600"/>
            <a:ext cx="2573280" cy="20844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5494320" y="1316160"/>
            <a:ext cx="257328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2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6" name=""/>
          <p:cNvSpPr/>
          <p:nvPr/>
        </p:nvSpPr>
        <p:spPr>
          <a:xfrm>
            <a:off x="4721400" y="1662120"/>
            <a:ext cx="1041120" cy="3111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7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9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o we create a hash table for item-&gt;name and item pointer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721400" y="1662120"/>
            <a:ext cx="2692080" cy="3111480"/>
            <a:chOff x="4721400" y="1662120"/>
            <a:chExt cx="2692080" cy="3111480"/>
          </a:xfrm>
        </p:grpSpPr>
        <p:sp>
          <p:nvSpPr>
            <p:cNvPr id="872" name=""/>
            <p:cNvSpPr/>
            <p:nvPr/>
          </p:nvSpPr>
          <p:spPr>
            <a:xfrm>
              <a:off x="4721400" y="1662120"/>
              <a:ext cx="2692080" cy="31114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 -&gt;name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53360" y="1662120"/>
              <a:ext cx="0" cy="230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726080" y="200808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726080" y="22766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726080" y="36590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76200" y="2392200"/>
            <a:ext cx="8458200" cy="3463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938160" y="328464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tegories and sub-categories should be displayed as in-place expandable/collapsible column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938160" y="3236760"/>
            <a:ext cx="5477040" cy="233388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3035160" y="4235400"/>
            <a:ext cx="5486400" cy="23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andable/ collapsible we need to provide a clickable icon 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bug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5532480" y="4811760"/>
            <a:ext cx="2495520" cy="2035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5494320" y="1316160"/>
            <a:ext cx="2573280" cy="34574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4764240" y="2738520"/>
            <a:ext cx="1766880" cy="191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5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376200" y="304488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7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43880" cy="36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4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7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1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2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olumn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6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7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8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9" name=""/>
          <p:cNvSpPr/>
          <p:nvPr/>
        </p:nvSpPr>
        <p:spPr>
          <a:xfrm>
            <a:off x="115416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0" name=""/>
          <p:cNvSpPr/>
          <p:nvPr/>
        </p:nvSpPr>
        <p:spPr>
          <a:xfrm>
            <a:off x="280512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1" name=""/>
          <p:cNvSpPr/>
          <p:nvPr/>
        </p:nvSpPr>
        <p:spPr>
          <a:xfrm>
            <a:off x="4456080" y="2468520"/>
            <a:ext cx="157500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2" name=""/>
          <p:cNvSpPr/>
          <p:nvPr/>
        </p:nvSpPr>
        <p:spPr>
          <a:xfrm>
            <a:off x="610884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4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6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 two canvases and grid them inside the clipper as column 0 and column 1 of row 0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0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1" name=""/>
          <p:cNvSpPr/>
          <p:nvPr/>
        </p:nvSpPr>
        <p:spPr>
          <a:xfrm>
            <a:off x="2882880" y="3390840"/>
            <a:ext cx="506736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2" name=""/>
          <p:cNvSpPr/>
          <p:nvPr/>
        </p:nvSpPr>
        <p:spPr>
          <a:xfrm>
            <a:off x="2960640" y="341640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3" name=""/>
          <p:cNvSpPr/>
          <p:nvPr/>
        </p:nvSpPr>
        <p:spPr>
          <a:xfrm>
            <a:off x="4611600" y="341784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4" name=""/>
          <p:cNvSpPr/>
          <p:nvPr/>
        </p:nvSpPr>
        <p:spPr>
          <a:xfrm>
            <a:off x="6264360" y="341784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5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6" name=""/>
          <p:cNvSpPr/>
          <p:nvPr/>
        </p:nvSpPr>
        <p:spPr>
          <a:xfrm>
            <a:off x="847800" y="3398760"/>
            <a:ext cx="172872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7" name=""/>
          <p:cNvSpPr/>
          <p:nvPr/>
        </p:nvSpPr>
        <p:spPr>
          <a:xfrm>
            <a:off x="925560" y="342432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1"/>
          <a:stretch/>
        </p:blipFill>
        <p:spPr>
          <a:xfrm>
            <a:off x="771480" y="6513480"/>
            <a:ext cx="1959120" cy="19692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2690640" y="6519960"/>
            <a:ext cx="5337360" cy="19692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st scrollbar alters the xview of the column 0 such that it scrolls the instance names of the tree column and not the column itself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nd scrollbar alters the xview of the 2nd canvas so that the rest of the columns scroll past the tree column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Browser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154160" y="2238480"/>
            <a:ext cx="4340160" cy="2496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154160" y="4735440"/>
            <a:ext cx="4340160" cy="21225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1154160" y="1316160"/>
            <a:ext cx="434016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380880" y="3916440"/>
            <a:ext cx="8458200" cy="14335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 Highlighting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xt highlighting helps to point out the issues easily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link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t to the relevant file or information in other windows of the tool to debug the issues very quickly. 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925040" cy="479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5724360" y="4197240"/>
            <a:ext cx="9208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9" name=""/>
          <p:cNvSpPr/>
          <p:nvPr/>
        </p:nvSpPr>
        <p:spPr>
          <a:xfrm>
            <a:off x="6821640" y="6002280"/>
            <a:ext cx="1974600" cy="365040"/>
          </a:xfrm>
          <a:prstGeom prst="flowChartTerminator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Exit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0" name=""/>
          <p:cNvSpPr/>
          <p:nvPr/>
        </p:nvSpPr>
        <p:spPr>
          <a:xfrm>
            <a:off x="3471840" y="5286240"/>
            <a:ext cx="5238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1" name=""/>
          <p:cNvSpPr/>
          <p:nvPr/>
        </p:nvSpPr>
        <p:spPr>
          <a:xfrm>
            <a:off x="1844640" y="1432080"/>
            <a:ext cx="4095720" cy="68580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Load file in to the text widget (read &amp; write in chuck size =256k)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2" name=""/>
          <p:cNvSpPr/>
          <p:nvPr/>
        </p:nvSpPr>
        <p:spPr>
          <a:xfrm>
            <a:off x="1576440" y="2557440"/>
            <a:ext cx="4646520" cy="70344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Calculate the boundary of visible area of text widget. 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Start line = B1 and last line = B2.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3" name=""/>
          <p:cNvSpPr/>
          <p:nvPr/>
        </p:nvSpPr>
        <p:spPr>
          <a:xfrm>
            <a:off x="1536840" y="5848200"/>
            <a:ext cx="4762440" cy="69228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Highlight the lines as per their category an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Parse each word and mark it as hyperlink if the word is filename or instance name or DRC i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4" name=""/>
          <p:cNvSpPr/>
          <p:nvPr/>
        </p:nvSpPr>
        <p:spPr>
          <a:xfrm>
            <a:off x="2228760" y="3746520"/>
            <a:ext cx="3341880" cy="1487520"/>
          </a:xfrm>
          <a:prstGeom prst="flowChartDecision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If the text between (B1, B2) has already been parse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965" name=""/>
          <p:cNvCxnSpPr>
            <a:stCxn id="961" idx="2"/>
            <a:endCxn id="962" idx="0"/>
          </p:cNvCxnSpPr>
          <p:nvPr/>
        </p:nvCxnSpPr>
        <p:spPr>
          <a:xfrm>
            <a:off x="3892680" y="2117520"/>
            <a:ext cx="8640" cy="4402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6" name=""/>
          <p:cNvCxnSpPr>
            <a:stCxn id="962" idx="2"/>
            <a:endCxn id="964" idx="0"/>
          </p:cNvCxnSpPr>
          <p:nvPr/>
        </p:nvCxnSpPr>
        <p:spPr>
          <a:xfrm flipV="1" rot="10800000">
            <a:off x="3899880" y="3260520"/>
            <a:ext cx="1080" cy="4863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7" name=""/>
          <p:cNvCxnSpPr>
            <a:stCxn id="964" idx="2"/>
            <a:endCxn id="963" idx="0"/>
          </p:cNvCxnSpPr>
          <p:nvPr/>
        </p:nvCxnSpPr>
        <p:spPr>
          <a:xfrm>
            <a:off x="3900600" y="5234040"/>
            <a:ext cx="18000" cy="61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8" name=""/>
          <p:cNvCxnSpPr>
            <a:stCxn id="963" idx="3"/>
            <a:endCxn id="959" idx="1"/>
          </p:cNvCxnSpPr>
          <p:nvPr/>
        </p:nvCxnSpPr>
        <p:spPr>
          <a:xfrm flipV="1">
            <a:off x="6298920" y="6184080"/>
            <a:ext cx="523080" cy="10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9" name=""/>
          <p:cNvCxnSpPr>
            <a:stCxn id="964" idx="3"/>
            <a:endCxn id="959" idx="0"/>
          </p:cNvCxnSpPr>
          <p:nvPr/>
        </p:nvCxnSpPr>
        <p:spPr>
          <a:xfrm>
            <a:off x="5570280" y="4491000"/>
            <a:ext cx="2238840" cy="15120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 – Incremental Pars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2832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ank you.</a:t>
            </a:r>
            <a:endParaRPr b="1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72" name="Slide Number Placeholder 2"/>
          <p:cNvSpPr/>
          <p:nvPr/>
        </p:nvSpPr>
        <p:spPr>
          <a:xfrm>
            <a:off x="0" y="662616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E95D-4BFA-4C0F-B0AA-492745298A56}" type="slidenum">
              <a:rPr b="0" lang="en-US" sz="8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Transcript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154160" y="4735440"/>
            <a:ext cx="4340160" cy="211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1154160" y="1355760"/>
            <a:ext cx="4340160" cy="337968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1154160" y="4965840"/>
            <a:ext cx="4340160" cy="1689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1154160" y="1355760"/>
            <a:ext cx="4340160" cy="88272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1154160" y="2392200"/>
            <a:ext cx="4340160" cy="211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347760" y="1201680"/>
            <a:ext cx="2457360" cy="614520"/>
          </a:xfrm>
          <a:prstGeom prst="ellipse">
            <a:avLst/>
          </a:prstGeom>
          <a:solidFill>
            <a:srgbClr val="33cccc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tiHierarchy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5992920" y="4735440"/>
            <a:ext cx="150012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Text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63" name=""/>
          <p:cNvCxnSpPr>
            <a:stCxn id="561" idx="4"/>
            <a:endCxn id="560" idx="0"/>
          </p:cNvCxnSpPr>
          <p:nvPr/>
        </p:nvCxnSpPr>
        <p:spPr>
          <a:xfrm flipH="1" rot="16200000">
            <a:off x="2172240" y="1226880"/>
            <a:ext cx="554760" cy="1748520"/>
          </a:xfrm>
          <a:prstGeom prst="bentConnector3">
            <a:avLst>
              <a:gd name="adj1" fmla="val 50389"/>
            </a:avLst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4"/>
            <a:endCxn id="557" idx="3"/>
          </p:cNvCxnSpPr>
          <p:nvPr/>
        </p:nvCxnSpPr>
        <p:spPr>
          <a:xfrm rot="5400000">
            <a:off x="5899320" y="4966200"/>
            <a:ext cx="453240" cy="12358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76200" y="181620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9:50:02Z</dcterms:created>
  <dc:creator>Prashant Thakre</dc:creator>
  <dc:description/>
  <dc:language>en-US</dc:language>
  <cp:lastModifiedBy>gbansal</cp:lastModifiedBy>
  <dcterms:modified xsi:type="dcterms:W3CDTF">2010-10-15T00:34:53Z</dcterms:modified>
  <cp:revision>1315</cp:revision>
  <dc:subject/>
  <dc:title>Slide 1</dc:title>
</cp:coreProperties>
</file>