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428840"/>
            <a:ext cx="9132840" cy="152280"/>
            <a:chOff x="0" y="1428840"/>
            <a:chExt cx="9132840" cy="152280"/>
          </a:xfrm>
        </p:grpSpPr>
        <p:sp>
          <p:nvSpPr>
            <p:cNvPr id="1" name=""/>
            <p:cNvSpPr/>
            <p:nvPr/>
          </p:nvSpPr>
          <p:spPr>
            <a:xfrm>
              <a:off x="0" y="1428840"/>
              <a:ext cx="9132840" cy="7452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50000">
                  <a:srgbClr val="000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4296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975f80"/>
                </a:gs>
                <a:gs pos="50000">
                  <a:srgbClr val="d989b8"/>
                </a:gs>
                <a:gs pos="100000">
                  <a:srgbClr val="975f80"/>
                </a:gs>
              </a:gsLst>
              <a:lin ang="0"/>
            </a:gradFill>
            <a:ln w="0">
              <a:noFill/>
            </a:ln>
          </p:spPr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"/>
          <p:cNvSpPr txBox="1"/>
          <p:nvPr/>
        </p:nvSpPr>
        <p:spPr>
          <a:xfrm>
            <a:off x="4430880" y="6485040"/>
            <a:ext cx="282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fld id="{DF93161C-495E-4E74-A126-861A10415874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 txBox="1"/>
          <p:nvPr/>
        </p:nvSpPr>
        <p:spPr>
          <a:xfrm>
            <a:off x="8670960" y="6485040"/>
            <a:ext cx="38268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fld id="{6F5CEFA8-3985-4907-8EC2-CF8D50C4108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Backup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ngle Backup Coordina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mpletes each phase before moving 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ages entire backup to local d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wo lev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ul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ncrem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o more than 2GB per nigh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p to 11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50 minutes clo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.5 hours remote dump (200K/s) (pma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4 hours writing to tape (160K/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380K/s remote dump P6-&gt;P6, old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~800K/s FTP P6-&gt;P6, new ether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urrent Probl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taging area fills 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2GB/night li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ifficult to restore from tap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urrent speeds and size will not sc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ancient version of ‘tar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oda In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Better support for incremental back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lists of backed up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New Backup System 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xternal Suppor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ouble buffer “staging”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mpose structure on volu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intain data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le 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backups are avail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ich tapes are nee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nticipated Size and Spe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16 - 20 GB on full back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DAT drive, claims 1 - 2 M/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 Ethern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urrent speed of ~800K/s -&gt; ~6 hour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609480" y="228600"/>
            <a:ext cx="7848720" cy="152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Dis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iled backups will not be in staging area... ...But are resta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New tape form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AT Vs Exa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df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09480" y="22860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Book Antiqua"/>
                <a:ea typeface="Book Antiqua"/>
              </a:rPr>
              <a:t>Advantages of New Syste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094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F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utomated rest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afd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Uses ‘modern’ backup ut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d989b8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I.E. Du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da</dc:creator>
  <dc:description/>
  <dc:language>en-US</dc:language>
  <cp:lastModifiedBy>Coda</cp:lastModifiedBy>
  <cp:revision>0</cp:revision>
  <dc:subject/>
  <dc:title>Current Backup System</dc:title>
</cp:coreProperties>
</file>