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4D488-3F86-493A-9348-8444A85CFF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DB2F-E881-4904-99D8-69262B8E0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F84A6-F7DB-41CC-B0E5-129B3BBE6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814B-C12D-47AC-9711-2DC3EB49C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9D322-363E-457E-A75F-664F66B515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C0AB65-C0F7-4EE7-898B-9EBBE7968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5ECDC-CC22-414F-A4AB-01DB53588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F2A01-439A-4589-8A8A-01C6ED037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E4856-1B7C-430F-9D34-A133608B5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281E1-D417-4E94-BBB1-E26033939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27AB64-0758-4512-9736-282EC74DC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FA545-61F5-42C6-89BB-61CE549E8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40A89-3D80-4FA8-9D69-6912FA1D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D67AA-9D11-438B-80AC-6AD1E302A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325E3-B312-453C-92FA-50F0DFF78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692B2-20CF-44D1-A04E-1BB65DEB0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6EE4F-6F6F-47B3-A617-04AF10071F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3A58-8093-4407-8552-98EF6EF89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E7BA2-3119-4B47-84B4-150B3E76B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4245-7F44-4679-82D6-2613171E5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182F-153F-4E02-8563-1B444360E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66D9-2336-4830-995E-2B5B03E3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22F0A-DB51-446A-8F12-B26EEB0C1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E1A5-EFA4-4993-8A05-BED5247D7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0066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ccec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757B5-53C4-493B-8C13-0704181B8C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5A330-D7C7-49DE-932F-651A8D371A4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ccec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cec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ccec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66ff"/>
              </a:buClr>
              <a:buSzPct val="60000"/>
              <a:buFont typeface="Monotype Sort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ec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ccec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ccec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66ff"/>
              </a:buClr>
              <a:buSzPct val="50000"/>
              <a:buFont typeface="Monotype Sort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ccecff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oda Directory Handl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Peter J Braa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ata Structur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contents: DIR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s: DH api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inodes: DI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Directory handle cache: DC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d support: FID api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content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Blob of data -- size multiple of 2048 byte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names and NDirFids (vnode, uniq) in network ord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s freemap, hashtable and other organizational structur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ents stored contiguously in Venus RVM, by page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ectory Handl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pointers, lock and refcounts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VM in the server in hash tab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tored in RVM in client, pointed to by fsobjs as part of VenusDirData.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 operations on directories go through the DH api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15360" indent="-31536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Server has a DH cache -- needed for Copy on Write refcounting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Dir Inode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ntain a page map for directory pages in server RVM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utines for retrieving and storing DH’s in DI’s and vice versa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Copy routin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Guts of server directory data storag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Lookup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aps name to inode number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Lookup must go from kernel to Venus through venus_lookup upcall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Mostly lookup uses inode number computed from FID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oot directory of volume is assigned inode number of mount point by Venus 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Readdi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Readdir needs a Unix file hande (directory handle)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Upon open of a directory Venus writes out a BSD formatted directory container file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ecff"/>
                </a:solidFill>
                <a:latin typeface="Tahoma"/>
              </a:rPr>
              <a:t>File contains only names, no inode numbers or types (POSIX says this is all we need).</a:t>
            </a:r>
            <a:endParaRPr b="0" lang="en-US" sz="32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04T14:33:16Z</dcterms:created>
  <dc:creator>braam</dc:creator>
  <dc:description/>
  <dc:language>en-US</dc:language>
  <cp:lastModifiedBy>braam</cp:lastModifiedBy>
  <cp:lastPrinted>1998-03-04T14:49:58Z</cp:lastPrinted>
  <dcterms:modified xsi:type="dcterms:W3CDTF">1998-03-04T18:47:22Z</dcterms:modified>
  <cp:revision>1</cp:revision>
  <dc:subject/>
  <dc:title>Coda Directory Handling</dc:title>
</cp:coreProperties>
</file>