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22CA8-ECDB-472E-AD24-E9CCD729E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A3C16-3930-452D-B08F-D1542EF0E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855-F6F7-4C86-B658-00126FA44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79CE8-0186-457A-A31C-2EECEBF16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98D5-CA78-4705-B1D6-97A27ACF9F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8D3-7640-4D25-81E2-F888E2C22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F8BA-2B4E-4A7A-8BD2-5F32E1548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EF3DC-2303-49E3-A4A4-BCBBF6EA22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495DC-9EFE-426F-8700-29DB02A8F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49EF-9A9D-46CE-9AC3-1166557A9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85AD-3858-4EA5-8CC7-3BC954E37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3A3FD-9E4E-41E6-8DA6-97E84BE8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145CC-97AF-44AD-B48D-A5EF11EEF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Snapshot of Understand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ter J. Bra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obert Wat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cket Headers (60 octet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Vers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identify protoc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RemoteHandl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enderHan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Hand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ceiverHandle (not nee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lag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4 octets: SE, Color, 2 for R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odyLeng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? Checksum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eqNumber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goes up by 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OpCode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decipher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Fl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DataOffs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ubsysId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to hand to sub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turnCod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resu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mpo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 distributed 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quef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Stam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Ti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side effec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a collection of h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imary purpose is to do a “pre” and “post” RPC processing, e.g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etch(0x21.0x3.0x6) initiates and completes a side effect in RPC2 stub c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hooks are functions: at setup, binding, before and after RPC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so hook in the connection are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deEffect are not part of RPC2 protocol but are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c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parameter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bind and RP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838080"/>
            <a:ext cx="9144000" cy="6098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Unauthenticated Bind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143000" y="170172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143000" y="1574640"/>
            <a:ext cx="6629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2280" y="91440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9144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81680" y="447660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H="1">
            <a:off x="1142640" y="4324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800600" y="2587680"/>
            <a:ext cx="3886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a Centry for this connection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andling runs inside SocketListen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 system higher up run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PC2_NEWCONNECTION co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g ViceNewConnec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073880" y="5667480"/>
            <a:ext cx="319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is told SenderHandle of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state set to C_THINK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128600" y="270828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027440" y="220968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800600" y="497844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nds same packet back with fix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nnection inform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629400" y="91440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762120" y="601992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120" y="525780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4495680"/>
            <a:ext cx="7315200" cy="6858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38098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31240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62120" y="24382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62120" y="17524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1066680"/>
            <a:ext cx="7315200" cy="60984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609480"/>
            <a:ext cx="9144000" cy="304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5800" y="763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Vice &amp;Callback Protoc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143000" y="11937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52280" y="533520"/>
            <a:ext cx="858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53352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05720" y="187956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1143000" y="20574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71680" y="3124080"/>
            <a:ext cx="2989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rver sets up callback conne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f there isn’t one yet for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128600" y="2098800"/>
            <a:ext cx="25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005280" y="10666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514600" y="17524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629400" y="533520"/>
            <a:ext cx="106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565360"/>
            <a:ext cx="18288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ewConnect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971800" y="2438280"/>
            <a:ext cx="3166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ent as result of RPC2_NewBind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ent sends SenderHand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705720" y="3200400"/>
            <a:ext cx="99036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143000" y="3936960"/>
            <a:ext cx="99072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NIT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590920" y="3809880"/>
            <a:ext cx="3886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fter sending this Vice runs ViceNewConnection to register client hand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429000" y="4524480"/>
            <a:ext cx="2838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erify Client is working, make a gratuitous callb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400800" y="4622760"/>
            <a:ext cx="129528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allb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143000" y="538488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590920" y="5356080"/>
            <a:ext cx="3886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callback request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943600" y="55846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943600" y="279396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5943600" y="144792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943600" y="41148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H="1">
            <a:off x="1143000" y="34290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43000" y="632448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H="1">
            <a:off x="1143000" y="4800600"/>
            <a:ext cx="18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553080" y="6172200"/>
            <a:ext cx="1143000" cy="398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P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429000" y="6048360"/>
            <a:ext cx="2838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ewConnectFS now comple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i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PC2 manual describes API, we ne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tocol de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details about intern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 implementation s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g fixes: security, laptop networking, st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iderably more clarity in implem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hanges in protocols will accompany some bug fix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gnore all MultiRPC and Failure pack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 decisions will have to take these into ac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ayers in RPC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yers are not clearly separ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lying design does allow good lay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are with ISO stack and relate to it where appropriate, ie at network and transport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eep in mind 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288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8288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411480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2819520"/>
            <a:ext cx="2286000" cy="1015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8800" y="3962520"/>
            <a:ext cx="5029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819520"/>
            <a:ext cx="0" cy="228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01560" y="5464080"/>
            <a:ext cx="5641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 these types of code are mix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incipal Abstrac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cketBuffers: header, body; sit in a po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entry: RPC2 logical connect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ndles: point to Centry’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LEntry’s: handles for packets, with retry info, destination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stEntry: Encode remote host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04920" y="54864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0880" y="1447920"/>
            <a:ext cx="221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4724280"/>
            <a:ext cx="213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DP Trans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4040280" y="5638680"/>
            <a:ext cx="178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 Addres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038480" y="474012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ck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38480" y="1447920"/>
            <a:ext cx="4419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liable transmi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imeou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ndwidth adapt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Connections with hand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et format, header XD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04920" y="480060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3049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PC2 Transport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920" y="55627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ftware Protocol Lay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4724280"/>
            <a:ext cx="31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XD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8600" y="144792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subsystem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464832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28600" y="2911320"/>
            <a:ext cx="4191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PC2  remote procedure c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d marshal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343400" y="144792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ce.rpc2, callback.rpc2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urrently the “Coda protocols”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343400" y="2895480"/>
            <a:ext cx="3733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 RPC is specified by an integer and takes arguments which are of such and so a typ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920" y="2666880"/>
            <a:ext cx="8610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343400" y="4724280"/>
            <a:ext cx="3733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arguments for RPC’s are to be packed and unpacked in the following way. (Language Independ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04920" y="1447920"/>
            <a:ext cx="861048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715000" y="5410080"/>
            <a:ext cx="2895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etwork lay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715000" y="3352680"/>
            <a:ext cx="2895480" cy="1524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sendto(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use socket f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 remote port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Xmit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15000" y="838080"/>
            <a:ext cx="289548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buffer hand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ame is SL_Ent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rrange reliable transmiss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yield to SocketListen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cide on Sle-&gt;return_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liably &amp; snipp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80880" y="3962520"/>
            <a:ext cx="2895840" cy="2286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Logical 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name is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map Handle to CEn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await correct state of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onne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encryption of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nippets of code all o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e.g. in RPC2_MakeRP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8088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locate buff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marshalling of ar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voke SideEffec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a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top and bottom of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289548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429000" y="2590920"/>
            <a:ext cx="2133720" cy="2666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010280" y="28195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6600" y="4952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09920" y="-57240"/>
            <a:ext cx="405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nd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819520" y="838080"/>
            <a:ext cx="2286000" cy="1905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adds local IP&amp;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builds 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co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SendRespons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violates lay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1219320" y="2895480"/>
            <a:ext cx="21333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486400" y="1447920"/>
            <a:ext cx="2895480" cy="1523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Opcod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pl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OldRequest: retransm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CurrentRequest:  bus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andleNewReques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DecodePack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80880" y="2971800"/>
            <a:ext cx="2895840" cy="1676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Packet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ame is RPC2_PacketBuff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allocate buff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o recvfr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extract sender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XDR on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rpc2_Recv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80880" y="685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Network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ceives pack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hands to UDP lay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6520" y="2666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3505320" y="1676520"/>
            <a:ext cx="190476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59092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187720" y="-46080"/>
            <a:ext cx="437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iving Protocol Lay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80880" y="1828800"/>
            <a:ext cx="28958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UDP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nds socket, wakes up 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IOMgr hands to SocketListen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676520" y="1523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H="1">
            <a:off x="480024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8458200" y="18288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8763120" y="182880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00600" y="4267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657600" y="3124080"/>
            <a:ext cx="2895480" cy="11430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ubsystem Layer (reque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SLEntry, locate recip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nd wake it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FindRecipient, DeactivateS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781680" y="3505320"/>
            <a:ext cx="2210040" cy="182880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 (repl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ake 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n marshall, 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rrrors, return from 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stub code &amp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RPC2_Make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4648320"/>
            <a:ext cx="2819160" cy="14475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PC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ff0000"/>
                </a:solidFill>
                <a:latin typeface="Times New Roman"/>
              </a:rPr>
              <a:t>??_GetRequest unmarshall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ecute server RPC hand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respo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880" y="5181480"/>
            <a:ext cx="2895840" cy="14479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onnection Lay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nslate SenderHandl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E_En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if no CE_Entry: Handle_INIT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 decry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imes New Roman"/>
              </a:rPr>
              <a:t>code lying all o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47242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05320" y="2590920"/>
            <a:ext cx="0" cy="32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52680" y="586728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3-16T17:10:43Z</dcterms:created>
  <dc:creator>Braam</dc:creator>
  <dc:description/>
  <dc:language>en-US</dc:language>
  <cp:lastModifiedBy>Braam</cp:lastModifiedBy>
  <cp:lastPrinted>1998-03-18T15:56:12Z</cp:lastPrinted>
  <dcterms:modified xsi:type="dcterms:W3CDTF">1998-03-18T19:42:36Z</dcterms:modified>
  <cp:revision>9</cp:revision>
  <dc:subject/>
  <dc:title>RPC2</dc:title>
</cp:coreProperties>
</file>