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9436F71-0A49-406D-ABAA-C05204B483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547560" y="170352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"/>
          <p:cNvSpPr/>
          <p:nvPr/>
        </p:nvSpPr>
        <p:spPr>
          <a:xfrm>
            <a:off x="9209160" y="16765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a6792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a6792"/>
                </a:gs>
              </a:gsLst>
              <a:lin ang="540000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154080" y="312840"/>
            <a:ext cx="847800" cy="6544080"/>
            <a:chOff x="154080" y="312840"/>
            <a:chExt cx="847800" cy="6544080"/>
          </a:xfrm>
        </p:grpSpPr>
        <p:sp>
          <p:nvSpPr>
            <p:cNvPr id="111" name=""/>
            <p:cNvSpPr/>
            <p:nvPr/>
          </p:nvSpPr>
          <p:spPr>
            <a:xfrm>
              <a:off x="155520" y="31399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55520" y="40831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54080" y="5024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54080" y="5970600"/>
              <a:ext cx="846360" cy="886320"/>
            </a:xfrm>
            <a:custGeom>
              <a:avLst/>
              <a:gdLst/>
              <a:ahLst/>
              <a:rect l="0" t="0" r="r" b="b"/>
              <a:pathLst>
                <a:path w="2351" h="2462">
                  <a:moveTo>
                    <a:pt x="2351" y="0"/>
                  </a:moveTo>
                  <a:lnTo>
                    <a:pt x="2351" y="1723"/>
                  </a:lnTo>
                  <a:lnTo>
                    <a:pt x="0" y="2462"/>
                  </a:lnTo>
                  <a:lnTo>
                    <a:pt x="0" y="739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55520" y="3128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54080" y="12492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54080" y="219564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2351" y="0"/>
                  </a:moveTo>
                  <a:lnTo>
                    <a:pt x="2351" y="1741"/>
                  </a:lnTo>
                  <a:lnTo>
                    <a:pt x="0" y="2488"/>
                  </a:lnTo>
                  <a:lnTo>
                    <a:pt x="0" y="746"/>
                  </a:lnTo>
                  <a:lnTo>
                    <a:pt x="2351" y="0"/>
                  </a:lnTo>
                  <a:close/>
                </a:path>
              </a:pathLst>
            </a:custGeom>
            <a:gradFill rotWithShape="0">
              <a:gsLst>
                <a:gs pos="0">
                  <a:srgbClr val="b2e7ff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7560" y="2717640"/>
            <a:ext cx="8596800" cy="254520"/>
          </a:xfrm>
          <a:custGeom>
            <a:avLst/>
            <a:gdLst/>
            <a:ahLst/>
            <a:rect l="0" t="0" r="r" b="b"/>
            <a:pathLst>
              <a:path w="23880" h="707">
                <a:moveTo>
                  <a:pt x="23880" y="0"/>
                </a:moveTo>
                <a:lnTo>
                  <a:pt x="23880" y="707"/>
                </a:lnTo>
                <a:lnTo>
                  <a:pt x="7164" y="707"/>
                </a:lnTo>
                <a:lnTo>
                  <a:pt x="0" y="353"/>
                </a:lnTo>
                <a:lnTo>
                  <a:pt x="7164" y="0"/>
                </a:lnTo>
                <a:lnTo>
                  <a:pt x="23880" y="0"/>
                </a:lnTo>
                <a:close/>
              </a:path>
            </a:pathLst>
          </a:custGeom>
          <a:gradFill rotWithShape="0">
            <a:gsLst>
              <a:gs pos="0">
                <a:srgbClr val="05151e"/>
              </a:gs>
              <a:gs pos="50000">
                <a:srgbClr val="1c6d9a"/>
              </a:gs>
              <a:gs pos="100000">
                <a:srgbClr val="05151e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63680" y="2700360"/>
            <a:ext cx="162000" cy="415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236160" y="2697120"/>
            <a:ext cx="304920" cy="274680"/>
          </a:xfrm>
          <a:prstGeom prst="ellipse">
            <a:avLst/>
          </a:prstGeom>
          <a:gradFill rotWithShape="0">
            <a:gsLst>
              <a:gs pos="0">
                <a:srgbClr val="000000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150840" y="0"/>
            <a:ext cx="851040" cy="6858360"/>
            <a:chOff x="150840" y="0"/>
            <a:chExt cx="851040" cy="6858360"/>
          </a:xfrm>
        </p:grpSpPr>
        <p:sp>
          <p:nvSpPr>
            <p:cNvPr id="125" name=""/>
            <p:cNvSpPr/>
            <p:nvPr/>
          </p:nvSpPr>
          <p:spPr>
            <a:xfrm>
              <a:off x="155520" y="361152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54080" y="455616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54080" y="549756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54080" y="781200"/>
              <a:ext cx="846360" cy="897120"/>
            </a:xfrm>
            <a:custGeom>
              <a:avLst/>
              <a:gdLst/>
              <a:ahLst/>
              <a:rect l="0" t="0" r="r" b="b"/>
              <a:pathLst>
                <a:path w="2351" h="2492">
                  <a:moveTo>
                    <a:pt x="0" y="0"/>
                  </a:moveTo>
                  <a:lnTo>
                    <a:pt x="0" y="1745"/>
                  </a:lnTo>
                  <a:lnTo>
                    <a:pt x="2351" y="2492"/>
                  </a:lnTo>
                  <a:lnTo>
                    <a:pt x="2351" y="747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54080" y="172260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54080" y="2668680"/>
              <a:ext cx="846360" cy="895680"/>
            </a:xfrm>
            <a:custGeom>
              <a:avLst/>
              <a:gdLst/>
              <a:ahLst/>
              <a:rect l="0" t="0" r="r" b="b"/>
              <a:pathLst>
                <a:path w="2351" h="2488">
                  <a:moveTo>
                    <a:pt x="0" y="0"/>
                  </a:moveTo>
                  <a:lnTo>
                    <a:pt x="0" y="1741"/>
                  </a:lnTo>
                  <a:lnTo>
                    <a:pt x="2351" y="2488"/>
                  </a:lnTo>
                  <a:lnTo>
                    <a:pt x="2351" y="7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55520" y="0"/>
              <a:ext cx="844920" cy="738720"/>
            </a:xfrm>
            <a:custGeom>
              <a:avLst/>
              <a:gdLst/>
              <a:ahLst/>
              <a:rect l="0" t="0" r="r" b="b"/>
              <a:pathLst>
                <a:path w="2347" h="2052">
                  <a:moveTo>
                    <a:pt x="4" y="0"/>
                  </a:moveTo>
                  <a:lnTo>
                    <a:pt x="0" y="733"/>
                  </a:lnTo>
                  <a:lnTo>
                    <a:pt x="2347" y="2052"/>
                  </a:lnTo>
                  <a:lnTo>
                    <a:pt x="2347" y="887"/>
                  </a:lnTo>
                  <a:lnTo>
                    <a:pt x="759" y="0"/>
                  </a:lnTo>
                  <a:lnTo>
                    <a:pt x="4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0840" y="6445080"/>
              <a:ext cx="725760" cy="413280"/>
            </a:xfrm>
            <a:custGeom>
              <a:avLst/>
              <a:gdLst/>
              <a:ahLst/>
              <a:rect l="0" t="0" r="r" b="b"/>
              <a:pathLst>
                <a:path w="2016" h="1148">
                  <a:moveTo>
                    <a:pt x="2016" y="1130"/>
                  </a:moveTo>
                  <a:lnTo>
                    <a:pt x="4" y="0"/>
                  </a:lnTo>
                  <a:lnTo>
                    <a:pt x="0" y="1148"/>
                  </a:lnTo>
                  <a:lnTo>
                    <a:pt x="2016" y="113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b2e7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3" name=""/>
          <p:cNvSpPr txBox="1"/>
          <p:nvPr/>
        </p:nvSpPr>
        <p:spPr>
          <a:xfrm>
            <a:off x="129528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da Server Interna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eter Bra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Cont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219320" y="2044800"/>
            <a:ext cx="3276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Threa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tar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5029200" y="2057400"/>
            <a:ext cx="3581280" cy="435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 over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no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esolution Lo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Key algorith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reas of conc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1219320" y="2057400"/>
            <a:ext cx="93024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I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1217520" y="2406600"/>
            <a:ext cx="1982880" cy="137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nod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ectory c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A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eslo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219320" y="37908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info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219320" y="4235400"/>
            <a:ext cx="1982880" cy="82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db recor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Toke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1219320" y="5181480"/>
            <a:ext cx="1982880" cy="165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rvers/SC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rtup fla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kipvolu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LOG &amp; DATA &amp; DB Loca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274920" y="20574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File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3274920" y="240660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Meta Data &amp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ir cont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276720" y="3778200"/>
            <a:ext cx="24382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olume loc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276720" y="44956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ecur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3276720" y="5181480"/>
            <a:ext cx="198288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Configuration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4120" y="2057400"/>
            <a:ext cx="30481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/vicep* parti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4120" y="240660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RV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560" y="3778200"/>
            <a:ext cx="297036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LDB, VRDB: RW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560" y="4191120"/>
            <a:ext cx="3427560" cy="58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VSGDB, .pdb, .tk file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dynamic RO db 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335560" y="5181480"/>
            <a:ext cx="198288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Arial Black"/>
                <a:ea typeface="Arial Black"/>
              </a:rPr>
              <a:t>Static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44440" y="23623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144440" y="36576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4440" y="41148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44440" y="502920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44440" y="6705720"/>
            <a:ext cx="7999560" cy="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RVM layout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oda_globals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Already_initialized (i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olHead[MAXVOLS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truct VnodeDiskObject *SmallVnodeFreeLists[SM_FREESIZE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short SmallVnodeInd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…</a:t>
            </a: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. Same for large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MaxVolId (unsigned long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3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2000" spc="-1" strike="noStrike">
                <a:solidFill>
                  <a:srgbClr val="ffffff"/>
                </a:solidFill>
                <a:latin typeface="Impact"/>
                <a:ea typeface="Impact"/>
              </a:rPr>
              <a:t>Remainder is dynamically alloc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1219320" y="419040"/>
            <a:ext cx="7772400" cy="117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olume zoo           </a:t>
            </a:r>
            <a:r>
              <a:rPr b="0" lang="en-US" sz="2400" spc="-1" strike="noStrike">
                <a:solidFill>
                  <a:srgbClr val="ccffff"/>
                </a:solidFill>
                <a:latin typeface="Impact"/>
                <a:ea typeface="Impact"/>
              </a:rPr>
              <a:t>(volume.h, camprivate.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219320" y="2044800"/>
            <a:ext cx="3352680" cy="47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He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Hea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olumeDisk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struc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He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olumeInfo 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4876920" y="2044800"/>
            <a:ext cx="4114800" cy="458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PC2 str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a dozen or s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Attached volumes are on a Hash table in 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GetVolume (from RVM), work, Replace, Comm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           </a:t>
            </a:r>
            <a:r>
              <a:rPr b="0" lang="en-US" sz="3200" spc="-1" strike="noStrike">
                <a:solidFill>
                  <a:srgbClr val="ccffff"/>
                </a:solidFill>
                <a:latin typeface="Impact"/>
                <a:ea typeface="Impact"/>
              </a:rPr>
              <a:t>(cvnode.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219320" y="2044800"/>
            <a:ext cx="7772400" cy="546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Small &amp; larg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difference is ACL at back of large vno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 RV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Impact"/>
                <a:ea typeface="Impact"/>
              </a:rPr>
              <a:t>vnodes sit on rec_smolists linking vnodes with identical vnodenumbers but different uniqifi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olumes have *arrays of rec_smolis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R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VnodeDiskinfo (rvm_malloce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cvnode’s with a world of support: hash tables, freelists etc</a:t>
            </a: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Model: </a:t>
            </a: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GetVnode, work, ReplaceVnode,com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Vnodes (ctd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Inode fiel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small vnodes: points to diskfile inode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large vnodes: is RVM address of dir page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Contain important small structure: vv_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ointers to reslog ent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66408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219320" y="419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ccffff"/>
                </a:solidFill>
                <a:latin typeface="Impact"/>
                <a:ea typeface="Impact"/>
              </a:rPr>
              <a:t>Directo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1219320" y="2044800"/>
            <a:ext cx="7772400" cy="513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Pagetable (about to disappea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DirPa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divided into 32byte blo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Hash table &amp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1b0ff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Impact"/>
                <a:ea typeface="Impact"/>
              </a:rPr>
              <a:t>Blob Free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VM: maintains buffer cache for dir p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99ffcc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Impact"/>
                <a:ea typeface="Impact"/>
              </a:rPr>
              <a:t>Before committing to RVM stage pages in the DirHtb (another page tab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braam</dc:creator>
  <dc:description/>
  <dc:language>en-US</dc:language>
  <cp:lastModifiedBy>braam</cp:lastModifiedBy>
  <cp:revision>0</cp:revision>
  <dc:subject/>
  <dc:title>Coda Server Internals</dc:title>
</cp:coreProperties>
</file>