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8898120" cy="6555240"/>
          </a:xfrm>
          <a:custGeom>
            <a:avLst/>
            <a:gdLst/>
            <a:ahLst/>
            <a:rect l="0" t="0" r="r" b="b"/>
            <a:pathLst>
              <a:path w="24717" h="18209">
                <a:moveTo>
                  <a:pt x="24717" y="9424"/>
                </a:moveTo>
                <a:lnTo>
                  <a:pt x="15293" y="0"/>
                </a:lnTo>
                <a:lnTo>
                  <a:pt x="13591" y="0"/>
                </a:lnTo>
                <a:lnTo>
                  <a:pt x="23870" y="10271"/>
                </a:lnTo>
                <a:lnTo>
                  <a:pt x="23553" y="10593"/>
                </a:lnTo>
                <a:lnTo>
                  <a:pt x="12961" y="0"/>
                </a:lnTo>
                <a:lnTo>
                  <a:pt x="9569" y="0"/>
                </a:lnTo>
                <a:lnTo>
                  <a:pt x="21859" y="12286"/>
                </a:lnTo>
                <a:lnTo>
                  <a:pt x="19897" y="14245"/>
                </a:lnTo>
                <a:lnTo>
                  <a:pt x="5662" y="0"/>
                </a:lnTo>
                <a:lnTo>
                  <a:pt x="3752" y="0"/>
                </a:lnTo>
                <a:lnTo>
                  <a:pt x="18945" y="15193"/>
                </a:lnTo>
                <a:lnTo>
                  <a:pt x="18151" y="15991"/>
                </a:lnTo>
                <a:lnTo>
                  <a:pt x="2165" y="0"/>
                </a:lnTo>
                <a:lnTo>
                  <a:pt x="0" y="0"/>
                </a:lnTo>
                <a:lnTo>
                  <a:pt x="0" y="2275"/>
                </a:lnTo>
                <a:lnTo>
                  <a:pt x="15928" y="18209"/>
                </a:lnTo>
                <a:lnTo>
                  <a:pt x="24717" y="9424"/>
                </a:lnTo>
                <a:close/>
              </a:path>
            </a:pathLst>
          </a:custGeom>
          <a:gradFill rotWithShape="0">
            <a:gsLst>
              <a:gs pos="0">
                <a:srgbClr val="6786e1"/>
              </a:gs>
              <a:gs pos="100000">
                <a:srgbClr val="b3c2f0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92160" y="6486480"/>
            <a:ext cx="158904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am@cs.cmu.ed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4165560" y="6486480"/>
            <a:ext cx="81288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8/25/9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 txBox="1"/>
          <p:nvPr/>
        </p:nvSpPr>
        <p:spPr>
          <a:xfrm>
            <a:off x="8693280" y="6486480"/>
            <a:ext cx="358920" cy="30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C657C28E-9278-4BB4-B269-120CEB25E7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68580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forcing 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en authenticated connection is established Srv attaches the CPS to the ClientEntry it hol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_XX_Semantics compare ACL’s against CPS and give yes/n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Iss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little bugs: keys not nulled out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llback connection not sec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cal userid to Vice should be transla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the heck is a “pcf” fi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is adding users all but a disaste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deas for improving imple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moose doesn’t work like in AFS. It clears the existing toke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son: re-integration, hoarding and disconnection make token handling more diffic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adds “moose” access in addition to  existing ticke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da set ACL’s to achieve th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F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rpose find username, and pdb record in constant time from uid, log time from nam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a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phabetically sorted list of null terminated user/group na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ys of offsets of strings, pdb records etc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ng Users/ P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wd2pdb is a hack to get the ball rol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FS now has a pts server to modify the .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r “au” can modify the password file not the pdb fi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ed: a pdb ser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 server must remain super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pdb fa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 is interpreted by lex to get the CPS ou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: precompute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db’s can become very large, so can pcf file which is held in server vm: not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on modification of pdb, Srv must be notified to refetch the CP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ree Compon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 and secure conn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Control and Protection datab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x emulation on Cli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 Connections in RPC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routine can be passed and encryption ty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ous types of connections can be establish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Kimono: not authenticated,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Only: authenticated not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adersOnly: authenticated, headers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e: authenticated and encryp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ham Schroeder Algorith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685800" y="1828800"/>
            <a:ext cx="7772400" cy="413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ump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 &amp; server share a secret (session or handshake key) for encryption/decry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ccessful decryption of packets with this secret established identit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m this: secure authenticated connections can be ma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estion: How to get shared secr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te: Coda has Needham-Schroeder bu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685800" y="95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PC2 Exchange at bind ti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353880" y="3097080"/>
            <a:ext cx="8571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7135920" y="3097080"/>
            <a:ext cx="92556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1954080" y="1878120"/>
            <a:ext cx="28386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entId, E[Xr, 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2438280"/>
            <a:ext cx="53053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5154480" y="1260360"/>
            <a:ext cx="27273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KC: handshake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r,Yr: random numb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A,K] A encrypted with 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514520" y="342900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402000" y="2944800"/>
            <a:ext cx="25369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Xr+1,Yr),HK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539720" y="4572000"/>
            <a:ext cx="51530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514520" y="5791320"/>
            <a:ext cx="5127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2106720" y="4011480"/>
            <a:ext cx="193500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Yr+1,HCK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3402000" y="5307120"/>
            <a:ext cx="2306520" cy="45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[(SK,n0), HKS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5840280" y="4765680"/>
            <a:ext cx="2981160" cy="91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K: session key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 encryption k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0: random number for 1st pk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ent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85800" y="1600200"/>
            <a:ext cx="7772400" cy="429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ltimate goal: Venus and Vice share secr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og &amp; auth2 server share a secret if user knows his password =&gt; secure connec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swords are stored encrypted on server (“dreuss “) to avoid “accident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h2 returns ticket to clog, clog gives it to Venus (using pioctl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enus re-establishes all connections with Srv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rv shares the auth2.tk key with auth2: it can decrypt the ticket which Venus can sen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s a ticke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5800" y="14479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cket = (clear token, secret toke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th tokens contain: (session key, viceid, timestamps for validity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ear token for client: unencrypted (must be sent securely e.g. by auth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ret token: encrypted with secret shared by auth2/Srv (the key in auth2.tk). Can be sent unencrypted over the n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he secret token as clientid, then Client and server share a secre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rber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85800" y="1219320"/>
            <a:ext cx="784872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stage rocke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t Ticket Granting Ticket (TGT), using kin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change TGT for ticket for a service ticket with the Ticket Granting Server (TG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da could easily use Kerber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t time of first connection, Venus fetches a ticket from TGS for Srv authent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ypt with Kerberos 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nd out how TGS and Srv can share a secret, probably /etc/srvta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ac8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685800" y="247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t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858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oups, users, membership &amp; ownership relations: in “vice.pdb” fi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L granting rights to u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00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pt: current protection subdomain (CPS): CPS of a user/group is set of all groups to which she belongs directly or indirectly (can be precomputed from .pdb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Peter Braam</cp:lastModifiedBy>
  <cp:revision>0</cp:revision>
  <dc:subject/>
  <dc:title>Coda Security</dc:title>
</cp:coreProperties>
</file>