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D26B-20E2-433B-8731-2929EBFDA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14FF-C222-44A8-9A92-A519BC29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8190-DF56-4F61-8B6B-3F4DA46EE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B7CE-36DB-406B-9351-79A88360B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B0F6-7DAF-4101-95D0-4F8367F0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4340-0E2B-4CDA-BEAF-CC9E18B7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0A38-F2B1-4F0D-B67D-CD841986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0CE0-80C9-4FA5-AFAC-D3249672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6A34-C66E-4FEE-AA3C-EF7AC78B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9FB5-3FD9-44D0-863D-1515F510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C406-C224-4225-B0BA-D73881BE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BDB3-A6BE-4A67-B13B-54913D23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C2AF-6F40-47E9-9332-17744ED22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Zebr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ed routing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Magic Labs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daem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apping service around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nel routing table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istribute routing information between different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DEL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INTERFACE_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RIP Version1, 2  RIPng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G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flap dam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OSPFd and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time to develop other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daemon has their own terminal interface and configuration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(for *BSD),RIPd,BGPd(dump only)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ML                                 &lt;zebra@digital-magic.co.jp&gt;                           for subscription please write to           &lt;zebra-request@digital-magic.co.j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Home Page              http://zebra.digital-magic.co.jp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Zebra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distributed multi-server multi-thread routing soft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free software distributed under G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Modularity,extensibility,maintain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t provides user level packet forwarding table when working with GNU Hu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do we need yet anothe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ting softwa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er development software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ernel routing table update and redistribution between different protocols are provided by zebra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ther daemons are for protocol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Easy to add a new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BGP route server and route reflector are integrated into BG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multiple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ncreases modularity, extensibility, maintain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llows incremental development of a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add a new protocol without changing other sourc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easy to 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servers can be s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nter process communication V.S. intra process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kernel routing table updates and redistribution would be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Authenticat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Zebra architecture on GNU Hu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2895480"/>
            <a:ext cx="99036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fi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9400" y="3429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440" y="342900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640" y="33526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4114800"/>
            <a:ext cx="99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952880"/>
            <a:ext cx="59436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533412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010280" y="2209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2209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019920" y="2361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23623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0292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2514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9400" y="3429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419112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1460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2360" y="32767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2360" y="39625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user lev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ing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IP Address  (and destination) based policy ro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interface routing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much more idea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876920"/>
            <a:ext cx="99072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56386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520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6095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6095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038480" y="441972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76920" y="4419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31T16:02:06Z</dcterms:created>
  <dc:creator>Digital Magic Labs, Inc.</dc:creator>
  <dc:description/>
  <dc:language>en-US</dc:language>
  <cp:lastModifiedBy>Digital Magic Labs, Inc.</cp:lastModifiedBy>
  <dcterms:modified xsi:type="dcterms:W3CDTF">1997-06-08T12:35:31Z</dcterms:modified>
  <cp:revision>13</cp:revision>
  <dc:subject/>
  <dc:title>The Zebra Distributed routing system</dc:title>
</cp:coreProperties>
</file>