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C1D4-12AC-4CF6-BB15-35D39679A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98B2-23EC-4F97-9B48-76B37FC92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6FFE-AFE9-49A9-8722-E6519E7E8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6222-D4B5-412F-9294-A9C7F7E1C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88FB-EDEE-4A54-8EEC-8CCB36883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9859-EDD2-4CD0-A943-2B09686EA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B72B-68F6-48D9-B6B6-C9FDD7816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BCDA-9DA3-4C69-AE50-B59D2CF32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CAFB-189D-4673-BB6E-30918F4E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6242-9A25-4479-964C-3E6F6D49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308E-95EA-4B23-B237-2BE52B04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6ABD-20B6-4BAD-8812-C392F388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7B9EB-49F1-4A0B-A059-520685D325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ruda: Mythical Link to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8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dvanced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Excel Autom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lo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-import –declar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o [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create -alias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.ApplicationClass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$o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Visible tr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Application Domai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appdomain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Running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runn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v2.0.50727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Internal 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ump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ackageMutex 0x013CE958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hModule 0x1000000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ClrRuntimeHost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0x00626C50 bClrStarted 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Package 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package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1.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fba64d41d7ee08985af28564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437fc26ead7c8ef6 {2011-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0-01 22:35:24 UTC}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R Manage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execu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ar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o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naged Code Intera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tartu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ontro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etac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hutdow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Garuda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ruda is an open-source Tcl package capable of loading and interacting with the CL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ed primarily for use with Eag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 not work on Mono because it lacks the native CLR AP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TEA compliant; however, I would appreciate any help making it s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do I install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s Tcl 8.4 or hig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py files to a directory in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$auto_pa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o I load it?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mostly automaticall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eagle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{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Eagle scrip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(optional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agnostic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The Tcl command (with 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argument) used to log all 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lifecycle events and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calls.  May be defined as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no-o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logComm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rtup Configuration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ery rarely, if ever, requir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assemblyPath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assembly fil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ype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qualified clas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Flag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see GarudaInt.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startupMethod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tartup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Argument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extra ar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uto-Loader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Regi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envV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rootRegistryKey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Bri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R Method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send "control" dir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control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detach Tcl interpre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detach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initiate bridge shutd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hutdown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mple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reate and invok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1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invok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$o1 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2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 –alias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$o2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7:00:00Z</dcterms:created>
  <dc:creator/>
  <dc:description/>
  <dc:language>en-US</dc:language>
  <cp:lastModifiedBy/>
  <dcterms:modified xsi:type="dcterms:W3CDTF">2011-10-22T02:42:25Z</dcterms:modified>
  <cp:revision>4</cp:revision>
  <dc:subject>Garuda</dc:subject>
  <dc:title>Garuda: Mythical Link to the CLR</dc:title>
</cp:coreProperties>
</file>