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7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  <p:sldId id="309" r:id="rId67"/>
    <p:sldId id="310" r:id="rId68"/>
    <p:sldId id="311" r:id="rId69"/>
    <p:sldId id="312" r:id="rId70"/>
    <p:sldId id="313" r:id="rId71"/>
    <p:sldId id="314" r:id="rId72"/>
    <p:sldId id="315" r:id="rId73"/>
    <p:sldId id="316" r:id="rId74"/>
    <p:sldId id="317" r:id="rId75"/>
    <p:sldId id="318" r:id="rId76"/>
    <p:sldId id="31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slide" Target="slides/slide54.xml"/><Relationship Id="rId68" Type="http://schemas.openxmlformats.org/officeDocument/2006/relationships/slide" Target="slides/slide55.xml"/><Relationship Id="rId69" Type="http://schemas.openxmlformats.org/officeDocument/2006/relationships/slide" Target="slides/slide56.xml"/><Relationship Id="rId70" Type="http://schemas.openxmlformats.org/officeDocument/2006/relationships/slide" Target="slides/slide57.xml"/><Relationship Id="rId71" Type="http://schemas.openxmlformats.org/officeDocument/2006/relationships/slide" Target="slides/slide58.xml"/><Relationship Id="rId72" Type="http://schemas.openxmlformats.org/officeDocument/2006/relationships/slide" Target="slides/slide59.xml"/><Relationship Id="rId73" Type="http://schemas.openxmlformats.org/officeDocument/2006/relationships/slide" Target="slides/slide60.xml"/><Relationship Id="rId74" Type="http://schemas.openxmlformats.org/officeDocument/2006/relationships/slide" Target="slides/slide61.xml"/><Relationship Id="rId75" Type="http://schemas.openxmlformats.org/officeDocument/2006/relationships/slide" Target="slides/slide62.xml"/><Relationship Id="rId76" Type="http://schemas.openxmlformats.org/officeDocument/2006/relationships/slide" Target="slides/slide63.xml"/><Relationship Id="rId77" Type="http://schemas.openxmlformats.org/officeDocument/2006/relationships/slide" Target="slides/slide64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dt" idx="3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ftr" idx="3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 type="sldNum" idx="3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1D86B-CEB5-4C0B-8C5D-739E787D32AF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AD2C6-163E-40CC-82B5-0AFB862689BA}" type="slidenum">
              <a:rPr b="0" lang="el-GR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26E31-AC9F-4C9A-B579-4D87DA16307C}" type="slidenum">
              <a:rPr b="0" lang="el-GR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1672-9DD0-4259-92B5-8EE4146CC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D870-6ED6-464E-90DC-F0CED32F4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BFE892-E79B-4A94-B76D-0A9627AB7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3FF417-4D8D-4D9F-9BC7-A82AFA882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3626C1-852C-47EB-B988-B064612F1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03D563-81D5-46A3-9F8B-438799DD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85A480-B929-4C08-BC2A-104B68AF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7A08E7-0F31-4179-8D51-26D5613D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0DBA54-A811-4FC0-BBDD-06F8BA7F7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78410A-A080-4914-834F-C1CB9C2E0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71E7C9-AF98-49CB-B71B-A8B82AB62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3E8A57-5A68-4C36-A91F-6194B788A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04FC-9F86-465E-88C5-704AEB0E8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985181-30F4-4A1C-A7C1-928360A4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2B1280-98FB-407D-8F11-6D1519F9B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7A6651-1334-47BA-861C-0FD5FA513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4B65BE-0526-4F9F-A991-39288F59C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9FD905-93C3-48CC-9FD8-1DB04384F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F80683-CE25-4FB2-80C1-8422AD21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44CE18-1424-435C-82F0-BA77A77B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DB67E2-ACF1-48D2-8FBE-8D398D66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077736-BC64-4EC6-8B53-9D9C82418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E8CDEA-7C39-4AFD-AA38-524921C0C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E7ED-50E1-4571-B162-01FAB24E6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375FCF-663C-4736-A61D-DDEFAD6CF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A6CFC6D-A888-4D1F-9787-867D35F77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7C3CDDB-3774-49A4-A8C9-E1609C0EA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A9C720F-CD1E-41EC-B90D-074144017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9EF6182-157F-489B-BA98-ACF668858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5975362-2D1E-4DA3-AE03-04D26D2FA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C23C71B-7F2C-4DAB-9D18-992747144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DD96C70-7BA8-46EA-B95E-B136468A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10ECD97-C150-4EA7-950A-4BBAEEB1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896B1DD-4870-4613-A36D-CE4A0BC4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247F9F-3AF0-42B3-B062-E8A8F1425E2C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FC7464D-3A7F-4586-BA7F-5114730F9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807E3FF-4F5D-494C-A8D1-F229EE679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9AF6345-8DB3-4C7B-BF91-BC6AEAF04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0C3A7F-AF2A-4A9D-AEA9-A5A4EEAA0BB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F6B814-9387-455C-A422-6B3E4CDC468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A02515-1C58-47F1-BC15-61D4096D451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097107-5B24-4655-A04A-D1FBBA31942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6D2E27-BFAC-437C-84B9-734D7D0E677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8576F3-0093-49B7-9412-F0427899EF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92EA-5E63-44D3-8E05-9C6CE7BA9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DF3B9F-880D-474C-A04B-388A9F4F29D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928FBB-A7C4-41F7-ADC6-EDAB2AC055F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77B80B-3ECD-417B-A49D-0591D3F7D98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D7EEED-7E62-4759-B308-8C57871EBDA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E8D6CD-D530-4C9C-9F3B-5989E5D5AC6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E8D306-AFFE-451B-93FD-E9153E2E6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4264DF-B7F5-4F5E-BA15-6D18E3272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6D252F-C134-4D6C-936B-6BBA03C9F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D732CD-0C99-47D1-A220-E4A3B9B57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B0336D-938F-42AC-8145-441657463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5487-1102-4369-B5BE-5A59E0DAD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A740D3-5946-4814-8503-E7D6016E2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61867E-DCC9-4B85-8848-10DC1B2F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73A659-D1ED-41D7-AAD5-20F5C9EE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B67BE1-F079-4268-9028-77B24E8C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D4DB30-14CA-4F72-A1D5-431680766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29B3C8-F2B2-4BEA-B0FC-BF1218D31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8CDC53-BD29-43B7-BFA3-7114E34FF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CDA248-BFB6-4333-9B7C-A06453375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643AF2-1B7F-4C21-8D3F-03DD4EAFE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10D370-7AD5-4A27-9C16-DF820CA55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7B3D-0CC0-4063-ADB9-B2790896D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49D915-60DD-42DB-84B4-B27388020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760077-015B-4FBC-AE73-90526FA4A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994BC3-DCB8-49AD-95E1-E7649CCB4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F65162-E762-499A-9865-8DEB60D7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9958A9-C94E-4384-B62E-2E6EC3B2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F91F8D-87C2-489B-B529-E7F8AC9F0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D4C6FF-7E34-4010-A4DF-CF1522E53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D92E21-3B57-4C88-8ECF-C767882D5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7F50E6-3312-429A-9FA7-2F1E3CAAE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590A5BA-243A-47B1-BEC0-E1F720F2C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580F-CA98-42A1-9247-32ECE381B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EB50B6-8627-421E-AC8F-F094B6B34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A97A1F-210D-445A-903E-7E1616B1E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FC70927-1A67-4732-8678-9FB2EC5D9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6919A4-EABD-4F81-A6F7-893C260BB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927E320-39BF-4D9D-84CD-8F2E260BC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3F0BE80-6276-4258-AA27-21C64D0E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B4F644-B09D-442F-BBB0-34447AE5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E22F6C-65C9-457D-AF96-C3FE958D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B854D80-D79E-4D7C-BE78-AAC59E78B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9E43F9-AA40-4864-A6FB-8F7D13C8B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139A-6F24-4892-BA98-A2040C4DF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9AE7D0-A7FF-4832-8B11-8A55031C9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D1210F0-57F9-46C2-8AA9-7125011BC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2DE0CB1-ABD0-490E-AF5C-3C6CB6A22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8DEC294-CB20-4527-B589-2C5D163F5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2D587F-7E23-4833-82FB-D8FECE253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BB3D3C-CE9E-440A-869C-CC561D07A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0478CC9-28E5-4CEF-B14F-91E78D77F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7CE321-928B-4FBC-AD53-1963A2D1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D3D4340-5B64-4722-8819-F7529FEE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0DB8E3-3176-4D45-9735-C320AB1C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0695-1A55-43F5-83B8-EE4D7C85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20D7C0-97F4-424D-A79C-B1C2F0EF8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AF25B00-8372-41D8-BCCD-24BBF14D1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5E08882-7E85-4F80-A400-802D7E6D3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CF744DC-90F4-4C7F-9549-5F9DDA56B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040F4FD-316C-467F-A71D-5C6BB8AFA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77F79E4-67F7-445F-931C-BFE7D5A11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CADF207-D2AC-433F-B2F0-A40162C0A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F431D8D-7503-4780-90D0-48FC8058C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3F78DB0-7898-42C1-B139-FB0F6BFF7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013F68F-6150-42B5-B02C-60F5E7AD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15FF-9F1E-4600-9957-FEE43BD2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D905B5C-A634-4359-9266-EEA35877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4C09E4D-C976-4524-9B3A-6B0B600E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869B8C3-2B93-463E-83BF-1C6484C72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367CB48-DF18-4A3F-AE35-ACC6294ED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D0AE48A-A1B1-48A1-9325-51D568973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6A566AD-83C9-4231-A26C-E834D4D7E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C879E8B-EF5C-44A5-BF5E-672D26979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241B115-4EDF-4667-A34A-3CCF874EB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1C21AFA-5BAB-4FF9-93D0-AAD49C711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D7F39CA-3F0C-4600-AE0A-CC7A6276C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0097-56C3-494A-98BA-2B088CA1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39110E7-628E-458F-A154-7C3BF7B74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8462277-6D08-4C1B-90B9-83DE8DFA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0CA454F-5D3C-41C9-A664-AF84000A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E1FD2D7-3922-430B-BD8D-D128432A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71CBE08-8296-44C4-8940-5B8EB1337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C420DB3-1272-438E-BDF2-25A028290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25660DF-BEE3-49C4-8826-B6B1F896A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A3F253-C169-413B-98A4-1760767C7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2AF575-6D65-4FA9-9BED-EA833C532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6A5D66-DC9F-4FA9-8273-96D15EA5A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l-GR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9DD1C-4DEF-4F00-A027-552E4185DEFB}" type="slidenum">
              <a:rPr b="0" i="1" lang="el-GR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0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6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7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8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5725A-470E-43C9-8A5F-C25F18B74287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9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0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1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3F855-A688-43A9-B8DE-3066DB5C1F0F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0"/>
          <p:cNvSpPr/>
          <p:nvPr/>
        </p:nvSpPr>
        <p:spPr>
          <a:xfrm flipH="1">
            <a:off x="304920" y="2362320"/>
            <a:ext cx="853416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4267080" y="2209680"/>
            <a:ext cx="0" cy="221004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" name="Line 12"/>
          <p:cNvSpPr/>
          <p:nvPr/>
        </p:nvSpPr>
        <p:spPr>
          <a:xfrm>
            <a:off x="539640" y="990720"/>
            <a:ext cx="0" cy="213336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" name="Rectangle 49"/>
          <p:cNvSpPr/>
          <p:nvPr/>
        </p:nvSpPr>
        <p:spPr>
          <a:xfrm>
            <a:off x="0" y="548640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" name="Text Box 51"/>
          <p:cNvSpPr/>
          <p:nvPr/>
        </p:nvSpPr>
        <p:spPr>
          <a:xfrm>
            <a:off x="2152800" y="5516640"/>
            <a:ext cx="551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nstitute of Informatics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&amp;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Telecommunications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–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NCSR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“Demokritos”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0" name="Picture 54" descr=""/>
          <p:cNvPicPr/>
          <p:nvPr/>
        </p:nvPicPr>
        <p:blipFill>
          <a:blip r:embed="rId2"/>
          <a:stretch/>
        </p:blipFill>
        <p:spPr>
          <a:xfrm>
            <a:off x="250920" y="5084640"/>
            <a:ext cx="1025280" cy="1024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8305560" y="6248160"/>
            <a:ext cx="685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9A712-FD74-4B3C-9C6C-B1983374615D}" type="slidenum">
              <a:rPr b="0" i="1" lang="en-US" sz="1400" spc="-1" strike="noStrike">
                <a:solidFill>
                  <a:srgbClr val="66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5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6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7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68F83-DA3C-4063-B68B-AF3087154467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3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8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9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0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5DBBB-412A-4D6C-B16F-92C5533086F8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8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1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2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3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C03F8-7C84-4AC2-89F3-1B83A69DDBF3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2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4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5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6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443A0-37B2-4D0B-8315-6187D00AC4EE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7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7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18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19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8FEED-CF82-448E-B21E-A3967C54AF86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1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0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1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2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BDDF5-DB99-4C2C-88E9-01077C623DBE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6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3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4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5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A7B9F-178D-4CC5-B669-437A7F89306A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15.png"/><Relationship Id="rId28" Type="http://schemas.openxmlformats.org/officeDocument/2006/relationships/image" Target="../media/image16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0.png"/><Relationship Id="rId36" Type="http://schemas.openxmlformats.org/officeDocument/2006/relationships/image" Target="../media/image34.png"/><Relationship Id="rId37" Type="http://schemas.openxmlformats.org/officeDocument/2006/relationships/image" Target="../media/image35.png"/><Relationship Id="rId38" Type="http://schemas.openxmlformats.org/officeDocument/2006/relationships/image" Target="../media/image30.png"/><Relationship Id="rId39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iki.tcl.tk/21595#pagetoce30e53a1" TargetMode="Externa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llogon.org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4000" y="99072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iTcl and TclOO</a:t>
            </a:r>
            <a:br>
              <a:rPr sz="24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From the perspective of a simple user</a:t>
            </a:r>
            <a:br>
              <a:rPr sz="2000"/>
            </a:b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266720" y="2437920"/>
            <a:ext cx="4876920" cy="26672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Georgios Petasi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Software and Knowledge Engineering Laboratory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Institute of Informatics and Telecommunications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National Centre for Scientific Research “Demokritos”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Athens, Greece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petasis@iit.demokritos.g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argely a manual (and time consuming) effor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helper Tcl script to perform “easy” substitution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everal months were need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, a few portions could not be port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clOO has some limitation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3" marL="1568160" indent="-223920">
              <a:spcBef>
                <a:spcPts val="499"/>
              </a:spcBef>
              <a:buClr>
                <a:srgbClr val="0000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Or do I have a bad programming style?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ask is now largely finishe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nd the helper Tcl script got quite complex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d what about other application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about turning the conversion script into an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iTcl emulator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A45ED-BC86-4C4D-BFFB-A6ED31EE2C8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distance of a script that reformats code from an emulator is a simple “eval”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 have created a small package that emulates iTc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630 lines of cod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gnores less essential features (like protection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goal is to get my applications running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08CAB-CEC9-45F4-A83B-08094703DEB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6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58" name="Picture 2" descr="C:\Users\George\Pictures\Editor-myItcl.png"/>
          <p:cNvPicPr/>
          <p:nvPr/>
        </p:nvPicPr>
        <p:blipFill>
          <a:blip r:embed="rId1"/>
          <a:stretch/>
        </p:blipFill>
        <p:spPr>
          <a:xfrm>
            <a:off x="457200" y="914400"/>
            <a:ext cx="829620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4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quick and simple approach actuall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est application executes further than latest iTcl 4.0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3.x object variable references (“@itcl …”) are converted to TclOO equivalen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ut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t all code substitutions are performe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dding the “my” keyword to existing code is tricky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4 regular expressions are not enough to handle thi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 package that “parses” Tcl is not availabl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Finally I gave up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regular expressions for some cas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369C1-18B3-4EB5-8397-005359178D1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Difference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st notable differences between the two extension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configure/cget on TclOO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common variables across objects of the same clas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“static” class methods (methods that do not require an object to be called)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ifferent semantics for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specific method in the classes hierarchy of an object cannot be called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requires the keyword “my” while calling methods from inside of an 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6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85713-27A8-4BB7-928C-BD002F4C373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7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8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Difference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0520" y="1294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st notable differences between the two extension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automatically exports methods that start with a lowercase letter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facility for “local” to procedures objects (like itcl::local)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DD147-1CE9-40B6-9FDE-3BD73B78A96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Similariti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1981080" y="1295280"/>
          <a:ext cx="5181840" cy="259560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Tc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clO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etho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y metho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$thi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[self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chain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nex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tcl::sco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y varname 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nheri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super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tcl::bod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oo::define bod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</a:tbl>
          </a:graphicData>
        </a:graphic>
      </p:graphicFrame>
      <p:sp>
        <p:nvSpPr>
          <p:cNvPr id="576" name="Content Placeholder 2"/>
          <p:cNvSpPr/>
          <p:nvPr/>
        </p:nvSpPr>
        <p:spPr>
          <a:xfrm>
            <a:off x="380880" y="4038480"/>
            <a:ext cx="83822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teresting features of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verything subclasses 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oo::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mixin”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unknown” on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The “my” keywor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7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BA069-2AF3-47F2-A672-F31B3932CFB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9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4D823-FD79-4151-8758-15F315037FE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ase study: the Ellogon NLP platform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llogon is an infrastructure for natural language processing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managing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manually annotating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loading processing components, and apply them on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evelopment started in 1998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think with Tcl/Tk 8.1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~500.000 lines of C/C++/Tcl cod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lot of legacy code, especially in the GUI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widespread use of tile/ttk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OO (i.e. iTcl) in most parts of the cod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7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E0BC0-6798-45C4-B2E2-387194F36BF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8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Architect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91" name="Group 3"/>
          <p:cNvGrpSpPr/>
          <p:nvPr/>
        </p:nvGrpSpPr>
        <p:grpSpPr>
          <a:xfrm>
            <a:off x="576360" y="1143000"/>
            <a:ext cx="7958160" cy="3995640"/>
            <a:chOff x="576360" y="1143000"/>
            <a:chExt cx="7958160" cy="3995640"/>
          </a:xfrm>
        </p:grpSpPr>
        <p:sp>
          <p:nvSpPr>
            <p:cNvPr id="592" name="AutoShape 4"/>
            <p:cNvSpPr/>
            <p:nvPr/>
          </p:nvSpPr>
          <p:spPr>
            <a:xfrm>
              <a:off x="576360" y="1143000"/>
              <a:ext cx="7958160" cy="3995640"/>
            </a:xfrm>
            <a:prstGeom prst="roundRect">
              <a:avLst>
                <a:gd name="adj" fmla="val 1755"/>
              </a:avLst>
            </a:prstGeom>
            <a:solidFill>
              <a:srgbClr val="ffffff"/>
            </a:soli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3" name="AutoShape 5"/>
            <p:cNvSpPr/>
            <p:nvPr/>
          </p:nvSpPr>
          <p:spPr>
            <a:xfrm>
              <a:off x="576360" y="1143000"/>
              <a:ext cx="7958160" cy="28728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4" name="Line 6"/>
            <p:cNvSpPr/>
            <p:nvPr/>
          </p:nvSpPr>
          <p:spPr>
            <a:xfrm>
              <a:off x="576360" y="1430280"/>
              <a:ext cx="7958160" cy="180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595" name="Group 7"/>
          <p:cNvGrpSpPr/>
          <p:nvPr/>
        </p:nvGrpSpPr>
        <p:grpSpPr>
          <a:xfrm>
            <a:off x="614520" y="1467000"/>
            <a:ext cx="2700360" cy="1763640"/>
            <a:chOff x="614520" y="1467000"/>
            <a:chExt cx="2700360" cy="1763640"/>
          </a:xfrm>
        </p:grpSpPr>
        <p:sp>
          <p:nvSpPr>
            <p:cNvPr id="596" name="AutoShape 8"/>
            <p:cNvSpPr/>
            <p:nvPr/>
          </p:nvSpPr>
          <p:spPr>
            <a:xfrm>
              <a:off x="671760" y="1509840"/>
              <a:ext cx="2460600" cy="164952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3f2f7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7" name="AutoShape 9"/>
            <p:cNvSpPr/>
            <p:nvPr/>
          </p:nvSpPr>
          <p:spPr>
            <a:xfrm>
              <a:off x="671760" y="1509840"/>
              <a:ext cx="2460600" cy="59868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8" name="Line 10"/>
            <p:cNvSpPr/>
            <p:nvPr/>
          </p:nvSpPr>
          <p:spPr>
            <a:xfrm>
              <a:off x="671760" y="2113200"/>
              <a:ext cx="2460600" cy="144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9" name="Text Box 11"/>
            <p:cNvSpPr/>
            <p:nvPr/>
          </p:nvSpPr>
          <p:spPr>
            <a:xfrm>
              <a:off x="671760" y="1467000"/>
              <a:ext cx="2643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Language Processing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00" name="Picture 12" descr="execRed"/>
            <p:cNvPicPr/>
            <p:nvPr/>
          </p:nvPicPr>
          <p:blipFill>
            <a:blip r:embed="rId1"/>
            <a:stretch/>
          </p:blipFill>
          <p:spPr>
            <a:xfrm>
              <a:off x="614520" y="2009880"/>
              <a:ext cx="1220760" cy="122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Picture 13" descr="exec"/>
            <p:cNvPicPr/>
            <p:nvPr/>
          </p:nvPicPr>
          <p:blipFill>
            <a:blip r:embed="rId2"/>
            <a:stretch/>
          </p:blipFill>
          <p:spPr>
            <a:xfrm>
              <a:off x="1044720" y="2011680"/>
              <a:ext cx="121932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14" descr="execOrange"/>
            <p:cNvPicPr/>
            <p:nvPr/>
          </p:nvPicPr>
          <p:blipFill>
            <a:blip r:embed="rId3"/>
            <a:stretch/>
          </p:blipFill>
          <p:spPr>
            <a:xfrm>
              <a:off x="1511280" y="2005200"/>
              <a:ext cx="1225800" cy="122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Picture 15" descr="execGreen"/>
            <p:cNvPicPr/>
            <p:nvPr/>
          </p:nvPicPr>
          <p:blipFill>
            <a:blip r:embed="rId4"/>
            <a:stretch/>
          </p:blipFill>
          <p:spPr>
            <a:xfrm>
              <a:off x="1982880" y="2006640"/>
              <a:ext cx="1220760" cy="122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4" name="Group 16"/>
          <p:cNvGrpSpPr/>
          <p:nvPr/>
        </p:nvGrpSpPr>
        <p:grpSpPr>
          <a:xfrm>
            <a:off x="3768840" y="1467000"/>
            <a:ext cx="3000240" cy="1691640"/>
            <a:chOff x="3768840" y="1467000"/>
            <a:chExt cx="3000240" cy="1691640"/>
          </a:xfrm>
        </p:grpSpPr>
        <p:grpSp>
          <p:nvGrpSpPr>
            <p:cNvPr id="605" name="Group 17"/>
            <p:cNvGrpSpPr/>
            <p:nvPr/>
          </p:nvGrpSpPr>
          <p:grpSpPr>
            <a:xfrm>
              <a:off x="3768840" y="1467000"/>
              <a:ext cx="3000240" cy="1691640"/>
              <a:chOff x="3768840" y="1467000"/>
              <a:chExt cx="3000240" cy="1691640"/>
            </a:xfrm>
          </p:grpSpPr>
          <p:grpSp>
            <p:nvGrpSpPr>
              <p:cNvPr id="606" name="Group 18"/>
              <p:cNvGrpSpPr/>
              <p:nvPr/>
            </p:nvGrpSpPr>
            <p:grpSpPr>
              <a:xfrm>
                <a:off x="3768840" y="1467000"/>
                <a:ext cx="3000240" cy="1691640"/>
                <a:chOff x="3768840" y="1467000"/>
                <a:chExt cx="3000240" cy="1691640"/>
              </a:xfrm>
            </p:grpSpPr>
            <p:sp>
              <p:nvSpPr>
                <p:cNvPr id="607" name="AutoShape 19"/>
                <p:cNvSpPr/>
                <p:nvPr/>
              </p:nvSpPr>
              <p:spPr>
                <a:xfrm>
                  <a:off x="3768840" y="1509480"/>
                  <a:ext cx="3000240" cy="1649160"/>
                </a:xfrm>
                <a:prstGeom prst="roundRect">
                  <a:avLst>
                    <a:gd name="adj" fmla="val 1755"/>
                  </a:avLst>
                </a:prstGeom>
                <a:gradFill rotWithShape="0">
                  <a:gsLst>
                    <a:gs pos="0">
                      <a:srgbClr val="f3f2f7"/>
                    </a:gs>
                    <a:gs pos="100000">
                      <a:srgbClr val="fdfdfb">
                        <a:alpha val="0"/>
                      </a:srgbClr>
                    </a:gs>
                  </a:gsLst>
                  <a:lin ang="0"/>
                </a:gradFill>
                <a:ln w="6480">
                  <a:solidFill>
                    <a:srgbClr val="94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08" name="AutoShape 20"/>
                <p:cNvSpPr/>
                <p:nvPr/>
              </p:nvSpPr>
              <p:spPr>
                <a:xfrm>
                  <a:off x="3768840" y="1509480"/>
                  <a:ext cx="3000240" cy="286920"/>
                </a:xfrm>
                <a:prstGeom prst="roundRect">
                  <a:avLst>
                    <a:gd name="adj" fmla="val 1755"/>
                  </a:avLst>
                </a:prstGeom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e8e6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09" name="Line 21"/>
                <p:cNvSpPr/>
                <p:nvPr/>
              </p:nvSpPr>
              <p:spPr>
                <a:xfrm>
                  <a:off x="3768840" y="1796760"/>
                  <a:ext cx="3000240" cy="1440"/>
                </a:xfrm>
                <a:prstGeom prst="line">
                  <a:avLst/>
                </a:prstGeom>
                <a:ln w="6480">
                  <a:solidFill>
                    <a:srgbClr val="94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10" name="Text Box 22"/>
                <p:cNvSpPr/>
                <p:nvPr/>
              </p:nvSpPr>
              <p:spPr>
                <a:xfrm>
                  <a:off x="3779640" y="1467000"/>
                  <a:ext cx="2614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76889c"/>
                      </a:solidFill>
                      <a:latin typeface="Arial"/>
                    </a:rPr>
                    <a:t>Graphical Interface</a:t>
                  </a:r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</p:grpSp>
          <p:pic>
            <p:nvPicPr>
              <p:cNvPr id="611" name="Picture 23" descr="EllogonMainWindows"/>
              <p:cNvPicPr/>
              <p:nvPr/>
            </p:nvPicPr>
            <p:blipFill>
              <a:blip r:embed="rId5"/>
              <a:stretch/>
            </p:blipFill>
            <p:spPr>
              <a:xfrm>
                <a:off x="3852720" y="1836720"/>
                <a:ext cx="1533240" cy="1118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2" name="Picture 24" descr="Ion2"/>
              <p:cNvPicPr/>
              <p:nvPr/>
            </p:nvPicPr>
            <p:blipFill>
              <a:blip r:embed="rId6"/>
              <a:stretch/>
            </p:blipFill>
            <p:spPr>
              <a:xfrm>
                <a:off x="4968720" y="1938240"/>
                <a:ext cx="1723680" cy="11109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13" name="Picture 25" descr="kappfinder"/>
            <p:cNvPicPr/>
            <p:nvPr/>
          </p:nvPicPr>
          <p:blipFill>
            <a:blip r:embed="rId7"/>
            <a:stretch/>
          </p:blipFill>
          <p:spPr>
            <a:xfrm>
              <a:off x="6200640" y="1477800"/>
              <a:ext cx="568080" cy="56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4" name="Group 26"/>
          <p:cNvGrpSpPr/>
          <p:nvPr/>
        </p:nvGrpSpPr>
        <p:grpSpPr>
          <a:xfrm>
            <a:off x="1300320" y="3209760"/>
            <a:ext cx="1040760" cy="489240"/>
            <a:chOff x="1300320" y="3209760"/>
            <a:chExt cx="1040760" cy="489240"/>
          </a:xfrm>
        </p:grpSpPr>
        <p:pic>
          <p:nvPicPr>
            <p:cNvPr id="615" name="Picture 27" descr="ArrowDown"/>
            <p:cNvPicPr/>
            <p:nvPr/>
          </p:nvPicPr>
          <p:blipFill>
            <a:blip r:embed="rId8"/>
            <a:stretch/>
          </p:blipFill>
          <p:spPr>
            <a:xfrm>
              <a:off x="130032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Picture 28" descr="ArrowDown"/>
            <p:cNvPicPr/>
            <p:nvPr/>
          </p:nvPicPr>
          <p:blipFill>
            <a:blip r:embed="rId9"/>
            <a:stretch/>
          </p:blipFill>
          <p:spPr>
            <a:xfrm>
              <a:off x="182376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7" name="Group 29"/>
          <p:cNvGrpSpPr/>
          <p:nvPr/>
        </p:nvGrpSpPr>
        <p:grpSpPr>
          <a:xfrm>
            <a:off x="4645080" y="3209760"/>
            <a:ext cx="1038240" cy="489240"/>
            <a:chOff x="4645080" y="3209760"/>
            <a:chExt cx="1038240" cy="489240"/>
          </a:xfrm>
        </p:grpSpPr>
        <p:pic>
          <p:nvPicPr>
            <p:cNvPr id="618" name="Picture 30" descr="ArrowDown"/>
            <p:cNvPicPr/>
            <p:nvPr/>
          </p:nvPicPr>
          <p:blipFill>
            <a:blip r:embed="rId10"/>
            <a:stretch/>
          </p:blipFill>
          <p:spPr>
            <a:xfrm>
              <a:off x="516600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Picture 31" descr="ArrowDown"/>
            <p:cNvPicPr/>
            <p:nvPr/>
          </p:nvPicPr>
          <p:blipFill>
            <a:blip r:embed="rId11"/>
            <a:stretch/>
          </p:blipFill>
          <p:spPr>
            <a:xfrm>
              <a:off x="4645080" y="3209760"/>
              <a:ext cx="51768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0" name="Group 32"/>
          <p:cNvGrpSpPr/>
          <p:nvPr/>
        </p:nvGrpSpPr>
        <p:grpSpPr>
          <a:xfrm>
            <a:off x="3200400" y="1790640"/>
            <a:ext cx="509760" cy="1057320"/>
            <a:chOff x="3200400" y="1790640"/>
            <a:chExt cx="509760" cy="1057320"/>
          </a:xfrm>
        </p:grpSpPr>
        <p:pic>
          <p:nvPicPr>
            <p:cNvPr id="621" name="Picture 33" descr="ArrowDown"/>
            <p:cNvPicPr/>
            <p:nvPr/>
          </p:nvPicPr>
          <p:blipFill>
            <a:blip r:embed="rId12"/>
            <a:stretch/>
          </p:blipFill>
          <p:spPr>
            <a:xfrm>
              <a:off x="3221280" y="1790640"/>
              <a:ext cx="488880" cy="5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Picture 34" descr="ArrowDown"/>
            <p:cNvPicPr/>
            <p:nvPr/>
          </p:nvPicPr>
          <p:blipFill>
            <a:blip r:embed="rId13"/>
            <a:stretch/>
          </p:blipFill>
          <p:spPr>
            <a:xfrm>
              <a:off x="3200400" y="2330280"/>
              <a:ext cx="489240" cy="51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3" name="Group 44"/>
          <p:cNvGrpSpPr/>
          <p:nvPr/>
        </p:nvGrpSpPr>
        <p:grpSpPr>
          <a:xfrm>
            <a:off x="6769080" y="1509840"/>
            <a:ext cx="1657080" cy="3522600"/>
            <a:chOff x="6769080" y="1509840"/>
            <a:chExt cx="1657080" cy="3522600"/>
          </a:xfrm>
        </p:grpSpPr>
        <p:sp>
          <p:nvSpPr>
            <p:cNvPr id="624" name="AutoShape 45"/>
            <p:cNvSpPr/>
            <p:nvPr/>
          </p:nvSpPr>
          <p:spPr>
            <a:xfrm>
              <a:off x="6987960" y="1509840"/>
              <a:ext cx="1438200" cy="3522600"/>
            </a:xfrm>
            <a:custGeom>
              <a:avLst/>
              <a:gdLst>
                <a:gd name="textAreaLeft" fmla="*/ 7200 w 1438200"/>
                <a:gd name="textAreaRight" fmla="*/ 1431000 w 1438200"/>
                <a:gd name="textAreaTop" fmla="*/ 7200 h 3522600"/>
                <a:gd name="textAreaBottom" fmla="*/ 3515400 h 3522600"/>
              </a:gdLst>
              <a:ahLst/>
              <a:rect l="textAreaLeft" t="textAreaTop" r="textAreaRight" b="textAreaBottom"/>
              <a:pathLst>
                <a:path w="21600" h="52897">
                  <a:moveTo>
                    <a:pt x="379" y="0"/>
                  </a:moveTo>
                  <a:arcTo wR="379" hR="379" stAng="16200000" swAng="-5400000"/>
                  <a:lnTo>
                    <a:pt x="0" y="52518"/>
                  </a:lnTo>
                  <a:arcTo wR="379" hR="379" stAng="10800000" swAng="-5400000"/>
                  <a:lnTo>
                    <a:pt x="21221" y="52897"/>
                  </a:lnTo>
                  <a:arcTo wR="379" hR="379" stAng="5400000" swAng="-5400000"/>
                  <a:lnTo>
                    <a:pt x="21600" y="379"/>
                  </a:lnTo>
                  <a:arcTo wR="379" hR="379" stAng="0" swAng="-5400000"/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5" name="AutoShape 46"/>
            <p:cNvSpPr/>
            <p:nvPr/>
          </p:nvSpPr>
          <p:spPr>
            <a:xfrm>
              <a:off x="6991200" y="1514520"/>
              <a:ext cx="282600" cy="3516120"/>
            </a:xfrm>
            <a:custGeom>
              <a:avLst/>
              <a:gdLst>
                <a:gd name="textAreaLeft" fmla="*/ 8280 w 282600"/>
                <a:gd name="textAreaRight" fmla="*/ 274320 w 282600"/>
                <a:gd name="textAreaTop" fmla="*/ 8280 h 3516120"/>
                <a:gd name="textAreaBottom" fmla="*/ 3507840 h 3516120"/>
              </a:gdLst>
              <a:ahLst/>
              <a:rect l="textAreaLeft" t="textAreaTop" r="textAreaRight" b="textAreaBottom"/>
              <a:pathLst>
                <a:path w="21600" h="268434">
                  <a:moveTo>
                    <a:pt x="2184" y="0"/>
                  </a:moveTo>
                  <a:arcTo wR="2184" hR="2184" stAng="16200000" swAng="-5400000"/>
                  <a:lnTo>
                    <a:pt x="0" y="266250"/>
                  </a:lnTo>
                  <a:arcTo wR="2184" hR="2184" stAng="10800000" swAng="-5400000"/>
                  <a:lnTo>
                    <a:pt x="19416" y="268434"/>
                  </a:lnTo>
                  <a:arcTo wR="2184" hR="2184" stAng="5400000" swAng="-5400000"/>
                  <a:lnTo>
                    <a:pt x="21600" y="2184"/>
                  </a:lnTo>
                  <a:arcTo wR="2184" hR="2184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6" name="Text Box 47"/>
            <p:cNvSpPr/>
            <p:nvPr/>
          </p:nvSpPr>
          <p:spPr>
            <a:xfrm flipV="1">
              <a:off x="6876720" y="2633760"/>
              <a:ext cx="454680" cy="22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Service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7" name="Text Box 48"/>
            <p:cNvSpPr/>
            <p:nvPr/>
          </p:nvSpPr>
          <p:spPr>
            <a:xfrm>
              <a:off x="7273800" y="1509840"/>
              <a:ext cx="1152360" cy="339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Internet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9900"/>
                  </a:solidFill>
                  <a:latin typeface="Arial"/>
                </a:rPr>
                <a:t>(HTTP, FTP, SOAP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Operating System Service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cc"/>
                  </a:solidFill>
                  <a:latin typeface="Arial"/>
                </a:rPr>
                <a:t>(ActiveX, COM, DDE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9900"/>
                  </a:solidFill>
                  <a:latin typeface="Arial"/>
                </a:rPr>
                <a:t>Database </a:t>
              </a:r>
              <a:r>
                <a:rPr b="1" lang="en-US" sz="1400" spc="-1" strike="noStrike">
                  <a:solidFill>
                    <a:srgbClr val="cc9900"/>
                  </a:solidFill>
                  <a:latin typeface="Arial"/>
                </a:rPr>
                <a:t>Connectivity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c9900"/>
                  </a:solidFill>
                  <a:latin typeface="Arial"/>
                </a:rPr>
                <a:t>(ODBC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76889c"/>
                  </a:solidFill>
                  <a:latin typeface="Arial"/>
                </a:rPr>
                <a:t>…</a:t>
              </a:r>
              <a:endParaRPr b="0" lang="en-US" sz="36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28" name="Picture 49" descr="ArrowDown"/>
            <p:cNvPicPr/>
            <p:nvPr/>
          </p:nvPicPr>
          <p:blipFill>
            <a:blip r:embed="rId15"/>
            <a:stretch/>
          </p:blipFill>
          <p:spPr>
            <a:xfrm>
              <a:off x="6802200" y="1971720"/>
              <a:ext cx="21924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Picture 50" descr="ArrowDown"/>
            <p:cNvPicPr/>
            <p:nvPr/>
          </p:nvPicPr>
          <p:blipFill>
            <a:blip r:embed="rId16"/>
            <a:stretch/>
          </p:blipFill>
          <p:spPr>
            <a:xfrm>
              <a:off x="6769080" y="2279520"/>
              <a:ext cx="21888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0" name="Picture 51" descr="ArrowDown"/>
            <p:cNvPicPr/>
            <p:nvPr/>
          </p:nvPicPr>
          <p:blipFill>
            <a:blip r:embed="rId17"/>
            <a:stretch/>
          </p:blipFill>
          <p:spPr>
            <a:xfrm>
              <a:off x="6789600" y="4511520"/>
              <a:ext cx="21888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Picture 52" descr="ArrowDown"/>
            <p:cNvPicPr/>
            <p:nvPr/>
          </p:nvPicPr>
          <p:blipFill>
            <a:blip r:embed="rId18"/>
            <a:stretch/>
          </p:blipFill>
          <p:spPr>
            <a:xfrm>
              <a:off x="6769080" y="4222800"/>
              <a:ext cx="218880" cy="23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2" name="Group 53"/>
          <p:cNvGrpSpPr/>
          <p:nvPr/>
        </p:nvGrpSpPr>
        <p:grpSpPr>
          <a:xfrm>
            <a:off x="576360" y="5403960"/>
            <a:ext cx="2738520" cy="887400"/>
            <a:chOff x="576360" y="5403960"/>
            <a:chExt cx="2738520" cy="887400"/>
          </a:xfrm>
        </p:grpSpPr>
        <p:sp>
          <p:nvSpPr>
            <p:cNvPr id="633" name="AutoShape 54"/>
            <p:cNvSpPr/>
            <p:nvPr/>
          </p:nvSpPr>
          <p:spPr>
            <a:xfrm>
              <a:off x="578160" y="5445000"/>
              <a:ext cx="2736720" cy="82260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4" name="AutoShape 55"/>
            <p:cNvSpPr/>
            <p:nvPr/>
          </p:nvSpPr>
          <p:spPr>
            <a:xfrm>
              <a:off x="576360" y="5446800"/>
              <a:ext cx="2738520" cy="82080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5" name="AutoShape 56"/>
            <p:cNvSpPr/>
            <p:nvPr/>
          </p:nvSpPr>
          <p:spPr>
            <a:xfrm>
              <a:off x="578160" y="5446800"/>
              <a:ext cx="2736720" cy="2872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6" name="Line 57"/>
            <p:cNvSpPr/>
            <p:nvPr/>
          </p:nvSpPr>
          <p:spPr>
            <a:xfrm>
              <a:off x="578160" y="5734080"/>
              <a:ext cx="27367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7" name="Text Box 58"/>
            <p:cNvSpPr/>
            <p:nvPr/>
          </p:nvSpPr>
          <p:spPr>
            <a:xfrm>
              <a:off x="576360" y="5403960"/>
              <a:ext cx="26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Operating System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38" name="Picture 59" descr="penguin"/>
            <p:cNvPicPr/>
            <p:nvPr/>
          </p:nvPicPr>
          <p:blipFill>
            <a:blip r:embed="rId19"/>
            <a:stretch/>
          </p:blipFill>
          <p:spPr>
            <a:xfrm>
              <a:off x="2756160" y="5770440"/>
              <a:ext cx="485640" cy="4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Picture 60" descr="Windows"/>
            <p:cNvPicPr/>
            <p:nvPr/>
          </p:nvPicPr>
          <p:blipFill>
            <a:blip r:embed="rId20"/>
            <a:stretch/>
          </p:blipFill>
          <p:spPr>
            <a:xfrm>
              <a:off x="2233800" y="5727600"/>
              <a:ext cx="528480" cy="56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Picture 61" descr="folder3"/>
            <p:cNvPicPr/>
            <p:nvPr/>
          </p:nvPicPr>
          <p:blipFill>
            <a:blip r:embed="rId21"/>
            <a:stretch/>
          </p:blipFill>
          <p:spPr>
            <a:xfrm>
              <a:off x="613080" y="5745240"/>
              <a:ext cx="4856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Picture 62" descr="folder3_green"/>
            <p:cNvPicPr/>
            <p:nvPr/>
          </p:nvPicPr>
          <p:blipFill>
            <a:blip r:embed="rId22"/>
            <a:stretch/>
          </p:blipFill>
          <p:spPr>
            <a:xfrm>
              <a:off x="936720" y="5745240"/>
              <a:ext cx="48600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Picture 63" descr="folder3_grey"/>
            <p:cNvPicPr/>
            <p:nvPr/>
          </p:nvPicPr>
          <p:blipFill>
            <a:blip r:embed="rId23"/>
            <a:stretch/>
          </p:blipFill>
          <p:spPr>
            <a:xfrm>
              <a:off x="1260720" y="5745240"/>
              <a:ext cx="4856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3" name="Picture 64" descr="folder3_yellow"/>
            <p:cNvPicPr/>
            <p:nvPr/>
          </p:nvPicPr>
          <p:blipFill>
            <a:blip r:embed="rId24"/>
            <a:stretch/>
          </p:blipFill>
          <p:spPr>
            <a:xfrm>
              <a:off x="1603440" y="5745240"/>
              <a:ext cx="486000" cy="48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4" name="Group 68"/>
          <p:cNvGrpSpPr/>
          <p:nvPr/>
        </p:nvGrpSpPr>
        <p:grpSpPr>
          <a:xfrm>
            <a:off x="7461360" y="5427720"/>
            <a:ext cx="1071360" cy="846000"/>
            <a:chOff x="7461360" y="5427720"/>
            <a:chExt cx="1071360" cy="846000"/>
          </a:xfrm>
        </p:grpSpPr>
        <p:sp>
          <p:nvSpPr>
            <p:cNvPr id="645" name="AutoShape 69"/>
            <p:cNvSpPr/>
            <p:nvPr/>
          </p:nvSpPr>
          <p:spPr>
            <a:xfrm>
              <a:off x="7462800" y="5451480"/>
              <a:ext cx="1069560" cy="82224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6" name="AutoShape 70"/>
            <p:cNvSpPr/>
            <p:nvPr/>
          </p:nvSpPr>
          <p:spPr>
            <a:xfrm>
              <a:off x="7461360" y="5452920"/>
              <a:ext cx="1071360" cy="82080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0000">
                    <a:alpha val="50196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7" name="AutoShape 71"/>
            <p:cNvSpPr/>
            <p:nvPr/>
          </p:nvSpPr>
          <p:spPr>
            <a:xfrm>
              <a:off x="7462800" y="5452920"/>
              <a:ext cx="1069560" cy="18756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8" name="Line 72"/>
            <p:cNvSpPr/>
            <p:nvPr/>
          </p:nvSpPr>
          <p:spPr>
            <a:xfrm>
              <a:off x="7462800" y="5645160"/>
              <a:ext cx="106956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9" name="Text Box 73"/>
            <p:cNvSpPr/>
            <p:nvPr/>
          </p:nvSpPr>
          <p:spPr>
            <a:xfrm>
              <a:off x="746136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???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50" name="Picture 74" descr="folder2_grey"/>
            <p:cNvPicPr/>
            <p:nvPr/>
          </p:nvPicPr>
          <p:blipFill>
            <a:blip r:embed="rId25"/>
            <a:stretch/>
          </p:blipFill>
          <p:spPr>
            <a:xfrm>
              <a:off x="7464240" y="5662440"/>
              <a:ext cx="607680" cy="60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Picture 75" descr="unknown2"/>
            <p:cNvPicPr/>
            <p:nvPr/>
          </p:nvPicPr>
          <p:blipFill>
            <a:blip r:embed="rId26"/>
            <a:stretch/>
          </p:blipFill>
          <p:spPr>
            <a:xfrm>
              <a:off x="7856280" y="5643360"/>
              <a:ext cx="593280" cy="59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2" name="Group 76"/>
          <p:cNvGrpSpPr/>
          <p:nvPr/>
        </p:nvGrpSpPr>
        <p:grpSpPr>
          <a:xfrm>
            <a:off x="1405080" y="4995720"/>
            <a:ext cx="1055160" cy="489240"/>
            <a:chOff x="1405080" y="4995720"/>
            <a:chExt cx="1055160" cy="489240"/>
          </a:xfrm>
        </p:grpSpPr>
        <p:pic>
          <p:nvPicPr>
            <p:cNvPr id="653" name="Picture 77" descr="ArrowDown"/>
            <p:cNvPicPr/>
            <p:nvPr/>
          </p:nvPicPr>
          <p:blipFill>
            <a:blip r:embed="rId27"/>
            <a:stretch/>
          </p:blipFill>
          <p:spPr>
            <a:xfrm>
              <a:off x="1942920" y="499572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Picture 78" descr="ArrowDown"/>
            <p:cNvPicPr/>
            <p:nvPr/>
          </p:nvPicPr>
          <p:blipFill>
            <a:blip r:embed="rId28"/>
            <a:stretch/>
          </p:blipFill>
          <p:spPr>
            <a:xfrm>
              <a:off x="1405080" y="4995720"/>
              <a:ext cx="51732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5" name="Group 79"/>
          <p:cNvGrpSpPr/>
          <p:nvPr/>
        </p:nvGrpSpPr>
        <p:grpSpPr>
          <a:xfrm>
            <a:off x="3600360" y="5019840"/>
            <a:ext cx="1082520" cy="1271160"/>
            <a:chOff x="3600360" y="5019840"/>
            <a:chExt cx="1082520" cy="1271160"/>
          </a:xfrm>
        </p:grpSpPr>
        <p:sp>
          <p:nvSpPr>
            <p:cNvPr id="656" name="AutoShape 80"/>
            <p:cNvSpPr/>
            <p:nvPr/>
          </p:nvSpPr>
          <p:spPr>
            <a:xfrm>
              <a:off x="3605040" y="5451480"/>
              <a:ext cx="106992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7" name="AutoShape 81"/>
            <p:cNvSpPr/>
            <p:nvPr/>
          </p:nvSpPr>
          <p:spPr>
            <a:xfrm>
              <a:off x="3603600" y="5452920"/>
              <a:ext cx="107136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0099cc">
                    <a:alpha val="50196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8" name="AutoShape 82"/>
            <p:cNvSpPr/>
            <p:nvPr/>
          </p:nvSpPr>
          <p:spPr>
            <a:xfrm>
              <a:off x="3605040" y="5452920"/>
              <a:ext cx="1069920" cy="18720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9" name="Line 83"/>
            <p:cNvSpPr/>
            <p:nvPr/>
          </p:nvSpPr>
          <p:spPr>
            <a:xfrm>
              <a:off x="3605040" y="5645160"/>
              <a:ext cx="10699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0" name="Text Box 84"/>
            <p:cNvSpPr/>
            <p:nvPr/>
          </p:nvSpPr>
          <p:spPr>
            <a:xfrm>
              <a:off x="360360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XML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61" name="Picture 85" descr="XMLDocument"/>
            <p:cNvPicPr/>
            <p:nvPr/>
          </p:nvPicPr>
          <p:blipFill>
            <a:blip r:embed="rId29"/>
            <a:stretch/>
          </p:blipFill>
          <p:spPr>
            <a:xfrm>
              <a:off x="4063680" y="5672160"/>
              <a:ext cx="619200" cy="61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86" descr="folder2"/>
            <p:cNvPicPr/>
            <p:nvPr/>
          </p:nvPicPr>
          <p:blipFill>
            <a:blip r:embed="rId30"/>
            <a:stretch/>
          </p:blipFill>
          <p:spPr>
            <a:xfrm>
              <a:off x="3600360" y="566424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3" name="Picture 87" descr="UpDownArrow"/>
            <p:cNvPicPr/>
            <p:nvPr/>
          </p:nvPicPr>
          <p:blipFill>
            <a:blip r:embed="rId31"/>
            <a:stretch/>
          </p:blipFill>
          <p:spPr>
            <a:xfrm>
              <a:off x="3997080" y="5019840"/>
              <a:ext cx="28116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4" name="Group 88"/>
          <p:cNvGrpSpPr/>
          <p:nvPr/>
        </p:nvGrpSpPr>
        <p:grpSpPr>
          <a:xfrm>
            <a:off x="4746600" y="5019840"/>
            <a:ext cx="1071360" cy="1256760"/>
            <a:chOff x="4746600" y="5019840"/>
            <a:chExt cx="1071360" cy="1256760"/>
          </a:xfrm>
        </p:grpSpPr>
        <p:sp>
          <p:nvSpPr>
            <p:cNvPr id="665" name="AutoShape 89"/>
            <p:cNvSpPr/>
            <p:nvPr/>
          </p:nvSpPr>
          <p:spPr>
            <a:xfrm>
              <a:off x="4748040" y="5451480"/>
              <a:ext cx="106992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6" name="AutoShape 90"/>
            <p:cNvSpPr/>
            <p:nvPr/>
          </p:nvSpPr>
          <p:spPr>
            <a:xfrm>
              <a:off x="4746600" y="5452920"/>
              <a:ext cx="107136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008000">
                    <a:alpha val="25098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7" name="AutoShape 91"/>
            <p:cNvSpPr/>
            <p:nvPr/>
          </p:nvSpPr>
          <p:spPr>
            <a:xfrm>
              <a:off x="4748040" y="5452920"/>
              <a:ext cx="1069920" cy="18720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8" name="Line 92"/>
            <p:cNvSpPr/>
            <p:nvPr/>
          </p:nvSpPr>
          <p:spPr>
            <a:xfrm>
              <a:off x="4748040" y="5645160"/>
              <a:ext cx="10699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9" name="Text Box 93"/>
            <p:cNvSpPr/>
            <p:nvPr/>
          </p:nvSpPr>
          <p:spPr>
            <a:xfrm>
              <a:off x="474660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Ellogon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70" name="Picture 94" descr="unknown"/>
            <p:cNvPicPr/>
            <p:nvPr/>
          </p:nvPicPr>
          <p:blipFill>
            <a:blip r:embed="rId32"/>
            <a:stretch/>
          </p:blipFill>
          <p:spPr>
            <a:xfrm>
              <a:off x="5209920" y="566892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" name="Picture 95" descr="folder2_green"/>
            <p:cNvPicPr/>
            <p:nvPr/>
          </p:nvPicPr>
          <p:blipFill>
            <a:blip r:embed="rId33"/>
            <a:stretch/>
          </p:blipFill>
          <p:spPr>
            <a:xfrm>
              <a:off x="4746600" y="5665680"/>
              <a:ext cx="60768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2" name="Picture 96" descr="EllogonLogo_EGear"/>
            <p:cNvPicPr/>
            <p:nvPr/>
          </p:nvPicPr>
          <p:blipFill>
            <a:blip r:embed="rId34"/>
            <a:stretch/>
          </p:blipFill>
          <p:spPr>
            <a:xfrm>
              <a:off x="5209920" y="5861160"/>
              <a:ext cx="335160" cy="33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3" name="Picture 97" descr="UpDownArrow"/>
            <p:cNvPicPr/>
            <p:nvPr/>
          </p:nvPicPr>
          <p:blipFill>
            <a:blip r:embed="rId35"/>
            <a:stretch/>
          </p:blipFill>
          <p:spPr>
            <a:xfrm>
              <a:off x="5119560" y="5019840"/>
              <a:ext cx="28080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4" name="Group 98"/>
          <p:cNvGrpSpPr/>
          <p:nvPr/>
        </p:nvGrpSpPr>
        <p:grpSpPr>
          <a:xfrm>
            <a:off x="5881680" y="5019840"/>
            <a:ext cx="1521000" cy="1267920"/>
            <a:chOff x="5881680" y="5019840"/>
            <a:chExt cx="1521000" cy="1267920"/>
          </a:xfrm>
        </p:grpSpPr>
        <p:sp>
          <p:nvSpPr>
            <p:cNvPr id="675" name="AutoShape 99"/>
            <p:cNvSpPr/>
            <p:nvPr/>
          </p:nvSpPr>
          <p:spPr>
            <a:xfrm>
              <a:off x="5883480" y="5451480"/>
              <a:ext cx="151920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6" name="AutoShape 100"/>
            <p:cNvSpPr/>
            <p:nvPr/>
          </p:nvSpPr>
          <p:spPr>
            <a:xfrm>
              <a:off x="5881680" y="5452920"/>
              <a:ext cx="152100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7" name="AutoShape 101"/>
            <p:cNvSpPr/>
            <p:nvPr/>
          </p:nvSpPr>
          <p:spPr>
            <a:xfrm>
              <a:off x="5883480" y="5452920"/>
              <a:ext cx="1519200" cy="19332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8" name="Line 102"/>
            <p:cNvSpPr/>
            <p:nvPr/>
          </p:nvSpPr>
          <p:spPr>
            <a:xfrm>
              <a:off x="5883480" y="5645160"/>
              <a:ext cx="151920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9" name="Text Box 103"/>
            <p:cNvSpPr/>
            <p:nvPr/>
          </p:nvSpPr>
          <p:spPr>
            <a:xfrm>
              <a:off x="5881680" y="5427720"/>
              <a:ext cx="1521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Databases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80" name="Picture 104" descr="folder2_yellow"/>
            <p:cNvPicPr/>
            <p:nvPr/>
          </p:nvPicPr>
          <p:blipFill>
            <a:blip r:embed="rId36"/>
            <a:stretch/>
          </p:blipFill>
          <p:spPr>
            <a:xfrm>
              <a:off x="6078600" y="566892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" name="Picture 105" descr="spreadsheet"/>
            <p:cNvPicPr/>
            <p:nvPr/>
          </p:nvPicPr>
          <p:blipFill>
            <a:blip r:embed="rId37"/>
            <a:stretch/>
          </p:blipFill>
          <p:spPr>
            <a:xfrm>
              <a:off x="6507360" y="568008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" name="Picture 106" descr="UpDownArrow"/>
            <p:cNvPicPr/>
            <p:nvPr/>
          </p:nvPicPr>
          <p:blipFill>
            <a:blip r:embed="rId38"/>
            <a:stretch/>
          </p:blipFill>
          <p:spPr>
            <a:xfrm>
              <a:off x="6380280" y="5019840"/>
              <a:ext cx="28116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3" name="Group 110"/>
          <p:cNvGrpSpPr/>
          <p:nvPr/>
        </p:nvGrpSpPr>
        <p:grpSpPr>
          <a:xfrm>
            <a:off x="684360" y="3699000"/>
            <a:ext cx="6084720" cy="1333440"/>
            <a:chOff x="684360" y="3699000"/>
            <a:chExt cx="6084720" cy="1333440"/>
          </a:xfrm>
        </p:grpSpPr>
        <p:sp>
          <p:nvSpPr>
            <p:cNvPr id="684" name="AutoShape 36"/>
            <p:cNvSpPr/>
            <p:nvPr/>
          </p:nvSpPr>
          <p:spPr>
            <a:xfrm>
              <a:off x="684360" y="3741840"/>
              <a:ext cx="6084720" cy="12906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008000">
                    <a:alpha val="15294"/>
                  </a:srgbClr>
                </a:gs>
                <a:gs pos="50000">
                  <a:srgbClr val="ccffcc">
                    <a:alpha val="15294"/>
                  </a:srgbClr>
                </a:gs>
                <a:gs pos="100000">
                  <a:srgbClr val="008000">
                    <a:alpha val="15294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5" name="AutoShape 37"/>
            <p:cNvSpPr/>
            <p:nvPr/>
          </p:nvSpPr>
          <p:spPr>
            <a:xfrm>
              <a:off x="684360" y="3741840"/>
              <a:ext cx="6084720" cy="2872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6" name="Line 38"/>
            <p:cNvSpPr/>
            <p:nvPr/>
          </p:nvSpPr>
          <p:spPr>
            <a:xfrm>
              <a:off x="684360" y="4029120"/>
              <a:ext cx="6084720" cy="144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7" name="Text Box 39"/>
            <p:cNvSpPr/>
            <p:nvPr/>
          </p:nvSpPr>
          <p:spPr>
            <a:xfrm>
              <a:off x="706320" y="3699000"/>
              <a:ext cx="530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Collection – Document Manager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grpSp>
          <p:nvGrpSpPr>
            <p:cNvPr id="688" name="Group 65"/>
            <p:cNvGrpSpPr/>
            <p:nvPr/>
          </p:nvGrpSpPr>
          <p:grpSpPr>
            <a:xfrm>
              <a:off x="3941640" y="4424400"/>
              <a:ext cx="2755440" cy="606240"/>
              <a:chOff x="3941640" y="4424400"/>
              <a:chExt cx="2755440" cy="606240"/>
            </a:xfrm>
          </p:grpSpPr>
          <p:sp>
            <p:nvSpPr>
              <p:cNvPr id="689" name="AutoShape 66"/>
              <p:cNvSpPr/>
              <p:nvPr/>
            </p:nvSpPr>
            <p:spPr>
              <a:xfrm>
                <a:off x="3941640" y="4424400"/>
                <a:ext cx="2754000" cy="606240"/>
              </a:xfrm>
              <a:prstGeom prst="roundRect">
                <a:avLst>
                  <a:gd name="adj" fmla="val 7144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690" name="AutoShape 67"/>
              <p:cNvSpPr/>
              <p:nvPr/>
            </p:nvSpPr>
            <p:spPr>
              <a:xfrm>
                <a:off x="3941640" y="4425840"/>
                <a:ext cx="2755440" cy="604800"/>
              </a:xfrm>
              <a:prstGeom prst="roundRect">
                <a:avLst>
                  <a:gd name="adj" fmla="val 5801"/>
                </a:avLst>
              </a:prstGeom>
              <a:gradFill rotWithShape="0">
                <a:gsLst>
                  <a:gs pos="0">
                    <a:srgbClr val="ffcc99">
                      <a:alpha val="60392"/>
                    </a:srgbClr>
                  </a:gs>
                  <a:gs pos="100000">
                    <a:srgbClr val="ffe5cb">
                      <a:alpha val="60392"/>
                    </a:srgbClr>
                  </a:gs>
                </a:gsLst>
                <a:lin ang="5400000"/>
              </a:gradFill>
              <a:ln w="6480">
                <a:solidFill>
                  <a:srgbClr val="9492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76889c"/>
                    </a:solidFill>
                    <a:latin typeface="Arial"/>
                  </a:rPr>
                  <a:t>Storage Format Abstraction Layer</a:t>
                </a:r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sp>
          <p:nvSpPr>
            <p:cNvPr id="691" name="AutoShape 107"/>
            <p:cNvSpPr/>
            <p:nvPr/>
          </p:nvSpPr>
          <p:spPr>
            <a:xfrm>
              <a:off x="1056960" y="4157640"/>
              <a:ext cx="1712520" cy="868320"/>
            </a:xfrm>
            <a:prstGeom prst="flowChartAlternateProcess">
              <a:avLst/>
            </a:prstGeom>
            <a:gradFill rotWithShape="0">
              <a:gsLst>
                <a:gs pos="0">
                  <a:srgbClr val="cfdfff"/>
                </a:gs>
                <a:gs pos="50000">
                  <a:srgbClr val="a1c0ff"/>
                </a:gs>
                <a:gs pos="100000">
                  <a:srgbClr val="cfd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3399"/>
                  </a:solidFill>
                  <a:latin typeface="Arial"/>
                </a:rPr>
                <a:t>C++ API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92" name="AutoShape 108"/>
            <p:cNvSpPr/>
            <p:nvPr/>
          </p:nvSpPr>
          <p:spPr>
            <a:xfrm>
              <a:off x="1258560" y="4540320"/>
              <a:ext cx="1290240" cy="409320"/>
            </a:xfrm>
            <a:prstGeom prst="flowChartAlternateProcess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0080"/>
                  </a:solidFill>
                  <a:latin typeface="Arial"/>
                </a:rPr>
                <a:t>C API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93" name="AutoShape 109"/>
            <p:cNvSpPr/>
            <p:nvPr/>
          </p:nvSpPr>
          <p:spPr>
            <a:xfrm>
              <a:off x="2373120" y="4613400"/>
              <a:ext cx="1726920" cy="233280"/>
            </a:xfrm>
            <a:prstGeom prst="leftRightArrow">
              <a:avLst>
                <a:gd name="adj1" fmla="val 50000"/>
                <a:gd name="adj2" fmla="val 147370"/>
              </a:avLst>
            </a:prstGeom>
            <a:gradFill rotWithShape="0">
              <a:gsLst>
                <a:gs pos="0">
                  <a:srgbClr val="ccffcc"/>
                </a:gs>
                <a:gs pos="50000">
                  <a:srgbClr val="00ff00"/>
                </a:gs>
                <a:gs pos="100000">
                  <a:srgbClr val="ccffcc"/>
                </a:gs>
              </a:gsLst>
              <a:lin ang="0"/>
            </a:gra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694" name="Slide Number Placeholder 107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9B5B7-D229-45CE-896A-FBF28E2235F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5" name="Date Placeholder 10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6" name="Footer Placeholder 108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indefinite"/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indefinite"/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indefinite"/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indefinite"/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indefinite"/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: plug-ins in many programming languag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8" name="Group 14"/>
          <p:cNvGrpSpPr/>
          <p:nvPr/>
        </p:nvGrpSpPr>
        <p:grpSpPr>
          <a:xfrm>
            <a:off x="609480" y="1233360"/>
            <a:ext cx="7813440" cy="4969080"/>
            <a:chOff x="609480" y="1233360"/>
            <a:chExt cx="7813440" cy="4969080"/>
          </a:xfrm>
        </p:grpSpPr>
        <p:sp>
          <p:nvSpPr>
            <p:cNvPr id="699" name="AutoShape 15"/>
            <p:cNvSpPr/>
            <p:nvPr/>
          </p:nvSpPr>
          <p:spPr>
            <a:xfrm>
              <a:off x="609480" y="1233360"/>
              <a:ext cx="7813440" cy="4969080"/>
            </a:xfrm>
            <a:prstGeom prst="roundRect">
              <a:avLst>
                <a:gd name="adj" fmla="val 1755"/>
              </a:avLst>
            </a:prstGeom>
            <a:solidFill>
              <a:srgbClr val="ffffff"/>
            </a:soli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0" name="AutoShape 16"/>
            <p:cNvSpPr/>
            <p:nvPr/>
          </p:nvSpPr>
          <p:spPr>
            <a:xfrm>
              <a:off x="609480" y="1233360"/>
              <a:ext cx="7813440" cy="2876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1" name="Line 17"/>
            <p:cNvSpPr/>
            <p:nvPr/>
          </p:nvSpPr>
          <p:spPr>
            <a:xfrm>
              <a:off x="609480" y="1521000"/>
              <a:ext cx="781344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02" name="Group 13"/>
          <p:cNvGrpSpPr/>
          <p:nvPr/>
        </p:nvGrpSpPr>
        <p:grpSpPr>
          <a:xfrm>
            <a:off x="755640" y="1617840"/>
            <a:ext cx="3346200" cy="1019160"/>
            <a:chOff x="755640" y="1617840"/>
            <a:chExt cx="3346200" cy="1019160"/>
          </a:xfrm>
        </p:grpSpPr>
        <p:sp>
          <p:nvSpPr>
            <p:cNvPr id="703" name="AutoShape 7"/>
            <p:cNvSpPr/>
            <p:nvPr/>
          </p:nvSpPr>
          <p:spPr>
            <a:xfrm>
              <a:off x="755640" y="1665360"/>
              <a:ext cx="3346200" cy="957240"/>
            </a:xfrm>
            <a:prstGeom prst="roundRect">
              <a:avLst>
                <a:gd name="adj" fmla="val 10269"/>
              </a:avLst>
            </a:prstGeom>
            <a:gradFill rotWithShape="0">
              <a:gsLst>
                <a:gs pos="0">
                  <a:srgbClr val="d7f5ff"/>
                </a:gs>
                <a:gs pos="100000">
                  <a:srgbClr val="ffffff"/>
                </a:gs>
              </a:gsLst>
              <a:lin ang="0"/>
            </a:gradFill>
            <a:ln w="64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4" name="Text Box 8"/>
            <p:cNvSpPr/>
            <p:nvPr/>
          </p:nvSpPr>
          <p:spPr>
            <a:xfrm>
              <a:off x="1657440" y="1737000"/>
              <a:ext cx="2444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99cc"/>
                  </a:solidFill>
                  <a:latin typeface="Arial"/>
                </a:rPr>
                <a:t>Ellogon</a:t>
              </a:r>
              <a:endParaRPr b="0" lang="en-US" sz="4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705" name="Picture 11" descr="execBlueAdaptiveContrast"/>
            <p:cNvPicPr/>
            <p:nvPr/>
          </p:nvPicPr>
          <p:blipFill>
            <a:blip r:embed="rId1"/>
            <a:stretch/>
          </p:blipFill>
          <p:spPr>
            <a:xfrm>
              <a:off x="755640" y="1617840"/>
              <a:ext cx="1019160" cy="1019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6" name="Group 31"/>
          <p:cNvGrpSpPr/>
          <p:nvPr/>
        </p:nvGrpSpPr>
        <p:grpSpPr>
          <a:xfrm>
            <a:off x="3849840" y="2884320"/>
            <a:ext cx="3601440" cy="650880"/>
            <a:chOff x="3849840" y="2884320"/>
            <a:chExt cx="3601440" cy="650880"/>
          </a:xfrm>
        </p:grpSpPr>
        <p:pic>
          <p:nvPicPr>
            <p:cNvPr id="707" name="Picture 20" descr="execGreen"/>
            <p:cNvPicPr/>
            <p:nvPr/>
          </p:nvPicPr>
          <p:blipFill>
            <a:blip r:embed="rId2"/>
            <a:stretch/>
          </p:blipFill>
          <p:spPr>
            <a:xfrm>
              <a:off x="3849840" y="2884320"/>
              <a:ext cx="650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Text Box 21"/>
            <p:cNvSpPr/>
            <p:nvPr/>
          </p:nvSpPr>
          <p:spPr>
            <a:xfrm>
              <a:off x="4429080" y="2960640"/>
              <a:ext cx="302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33cc33"/>
                  </a:solidFill>
                  <a:latin typeface="Verdana"/>
                </a:rPr>
                <a:t>C/C++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09" name="Group 32"/>
          <p:cNvGrpSpPr/>
          <p:nvPr/>
        </p:nvGrpSpPr>
        <p:grpSpPr>
          <a:xfrm>
            <a:off x="3849840" y="3465360"/>
            <a:ext cx="3130560" cy="650880"/>
            <a:chOff x="3849840" y="3465360"/>
            <a:chExt cx="3130560" cy="650880"/>
          </a:xfrm>
        </p:grpSpPr>
        <p:pic>
          <p:nvPicPr>
            <p:cNvPr id="710" name="Picture 19" descr="execRed"/>
            <p:cNvPicPr/>
            <p:nvPr/>
          </p:nvPicPr>
          <p:blipFill>
            <a:blip r:embed="rId3"/>
            <a:stretch/>
          </p:blipFill>
          <p:spPr>
            <a:xfrm>
              <a:off x="3849840" y="3465360"/>
              <a:ext cx="6508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Text Box 22"/>
            <p:cNvSpPr/>
            <p:nvPr/>
          </p:nvSpPr>
          <p:spPr>
            <a:xfrm>
              <a:off x="4429440" y="3537000"/>
              <a:ext cx="255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9900"/>
                  </a:solidFill>
                  <a:latin typeface="Verdana"/>
                </a:rPr>
                <a:t>Java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2" name="Group 33"/>
          <p:cNvGrpSpPr/>
          <p:nvPr/>
        </p:nvGrpSpPr>
        <p:grpSpPr>
          <a:xfrm>
            <a:off x="3849840" y="4041720"/>
            <a:ext cx="2917440" cy="655560"/>
            <a:chOff x="3849840" y="4041720"/>
            <a:chExt cx="2917440" cy="655560"/>
          </a:xfrm>
        </p:grpSpPr>
        <p:pic>
          <p:nvPicPr>
            <p:cNvPr id="713" name="Picture 23" descr="execOrange"/>
            <p:cNvPicPr/>
            <p:nvPr/>
          </p:nvPicPr>
          <p:blipFill>
            <a:blip r:embed="rId4"/>
            <a:stretch/>
          </p:blipFill>
          <p:spPr>
            <a:xfrm>
              <a:off x="3849840" y="4041720"/>
              <a:ext cx="655560" cy="65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Text Box 24"/>
            <p:cNvSpPr/>
            <p:nvPr/>
          </p:nvSpPr>
          <p:spPr>
            <a:xfrm>
              <a:off x="4429080" y="4087800"/>
              <a:ext cx="233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cc00"/>
                  </a:solidFill>
                  <a:latin typeface="Verdana"/>
                </a:rPr>
                <a:t>Tcl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5" name="Group 34"/>
          <p:cNvGrpSpPr/>
          <p:nvPr/>
        </p:nvGrpSpPr>
        <p:grpSpPr>
          <a:xfrm>
            <a:off x="3849840" y="4616280"/>
            <a:ext cx="3130560" cy="650880"/>
            <a:chOff x="3849840" y="4616280"/>
            <a:chExt cx="3130560" cy="650880"/>
          </a:xfrm>
        </p:grpSpPr>
        <p:pic>
          <p:nvPicPr>
            <p:cNvPr id="716" name="Picture 25" descr="execDeepBlue"/>
            <p:cNvPicPr/>
            <p:nvPr/>
          </p:nvPicPr>
          <p:blipFill>
            <a:blip r:embed="rId5"/>
            <a:stretch/>
          </p:blipFill>
          <p:spPr>
            <a:xfrm>
              <a:off x="3849840" y="4616280"/>
              <a:ext cx="6508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Text Box 27"/>
            <p:cNvSpPr/>
            <p:nvPr/>
          </p:nvSpPr>
          <p:spPr>
            <a:xfrm>
              <a:off x="4428000" y="4689360"/>
              <a:ext cx="255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cc"/>
                  </a:solidFill>
                  <a:latin typeface="Verdana"/>
                </a:rPr>
                <a:t>Perl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8" name="Group 35"/>
          <p:cNvGrpSpPr/>
          <p:nvPr/>
        </p:nvGrpSpPr>
        <p:grpSpPr>
          <a:xfrm>
            <a:off x="3849840" y="5191200"/>
            <a:ext cx="3528360" cy="650880"/>
            <a:chOff x="3849840" y="5191200"/>
            <a:chExt cx="3528360" cy="650880"/>
          </a:xfrm>
        </p:grpSpPr>
        <p:pic>
          <p:nvPicPr>
            <p:cNvPr id="719" name="Picture 28" descr="execMustard"/>
            <p:cNvPicPr/>
            <p:nvPr/>
          </p:nvPicPr>
          <p:blipFill>
            <a:blip r:embed="rId6"/>
            <a:stretch/>
          </p:blipFill>
          <p:spPr>
            <a:xfrm>
              <a:off x="3849840" y="5191200"/>
              <a:ext cx="650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Text Box 30"/>
            <p:cNvSpPr/>
            <p:nvPr/>
          </p:nvSpPr>
          <p:spPr>
            <a:xfrm>
              <a:off x="4427640" y="5276880"/>
              <a:ext cx="295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cc00"/>
                  </a:solidFill>
                  <a:latin typeface="Verdana"/>
                </a:rPr>
                <a:t>Python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21" name="Group 41"/>
          <p:cNvGrpSpPr/>
          <p:nvPr/>
        </p:nvGrpSpPr>
        <p:grpSpPr>
          <a:xfrm>
            <a:off x="1071720" y="2622240"/>
            <a:ext cx="368280" cy="3219480"/>
            <a:chOff x="1071720" y="2622240"/>
            <a:chExt cx="368280" cy="3219480"/>
          </a:xfrm>
        </p:grpSpPr>
        <p:sp>
          <p:nvSpPr>
            <p:cNvPr id="722" name="AutoShape 42"/>
            <p:cNvSpPr/>
            <p:nvPr/>
          </p:nvSpPr>
          <p:spPr>
            <a:xfrm rot="16200000">
              <a:off x="-362520" y="4070160"/>
              <a:ext cx="3205800" cy="3366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23" name="Text Box 43"/>
            <p:cNvSpPr/>
            <p:nvPr/>
          </p:nvSpPr>
          <p:spPr>
            <a:xfrm rot="16200000">
              <a:off x="-353520" y="4047840"/>
              <a:ext cx="321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cc"/>
                  </a:solidFill>
                  <a:latin typeface="Arial"/>
                </a:rPr>
                <a:t>CDM API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24" name="Line 44"/>
          <p:cNvSpPr/>
          <p:nvPr/>
        </p:nvSpPr>
        <p:spPr>
          <a:xfrm>
            <a:off x="1440000" y="317664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5" name="Line 45"/>
          <p:cNvSpPr/>
          <p:nvPr/>
        </p:nvSpPr>
        <p:spPr>
          <a:xfrm>
            <a:off x="1440000" y="4329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6" name="Line 46"/>
          <p:cNvSpPr/>
          <p:nvPr/>
        </p:nvSpPr>
        <p:spPr>
          <a:xfrm>
            <a:off x="1440000" y="3753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7" name="Line 47"/>
          <p:cNvSpPr/>
          <p:nvPr/>
        </p:nvSpPr>
        <p:spPr>
          <a:xfrm>
            <a:off x="1440000" y="490536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8" name="Line 48"/>
          <p:cNvSpPr/>
          <p:nvPr/>
        </p:nvSpPr>
        <p:spPr>
          <a:xfrm>
            <a:off x="1440000" y="548172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29" name="Group 2195"/>
          <p:cNvGrpSpPr/>
          <p:nvPr/>
        </p:nvGrpSpPr>
        <p:grpSpPr>
          <a:xfrm>
            <a:off x="1722600" y="3514680"/>
            <a:ext cx="1949400" cy="490320"/>
            <a:chOff x="1722600" y="3514680"/>
            <a:chExt cx="1949400" cy="490320"/>
          </a:xfrm>
        </p:grpSpPr>
        <p:grpSp>
          <p:nvGrpSpPr>
            <p:cNvPr id="730" name="Group 2166"/>
            <p:cNvGrpSpPr/>
            <p:nvPr/>
          </p:nvGrpSpPr>
          <p:grpSpPr>
            <a:xfrm>
              <a:off x="1722600" y="3514680"/>
              <a:ext cx="1949400" cy="490320"/>
              <a:chOff x="1722600" y="3514680"/>
              <a:chExt cx="1949400" cy="490320"/>
            </a:xfrm>
          </p:grpSpPr>
          <p:sp>
            <p:nvSpPr>
              <p:cNvPr id="731" name="AutoShape 2167"/>
              <p:cNvSpPr/>
              <p:nvPr/>
            </p:nvSpPr>
            <p:spPr>
              <a:xfrm>
                <a:off x="1722600" y="3514680"/>
                <a:ext cx="1941120" cy="447840"/>
              </a:xfrm>
              <a:prstGeom prst="roundRect">
                <a:avLst>
                  <a:gd name="adj" fmla="val 175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6e9"/>
                  </a:gs>
                </a:gsLst>
                <a:lin ang="10800000"/>
              </a:gra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732" name="Text Box 2168"/>
              <p:cNvSpPr/>
              <p:nvPr/>
            </p:nvSpPr>
            <p:spPr>
              <a:xfrm>
                <a:off x="1722600" y="3514680"/>
                <a:ext cx="1949400" cy="49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000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9900"/>
                    </a:solidFill>
                    <a:latin typeface="Arial"/>
                  </a:rPr>
                  <a:t>Java VM</a:t>
                </a:r>
                <a:endParaRPr b="0" lang="en-US" sz="20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pic>
          <p:nvPicPr>
            <p:cNvPr id="733" name="Picture 49" descr="JavaModule"/>
            <p:cNvPicPr/>
            <p:nvPr/>
          </p:nvPicPr>
          <p:blipFill>
            <a:blip r:embed="rId7"/>
            <a:stretch/>
          </p:blipFill>
          <p:spPr>
            <a:xfrm>
              <a:off x="1806480" y="3560760"/>
              <a:ext cx="388800" cy="38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4" name="Line 2170"/>
          <p:cNvSpPr/>
          <p:nvPr/>
        </p:nvSpPr>
        <p:spPr>
          <a:xfrm>
            <a:off x="3692520" y="3753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5" name="Line 2176"/>
          <p:cNvSpPr/>
          <p:nvPr/>
        </p:nvSpPr>
        <p:spPr>
          <a:xfrm>
            <a:off x="3692520" y="4329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36" name="Group 2178"/>
          <p:cNvGrpSpPr/>
          <p:nvPr/>
        </p:nvGrpSpPr>
        <p:grpSpPr>
          <a:xfrm>
            <a:off x="1727280" y="4667400"/>
            <a:ext cx="1949400" cy="490320"/>
            <a:chOff x="1727280" y="4667400"/>
            <a:chExt cx="1949400" cy="490320"/>
          </a:xfrm>
        </p:grpSpPr>
        <p:sp>
          <p:nvSpPr>
            <p:cNvPr id="737" name="AutoShape 2179"/>
            <p:cNvSpPr/>
            <p:nvPr/>
          </p:nvSpPr>
          <p:spPr>
            <a:xfrm>
              <a:off x="1727280" y="4667400"/>
              <a:ext cx="1941120" cy="4478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38" name="Text Box 2180"/>
            <p:cNvSpPr/>
            <p:nvPr/>
          </p:nvSpPr>
          <p:spPr>
            <a:xfrm>
              <a:off x="1727280" y="466740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Perl VM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39" name="Line 2182"/>
          <p:cNvSpPr/>
          <p:nvPr/>
        </p:nvSpPr>
        <p:spPr>
          <a:xfrm>
            <a:off x="3697200" y="490536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0" name="Group 2184"/>
          <p:cNvGrpSpPr/>
          <p:nvPr/>
        </p:nvGrpSpPr>
        <p:grpSpPr>
          <a:xfrm>
            <a:off x="1727280" y="5243400"/>
            <a:ext cx="1949400" cy="490680"/>
            <a:chOff x="1727280" y="5243400"/>
            <a:chExt cx="1949400" cy="490680"/>
          </a:xfrm>
        </p:grpSpPr>
        <p:sp>
          <p:nvSpPr>
            <p:cNvPr id="741" name="AutoShape 2185"/>
            <p:cNvSpPr/>
            <p:nvPr/>
          </p:nvSpPr>
          <p:spPr>
            <a:xfrm>
              <a:off x="1727280" y="5243400"/>
              <a:ext cx="1941120" cy="4482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42" name="Text Box 2186"/>
            <p:cNvSpPr/>
            <p:nvPr/>
          </p:nvSpPr>
          <p:spPr>
            <a:xfrm>
              <a:off x="1727280" y="5243400"/>
              <a:ext cx="194940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00"/>
                  </a:solidFill>
                  <a:latin typeface="Arial"/>
                </a:rPr>
                <a:t>Python VM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43" name="Line 2188"/>
          <p:cNvSpPr/>
          <p:nvPr/>
        </p:nvSpPr>
        <p:spPr>
          <a:xfrm>
            <a:off x="3697200" y="548172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4" name="Group 2190"/>
          <p:cNvGrpSpPr/>
          <p:nvPr/>
        </p:nvGrpSpPr>
        <p:grpSpPr>
          <a:xfrm>
            <a:off x="1727280" y="2924280"/>
            <a:ext cx="1949400" cy="490320"/>
            <a:chOff x="1727280" y="2924280"/>
            <a:chExt cx="1949400" cy="490320"/>
          </a:xfrm>
        </p:grpSpPr>
        <p:sp>
          <p:nvSpPr>
            <p:cNvPr id="745" name="AutoShape 2191"/>
            <p:cNvSpPr/>
            <p:nvPr/>
          </p:nvSpPr>
          <p:spPr>
            <a:xfrm>
              <a:off x="1727280" y="2924280"/>
              <a:ext cx="1941120" cy="4478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46" name="Text Box 2192"/>
            <p:cNvSpPr/>
            <p:nvPr/>
          </p:nvSpPr>
          <p:spPr>
            <a:xfrm>
              <a:off x="1727280" y="292428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Arial"/>
                </a:rPr>
                <a:t>Direct Link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47" name="Line 2194"/>
          <p:cNvSpPr/>
          <p:nvPr/>
        </p:nvSpPr>
        <p:spPr>
          <a:xfrm>
            <a:off x="3697200" y="316224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8" name="Group 2198"/>
          <p:cNvGrpSpPr/>
          <p:nvPr/>
        </p:nvGrpSpPr>
        <p:grpSpPr>
          <a:xfrm>
            <a:off x="1722600" y="4091040"/>
            <a:ext cx="1949400" cy="489960"/>
            <a:chOff x="1722600" y="4091040"/>
            <a:chExt cx="1949400" cy="489960"/>
          </a:xfrm>
        </p:grpSpPr>
        <p:grpSp>
          <p:nvGrpSpPr>
            <p:cNvPr id="749" name="Group 2172"/>
            <p:cNvGrpSpPr/>
            <p:nvPr/>
          </p:nvGrpSpPr>
          <p:grpSpPr>
            <a:xfrm>
              <a:off x="1722600" y="4091040"/>
              <a:ext cx="1949400" cy="489960"/>
              <a:chOff x="1722600" y="4091040"/>
              <a:chExt cx="1949400" cy="489960"/>
            </a:xfrm>
          </p:grpSpPr>
          <p:sp>
            <p:nvSpPr>
              <p:cNvPr id="750" name="AutoShape 2173"/>
              <p:cNvSpPr/>
              <p:nvPr/>
            </p:nvSpPr>
            <p:spPr>
              <a:xfrm>
                <a:off x="1722600" y="4091040"/>
                <a:ext cx="1941120" cy="447480"/>
              </a:xfrm>
              <a:prstGeom prst="roundRect">
                <a:avLst>
                  <a:gd name="adj" fmla="val 175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6e9"/>
                  </a:gs>
                </a:gsLst>
                <a:lin ang="10800000"/>
              </a:gra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751" name="Text Box 2174"/>
              <p:cNvSpPr/>
              <p:nvPr/>
            </p:nvSpPr>
            <p:spPr>
              <a:xfrm>
                <a:off x="1722600" y="4091040"/>
                <a:ext cx="19494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000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cc00"/>
                    </a:solidFill>
                    <a:latin typeface="Arial"/>
                  </a:rPr>
                  <a:t>Tcl VM</a:t>
                </a:r>
                <a:endParaRPr b="0" lang="en-US" sz="20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pic>
          <p:nvPicPr>
            <p:cNvPr id="752" name="Picture 2196" descr="New Image"/>
            <p:cNvPicPr/>
            <p:nvPr/>
          </p:nvPicPr>
          <p:blipFill>
            <a:blip r:embed="rId8"/>
            <a:stretch/>
          </p:blipFill>
          <p:spPr>
            <a:xfrm>
              <a:off x="1824120" y="4176720"/>
              <a:ext cx="334440" cy="335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Slide Number Placeholder 58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9AFFC-DF69-4898-BD4E-BA3E3A1D193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4" name="Date Placeholder 59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5" name="Footer Placeholder 60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5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E1F21-1B33-4622-9918-C7CD472B632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7" name="Date Placeholder 8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8" name="Footer Placeholder 9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roadmap for Ellogon 2.0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goals for Ellogon 2.0 are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ke Ellogon’s core thread safe (done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ke Ellogon multi-threaded (feasible?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Ellogon &amp; the Tcl thread model can cooperate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dernise GUI (using OO and ttk widgets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~30% complet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itially written in iTcl, now ported to TclOO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cludes a complete rewrite of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Annotation Tools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of Ellogo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D1EBC-8F8E-46AF-8DAA-D85056EA9AC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on Tools: polymorphism required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notation tools is a very demanding are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lot of tasks that need annotated corpor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task, may have its own annotation schem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group, may pose different requirements for the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first generation of tools wa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ded in plain Tcl/Tk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ifficult to adapt/ext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5FF95-C0A8-46A3-A019-052259FC068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67" name="Picture 5" descr="EditAnnotationTools-TokenPosAttribute"/>
          <p:cNvPicPr/>
          <p:nvPr/>
        </p:nvPicPr>
        <p:blipFill>
          <a:blip r:embed="rId1"/>
          <a:stretch/>
        </p:blipFill>
        <p:spPr>
          <a:xfrm>
            <a:off x="674640" y="1125360"/>
            <a:ext cx="7794720" cy="5194440"/>
          </a:xfrm>
          <a:prstGeom prst="rect">
            <a:avLst/>
          </a:prstGeom>
          <a:ln w="0">
            <a:noFill/>
          </a:ln>
        </p:spPr>
      </p:pic>
      <p:sp>
        <p:nvSpPr>
          <p:cNvPr id="76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045E3-C676-44D7-8B61-2119FB7F82F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72" name="Picture 8" descr="EllogonEditAnnotationsOnHTML1"/>
          <p:cNvPicPr/>
          <p:nvPr/>
        </p:nvPicPr>
        <p:blipFill>
          <a:blip r:embed="rId1"/>
          <a:stretch/>
        </p:blipFill>
        <p:spPr>
          <a:xfrm>
            <a:off x="1339920" y="1197000"/>
            <a:ext cx="6464160" cy="5040360"/>
          </a:xfrm>
          <a:prstGeom prst="rect">
            <a:avLst/>
          </a:prstGeom>
          <a:ln w="0">
            <a:noFill/>
          </a:ln>
        </p:spPr>
      </p:pic>
      <p:sp>
        <p:nvSpPr>
          <p:cNvPr id="773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F7214-BD54-41C1-893A-DC7E69843CD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5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77" name="Picture 6" descr="EditingHierarchies"/>
          <p:cNvPicPr/>
          <p:nvPr/>
        </p:nvPicPr>
        <p:blipFill>
          <a:blip r:embed="rId1"/>
          <a:stretch/>
        </p:blipFill>
        <p:spPr>
          <a:xfrm>
            <a:off x="620640" y="1197000"/>
            <a:ext cx="7902720" cy="5040360"/>
          </a:xfrm>
          <a:prstGeom prst="rect">
            <a:avLst/>
          </a:prstGeom>
          <a:ln w="0">
            <a:noFill/>
          </a:ln>
        </p:spPr>
      </p:pic>
      <p:sp>
        <p:nvSpPr>
          <p:cNvPr id="77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3D733-6AD4-4500-8DD7-4358F5AB17D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2" name="Picture 2" descr="C:\Users\George\Pictures\Ellogon-Annotator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78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A07F3-779B-4964-9F09-FD11A1278BC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7" name="Picture 2" descr="C:\Users\George\Pictures\ZScreen Images\Text_Visual_Annotation_Editor...-20100728161851.png"/>
          <p:cNvPicPr/>
          <p:nvPr/>
        </p:nvPicPr>
        <p:blipFill>
          <a:blip r:embed="rId1"/>
          <a:stretch/>
        </p:blipFill>
        <p:spPr>
          <a:xfrm>
            <a:off x="147600" y="1295280"/>
            <a:ext cx="8850240" cy="4800600"/>
          </a:xfrm>
          <a:prstGeom prst="rect">
            <a:avLst/>
          </a:prstGeom>
          <a:ln w="0">
            <a:noFill/>
          </a:ln>
        </p:spPr>
      </p:pic>
      <p:sp>
        <p:nvSpPr>
          <p:cNvPr id="78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ED3A0-708F-4000-A0DC-37A14A78960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2" name="Picture 2" descr="C:\Users\George\Pictures\ZScreen Images\Text_Visual_Annotation_Editor...-20100728161803.png"/>
          <p:cNvPicPr/>
          <p:nvPr/>
        </p:nvPicPr>
        <p:blipFill>
          <a:blip r:embed="rId1"/>
          <a:stretch/>
        </p:blipFill>
        <p:spPr>
          <a:xfrm>
            <a:off x="146160" y="1295280"/>
            <a:ext cx="8850240" cy="4800600"/>
          </a:xfrm>
          <a:prstGeom prst="rect">
            <a:avLst/>
          </a:prstGeom>
          <a:ln w="0">
            <a:noFill/>
          </a:ln>
        </p:spPr>
      </p:pic>
      <p:sp>
        <p:nvSpPr>
          <p:cNvPr id="79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7D252-73F6-488E-BF54-C913D16C24B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4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7" name="Picture 2" descr="C:\Users\George\Pictures\ZScreen Images\Text_Visual_Annotation_Editor...-20100728161833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79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E0120-3E3E-46CA-91A1-AEE8B2FA13C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5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E7FA4-5EBD-49E5-A1CE-80C2763BB36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05" name="Picture 2" descr="C:\Users\George\Pictures\ZScreen Images\Text_Visual_Annotation_Editor_with_Annotation-based_text_selection...-20100728162045.png"/>
          <p:cNvPicPr/>
          <p:nvPr/>
        </p:nvPicPr>
        <p:blipFill>
          <a:blip r:embed="rId1"/>
          <a:stretch/>
        </p:blipFill>
        <p:spPr>
          <a:xfrm>
            <a:off x="1031760" y="1066680"/>
            <a:ext cx="70804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ssume an application that uses Itc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hat happens if it is run under ActiveTcl 8.6 beta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11" name="Picture 2" descr="C:\Users\George\Pictures\Itcl-Crash.png"/>
          <p:cNvPicPr/>
          <p:nvPr/>
        </p:nvPicPr>
        <p:blipFill>
          <a:blip r:embed="rId1"/>
          <a:stretch/>
        </p:blipFill>
        <p:spPr>
          <a:xfrm>
            <a:off x="1752480" y="2209680"/>
            <a:ext cx="6324840" cy="4006800"/>
          </a:xfrm>
          <a:prstGeom prst="rect">
            <a:avLst/>
          </a:prstGeom>
          <a:ln w="0">
            <a:noFill/>
          </a:ln>
        </p:spPr>
      </p:pic>
      <p:sp>
        <p:nvSpPr>
          <p:cNvPr id="512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30CFA-F070-4B24-A89C-CDCD634993C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3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4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6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07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0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FAF86-E9E1-45A2-88F9-6DAB1A07435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7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E14D9-0DF7-420E-B526-B211C82E5F5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15" name="Picture 2" descr="C:\Users\George\Pictures\ZScreen Images\Text_Visual_Annotation_Editor...-20100728161941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8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6E5B9-3BFA-4CB1-BEF9-35718FCCAFE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20" name="Picture 2" descr="C:\Users\George\Pictures\ZScreen Images\Text_Visual_Annotation_Editor...-20100728161951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9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A3BF5-4AB8-4BE7-B961-13889B74671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25" name="Picture 2" descr="C:\Users\George\Pictures\ZScreen Images\Text_Visual_Annotation_Editor...-20100728161957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10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27" name="Picture 2" descr="C:\Users\George\Pictures\ZScreen Images\Aligned_Text_Visual_Annotation_Editor...-20100728164754.png"/>
          <p:cNvPicPr/>
          <p:nvPr/>
        </p:nvPicPr>
        <p:blipFill>
          <a:blip r:embed="rId1"/>
          <a:stretch/>
        </p:blipFill>
        <p:spPr>
          <a:xfrm>
            <a:off x="117360" y="1219320"/>
            <a:ext cx="8909280" cy="4962240"/>
          </a:xfrm>
          <a:prstGeom prst="rect">
            <a:avLst/>
          </a:prstGeom>
          <a:ln w="0">
            <a:noFill/>
          </a:ln>
        </p:spPr>
      </p:pic>
      <p:sp>
        <p:nvSpPr>
          <p:cNvPr id="82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49238-FF04-4308-A075-5745A694F56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es Decomposition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32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33" name="TextBox 4"/>
          <p:cNvSpPr/>
          <p:nvPr/>
        </p:nvSpPr>
        <p:spPr>
          <a:xfrm>
            <a:off x="3257640" y="123048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oplevelWindow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4" name="TextBox 5"/>
          <p:cNvSpPr/>
          <p:nvPr/>
        </p:nvSpPr>
        <p:spPr>
          <a:xfrm>
            <a:off x="1143000" y="1828800"/>
            <a:ext cx="3352680" cy="4114800"/>
          </a:xfrm>
          <a:prstGeom prst="rect">
            <a:avLst/>
          </a:prstGeom>
          <a:solidFill>
            <a:srgbClr val="ff00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extWidgetDisplay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5" name="TextBox 6"/>
          <p:cNvSpPr/>
          <p:nvPr/>
        </p:nvSpPr>
        <p:spPr>
          <a:xfrm>
            <a:off x="4648320" y="3276720"/>
            <a:ext cx="3352680" cy="2590560"/>
          </a:xfrm>
          <a:prstGeom prst="rect">
            <a:avLst/>
          </a:prstGeom>
          <a:solidFill>
            <a:srgbClr val="008000">
              <a:alpha val="10000"/>
            </a:srgbClr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ButtonAnnota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6" name="TextBox 7"/>
          <p:cNvSpPr/>
          <p:nvPr/>
        </p:nvSpPr>
        <p:spPr>
          <a:xfrm>
            <a:off x="1066680" y="1523880"/>
            <a:ext cx="4114800" cy="228600"/>
          </a:xfrm>
          <a:prstGeom prst="rect">
            <a:avLst/>
          </a:prstGeom>
          <a:solidFill>
            <a:srgbClr val="0070c0">
              <a:alpha val="10000"/>
            </a:srgbClr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DocumentSelec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cxnSp>
        <p:nvCxnSpPr>
          <p:cNvPr id="837" name="Straight Arrow Connector 10"/>
          <p:cNvCxnSpPr/>
          <p:nvPr/>
        </p:nvCxnSpPr>
        <p:spPr>
          <a:xfrm flipV="1">
            <a:off x="4495320" y="1676160"/>
            <a:ext cx="114372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38" name="Straight Arrow Connector 15"/>
          <p:cNvCxnSpPr/>
          <p:nvPr/>
        </p:nvCxnSpPr>
        <p:spPr>
          <a:xfrm flipV="1">
            <a:off x="5866200" y="1675800"/>
            <a:ext cx="686520" cy="14482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39" name="TextBox 8"/>
          <p:cNvSpPr/>
          <p:nvPr/>
        </p:nvSpPr>
        <p:spPr>
          <a:xfrm>
            <a:off x="4648320" y="1828800"/>
            <a:ext cx="3352680" cy="1143000"/>
          </a:xfrm>
          <a:prstGeom prst="rect">
            <a:avLst/>
          </a:prstGeom>
          <a:solidFill>
            <a:srgbClr val="ffc000">
              <a:alpha val="10000"/>
            </a:srgbClr>
          </a:solidFill>
          <a:ln w="28440">
            <a:solidFill>
              <a:srgbClr val="d5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5000"/>
                </a:solidFill>
                <a:latin typeface="Verdana"/>
              </a:rPr>
              <a:t>EventDefine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0" name="Slide Number Placeholder 12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E0084-5418-4452-82F8-7CED82355D5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1" name="Date Placeholder 11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2" name="Footer Placeholder 13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5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es Decomposition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44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45" name="TextBox 4"/>
          <p:cNvSpPr/>
          <p:nvPr/>
        </p:nvSpPr>
        <p:spPr>
          <a:xfrm>
            <a:off x="3257640" y="114300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oplevelWindow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6" name="TextBox 5"/>
          <p:cNvSpPr/>
          <p:nvPr/>
        </p:nvSpPr>
        <p:spPr>
          <a:xfrm>
            <a:off x="1143000" y="1828800"/>
            <a:ext cx="3352680" cy="4114800"/>
          </a:xfrm>
          <a:prstGeom prst="rect">
            <a:avLst/>
          </a:prstGeom>
          <a:solidFill>
            <a:srgbClr val="ff00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extWidgetDisplay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7" name="TextBox 6"/>
          <p:cNvSpPr/>
          <p:nvPr/>
        </p:nvSpPr>
        <p:spPr>
          <a:xfrm>
            <a:off x="4648320" y="3276720"/>
            <a:ext cx="3352680" cy="2590560"/>
          </a:xfrm>
          <a:prstGeom prst="rect">
            <a:avLst/>
          </a:prstGeom>
          <a:solidFill>
            <a:srgbClr val="008000">
              <a:alpha val="10000"/>
            </a:srgbClr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ButtonAnnota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8" name="TextBox 7"/>
          <p:cNvSpPr/>
          <p:nvPr/>
        </p:nvSpPr>
        <p:spPr>
          <a:xfrm>
            <a:off x="1066680" y="1523880"/>
            <a:ext cx="4114800" cy="228600"/>
          </a:xfrm>
          <a:prstGeom prst="rect">
            <a:avLst/>
          </a:prstGeom>
          <a:solidFill>
            <a:srgbClr val="0070c0">
              <a:alpha val="10000"/>
            </a:srgbClr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DocumentSelec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cxnSp>
        <p:nvCxnSpPr>
          <p:cNvPr id="849" name="Straight Arrow Connector 10"/>
          <p:cNvCxnSpPr/>
          <p:nvPr/>
        </p:nvCxnSpPr>
        <p:spPr>
          <a:xfrm flipV="1">
            <a:off x="4495320" y="1676160"/>
            <a:ext cx="114372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50" name="Straight Arrow Connector 15"/>
          <p:cNvCxnSpPr/>
          <p:nvPr/>
        </p:nvCxnSpPr>
        <p:spPr>
          <a:xfrm flipV="1">
            <a:off x="5866200" y="1675800"/>
            <a:ext cx="686520" cy="14482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51" name="TextBox 8"/>
          <p:cNvSpPr/>
          <p:nvPr/>
        </p:nvSpPr>
        <p:spPr>
          <a:xfrm>
            <a:off x="4648320" y="1828800"/>
            <a:ext cx="3352680" cy="1143000"/>
          </a:xfrm>
          <a:prstGeom prst="rect">
            <a:avLst/>
          </a:prstGeom>
          <a:solidFill>
            <a:srgbClr val="ffc000">
              <a:alpha val="10000"/>
            </a:srgbClr>
          </a:solidFill>
          <a:ln w="28440">
            <a:solidFill>
              <a:srgbClr val="d5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5000"/>
                </a:solidFill>
                <a:latin typeface="Verdana"/>
              </a:rPr>
              <a:t>EventDefine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52" name="Picture 2" descr="C:\Users\George\Pictures\ZScreen Images\TextAnnotatorWithEvents.tcl_D...lepELEPVisualAnnotators_-_GVIM2-20100728171340.png"/>
          <p:cNvPicPr/>
          <p:nvPr/>
        </p:nvPicPr>
        <p:blipFill>
          <a:blip r:embed="rId2"/>
          <a:stretch/>
        </p:blipFill>
        <p:spPr>
          <a:xfrm>
            <a:off x="1347840" y="1143000"/>
            <a:ext cx="6448320" cy="5143680"/>
          </a:xfrm>
          <a:prstGeom prst="rect">
            <a:avLst/>
          </a:prstGeom>
          <a:ln w="0">
            <a:noFill/>
          </a:ln>
        </p:spPr>
      </p:pic>
      <p:sp>
        <p:nvSpPr>
          <p:cNvPr id="853" name="Slide Number Placeholder 13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0C233-8B06-46F4-9C28-C7D7D612FCD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4" name="Date Placeholder 1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5" name="Footer Placeholder 1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95C91-BE48-487D-9ACE-FA673933107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get/config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dd cget/configure on all cla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 need for a complex implementation of configure/cge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 only use them to get/set variable valu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Very easy to add new methods on all objects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Everything is a child of oo::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mple implementati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oo::define oo::object method cget {name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set name [string range $name 1 end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my variable $name; return [set $name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};# cget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3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6ACAF-7782-4140-B7B4-D60623AC894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4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66" name="Picture 2" descr="C:\Users\George\Pictures\ZScreen Images\Utilities.tcl_DUserspeta...2.0libelepELEPBase_-_GVIM1-20101007182431.png"/>
          <p:cNvPicPr/>
          <p:nvPr/>
        </p:nvPicPr>
        <p:blipFill>
          <a:blip r:embed="rId1"/>
          <a:stretch/>
        </p:blipFill>
        <p:spPr>
          <a:xfrm>
            <a:off x="976320" y="1309680"/>
            <a:ext cx="719136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ommon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has another trick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cedure oo::define::&lt;name&gt; extends oo::clas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mplementing ::oo::define::common allows to use the keyword “common” during class crea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proc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::oo::define::common {varname args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&gt;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{ … 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Get the name of the current clas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cls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-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oo::defin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elf export varname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 # Export method varnam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Initialise the variabl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  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ar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arn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::oo::define::commo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B0E28-92E6-4F7D-BD04-DF50D714C51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k, this happens as iTcl 3.4 is loaded in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ets compile Tcl from sources (CVS HEAD 27/Jul/10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cl now contains a new iTcl implementation (4.0b4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17" name="Picture 2" descr="C:\Users\George\Pictures\Editor-Itcl4-Main.png"/>
          <p:cNvPicPr/>
          <p:nvPr/>
        </p:nvPicPr>
        <p:blipFill>
          <a:blip r:embed="rId1"/>
          <a:stretch/>
        </p:blipFill>
        <p:spPr>
          <a:xfrm>
            <a:off x="990720" y="3352680"/>
            <a:ext cx="7562880" cy="11620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C:\Users\George\Pictures\Editor-Itcl4-Console.png"/>
          <p:cNvPicPr/>
          <p:nvPr/>
        </p:nvPicPr>
        <p:blipFill>
          <a:blip r:embed="rId2"/>
          <a:stretch/>
        </p:blipFill>
        <p:spPr>
          <a:xfrm>
            <a:off x="1550880" y="1219320"/>
            <a:ext cx="6602400" cy="5105160"/>
          </a:xfrm>
          <a:prstGeom prst="rect">
            <a:avLst/>
          </a:prstGeom>
          <a:ln w="0">
            <a:noFill/>
          </a:ln>
        </p:spPr>
      </p:pic>
      <p:sp>
        <p:nvSpPr>
          <p:cNvPr id="519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94D1C-707F-4B6D-9588-091655A3970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0" name="Date Placeholder 7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1" name="Footer Placeholder 8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ommon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ut common also needs a method to be called from methods accessing common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oo::define oo::object method common {args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}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callclass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self caller]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oo::defin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allclas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elf export varnam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forea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append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pairs [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allclas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ar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n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nam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plevel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pva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pair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commo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mmon and my cget/configure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do not mix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4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A944D-7031-44E5-B427-6A55A962B93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5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lass method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## Define "classmethod"...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pro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::oo::define::classmethod {name {args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"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body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"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} {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Code from: </a:t>
            </a:r>
            <a:r>
              <a:rPr b="0" lang="en-US" sz="1600" spc="-1" strike="noStrike" u="sng">
                <a:solidFill>
                  <a:srgbClr val="336699"/>
                </a:solidFill>
                <a:uFillTx/>
                <a:latin typeface="Courier New"/>
                <a:ea typeface="Calibri"/>
                <a:hlinkClick r:id="rId1"/>
              </a:rPr>
              <a:t>http://wiki.tcl.tk/21595#pagetoce30e53a1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argc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]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==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4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uplevel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is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self method 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body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}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elseif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==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3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-code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error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..."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Get the name of the current class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cls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-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Get its private "my" command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my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object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namespac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::my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Make the connection by forwarding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tailcall forward 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my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# ::oo::define::classmethod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457C0-C22F-43C3-A784-57F5585635C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lass method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hat about inheritanc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oo::class create ELEP::Base::Utilities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classmethod userAppDir   {} {...}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}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oo::class create ELEP::System::System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superclass ELEP::Base::Utilities 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classmethod systemConfigurationDir {}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  </a:t>
            </a:r>
            <a:r>
              <a:rPr b="1" lang="en-US" sz="20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[my userAppDir]/Systems/Config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alibri"/>
              </a:rPr>
              <a:t># systemConfigurationDir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unknown method "userAppDir"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4" name="Slide Number Placeholder 3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CFD65-8AAA-4C3B-B5E0-CEEB42859CD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5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6" name="Footer Placeholder 5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8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8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08DB0-D3DE-4126-B1BE-5FC2608FA58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dget classe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360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Ellogon, I don’t think in terms of Tk widge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 fact, I totally ignore them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nly 3 classes available, which represent widge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oplevel, Dialog, Widget, Ribbon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RibbonToplevel has a Windows Ribbon instead of a menu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ome common methods for all cla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Toplevel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ClientAre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utomatic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n for toplevel/dialog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dget for widge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CCAF6-B87A-43B2-8527-9B33CB45CCB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dget classe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36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idgets are destroyed when objects are deleted, and vise vers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 a way similar to iTk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oplevel/Dialogs generate widgets based on the object nam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bjects of the Widget class need the widget type and nam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Widget ttk::button .button ?arg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EB538-7BE6-409B-9095-3EDACBAF648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building block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ny building blocks that inherit Widge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Only the Tk widget that will contain the block is required (the “parent”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ButtonAnnotator, 1-Click selector, TemplateFiller, TextViewer, HTMLViewer, AllignedTextViewer, etc.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generic class that represents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herits from 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plits client area into two columns, separated by a ttk::panedwindow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ll tools, subclass this class, add another layout if required, and create/place building block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EDBE9-DBE8-45A5-9452-D510B74E0B8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CA247-4D74-4A2A-BB42-FEBBFB0F49E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reating an Annotation Too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Gluing building blocks is easy, but what about the user experienc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ets see an example, by creating an Annotation tool that annotates a document with a semantic model (i.e. an ontology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For this task, the bits required are: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annotate “properties” found in the tex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group properties into objec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group objects into other objec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00DB0-E08A-4EBF-9054-A93FD0EF877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ng properties: the button annotator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18" name="Picture 2" descr="C:\Users\George\Pictures\Ellogon-Annotator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91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B06A8-FBE7-4316-8ECC-EE792F46B05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k, iTcl 4.0 has a problem with a variabl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ets “correct” thi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variable objectsTree {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method CreatePropertiesPage_Objects {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chai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$objectsTree configure -dropenabled 1 -dragenabled 1 \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-dropcmd "$this CreatePropertiesPage_Objects_DropEvent“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};# CreatePropertiesPage_Object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24" name="Picture 2" descr="C:\Users\George\Pictures\Editor-Itcl4-Console2.png"/>
          <p:cNvPicPr/>
          <p:nvPr/>
        </p:nvPicPr>
        <p:blipFill>
          <a:blip r:embed="rId1"/>
          <a:stretch/>
        </p:blipFill>
        <p:spPr>
          <a:xfrm>
            <a:off x="182520" y="2133720"/>
            <a:ext cx="8778960" cy="4114800"/>
          </a:xfrm>
          <a:prstGeom prst="rect">
            <a:avLst/>
          </a:prstGeom>
          <a:ln w="0">
            <a:noFill/>
          </a:ln>
        </p:spPr>
      </p:pic>
      <p:sp>
        <p:nvSpPr>
          <p:cNvPr id="52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9325F-A0FC-4F70-9FDD-76CF3EB5F20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6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ng properties: the button annotator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operates with a viewer (text, HTML, Aligned text, Aligned HTML) and allows the user to annotate the selected text with one or more properti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annotation schema is dynamic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Method createSpecificationSelectorObject(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reates  an AnnotationSpecificationSelector objec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Method show(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alls AnnotationSpecificationSelector.show() and waits for an answer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Various schemas are read from an XML file, and presented to the use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ton annotator adapts to the selected schem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24" name="Picture 2" descr="D:\Tcl\Select_Annotation_Characteristics...-20100731080951.png"/>
          <p:cNvPicPr/>
          <p:nvPr/>
        </p:nvPicPr>
        <p:blipFill>
          <a:blip r:embed="rId1"/>
          <a:stretch/>
        </p:blipFill>
        <p:spPr>
          <a:xfrm>
            <a:off x="2152800" y="1600200"/>
            <a:ext cx="4838400" cy="2400480"/>
          </a:xfrm>
          <a:prstGeom prst="rect">
            <a:avLst/>
          </a:prstGeom>
          <a:ln w="0">
            <a:noFill/>
          </a:ln>
        </p:spPr>
      </p:pic>
      <p:sp>
        <p:nvSpPr>
          <p:cNvPr id="925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F91E9-A32D-4C8F-A26D-1B465502E9B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Grouping properties/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emplateFiller annotator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gain presents a dynamic schem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w method createSpecificationSelectorObject(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Creates  an AnnotationAndTemplateSpecificationSelector 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How easy is to mix the two annotator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Easy, just create the two objects and place them on a single annotation too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y disadvantage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Yes. The user gets </a:t>
            </a:r>
            <a:r>
              <a:rPr b="0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two dialogs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for configuring a single tool!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2EF83-81FC-4316-810B-279CCEBF7C6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multiple dialog issu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How can this be resolv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new class must be created, which is the concatenation of the two configuration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wo objects must somehow create and use the same configuration 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8F440-1C6A-44AE-92A6-8F443B294E2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6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DD744-C2C4-44B4-A688-A13F7DAA70A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atenating dialog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iTcl was very easy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Create a new class that inherits the two configuration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Tcl has the ability to call explicitly methods from the class hierarchy: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Method populateDialogFrame() just creates two ttk::labelframe and calls populateDialogFrame() of the two inherited classes with the proper parent frame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TclOO the task is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far</a:t>
            </a: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 more complex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You cannot simply inherit both classe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9C574-F82B-4A56-A009-40F011FC940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atenating dialog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best alternativ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e a new class that behaves as both configuration selectors, and drives instances of the two selectors internall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new class must have all methods of the two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new class must have all the public variables of both objects (so as cget/configure to work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A6856-8E7F-4485-94D3-E5C75122142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posing variables of contained 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eclare all variables as “automatic”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857160" indent="-45720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in class, with the “variable” keywor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Use “upvar” to link variables between two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4E5E1-9AC4-4033-AD3B-FBAF712FCFD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58" name="Picture 4" descr="C:\Users\George\Pictures\ZScreen Images\AnnotationAndTemplateSpecificat...libelepELEPViewerBase_-_GVIM3-20101007190655.png"/>
          <p:cNvPicPr/>
          <p:nvPr/>
        </p:nvPicPr>
        <p:blipFill>
          <a:blip r:embed="rId1"/>
          <a:stretch/>
        </p:blipFill>
        <p:spPr>
          <a:xfrm>
            <a:off x="1523880" y="2590920"/>
            <a:ext cx="60976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posing methods of contained 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ethods from both contained objects must be exposed - through “unknown”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nknow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args} {</a:t>
            </a: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  ## Try to call the aggregated objects...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result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result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result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result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next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nknow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unknow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5ACC0-5CEC-400B-839B-CB15984641C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o, are all problems solv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class stores state information in the configuration array of the application, using a key based on the class name.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saveState {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 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restoreState {</a:t>
            </a:r>
            <a:r>
              <a:rPr b="1" lang="en-US" sz="1800" spc="-1" strike="noStrike">
                <a:solidFill>
                  <a:srgbClr val="2e8b57"/>
                </a:solidFill>
                <a:latin typeface="Courier New"/>
                <a:ea typeface="Calibri"/>
              </a:rPr>
              <a:t>fr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 restoreStat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frame.annotation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restoreStat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frame.templ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restoreStat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65" name="Picture 2" descr="D:\Tcl\Select_Annotation__Template_Characteristics...-20100731081105.png"/>
          <p:cNvPicPr/>
          <p:nvPr/>
        </p:nvPicPr>
        <p:blipFill>
          <a:blip r:embed="rId1"/>
          <a:stretch/>
        </p:blipFill>
        <p:spPr>
          <a:xfrm>
            <a:off x="480960" y="2138400"/>
            <a:ext cx="8182080" cy="2581200"/>
          </a:xfrm>
          <a:prstGeom prst="rect">
            <a:avLst/>
          </a:prstGeom>
          <a:ln w="0">
            <a:noFill/>
          </a:ln>
        </p:spPr>
      </p:pic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oblems solved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7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4D4AD-FB42-42CD-904D-79D189116D7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8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9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hat about efficiency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s there a problem using unknown to “distribute” method calls to the proper object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don’t know, I haven’t measur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assumed that there is a penalty, so I explored alternatives before implementing a similar approach for “merging” Button Annotator &amp; Template Fille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hat I finally did, was to create a new class which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herits only ButtonAnnotato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various methods of TemplateFiller are copied/extend methods of the new clas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us “next” works, as there is only a linear hierarchy to follow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configuration selector dialog object is single/comm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EF79E-28A6-46C2-A8B3-4B56AAE64F8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object variables not support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t seems no…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but, object naming was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internal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4.0 has been actively maintained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ignificant progress since last test (6-8 months ago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Does not crash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few “rough edges” remai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ut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upport for iTcl object variables seems missing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tatus of iTcl next generation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Unknown. Not working either in previous test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5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AD30C-7AD6-432D-873C-1B27F5CE9B8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2DCE6-FB18-404D-B73D-EF46AEAFE10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clOO: “gray” area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ixi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have used “mixin”s a few times, but what are really “mixin”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hat happens with colliding method names, the constructor and inheritance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heritanc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do you inherit from classes whose constructors take different argument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same issue can occur with plain methods and “next”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s “next” limited, and an additional invocation method is required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FA21F-E1F5-4020-A1F9-FF8F1A0BA12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lusion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oth iTcl &amp; TclOO have their strengths and weakne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acked support for unknow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had to use the “@itcl …” variable naming for serialising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fo method is error-pron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DDED9-ED61-4752-B908-7C1193E0018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lusion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oth iTcl &amp; TclOO have their strengths and weakne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 support for calling a specific class method from the superclasse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Variables cannot be initialised without a constructo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re traces supported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an constructor arguments be recorded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hould things like classmethod &amp; common be moved from the wiki to the Tcl cor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F4CC0-BF1A-433D-950E-E87B00D376A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380880" y="316224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ank you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7" name="Date Placeholder 7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8" name="Slide Number Placeholder 8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ACDA7-4FF8-4AE3-870E-BCB39F2638EC}" type="slidenum">
              <a:rPr b="0" i="1" lang="el-GR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9" name="Footer Placeholder 9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lternatives for running the application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ait until iTcl 4.0 is read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ll it support 3.4 object variable naming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 the code from iTcl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m, 41 classes? ~20.000 lines of code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uch a task needs to be automated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Stick to Tcl 8.5 and iTcl 3.4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ut what happens with open source application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BE322-64E0-4F4C-9591-40B1C2FA378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7D34F-7189-4D98-B67F-BD32DEC6FA0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medium sized application: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Open source (LGPL), </a:t>
            </a:r>
            <a:r>
              <a:rPr b="0" lang="en-US" sz="22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ellogon.org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ticking to Tcl 8.5 is not an optio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 ~</a:t>
            </a:r>
            <a:r>
              <a:rPr b="1" lang="en-US" sz="2200" spc="-1" strike="noStrike">
                <a:solidFill>
                  <a:srgbClr val="000099"/>
                </a:solidFill>
                <a:latin typeface="Verdana"/>
              </a:rPr>
              <a:t>480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iTcl classes need to be ported!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fferent “variable” syntax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“my” keyword when calling method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fferent method exporting conven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here is TclOO documentation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4E562-1DFA-474F-A2D0-26548A2CBC4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George</dc:creator>
  <dc:description/>
  <dc:language>en-US</dc:language>
  <cp:lastModifiedBy>George</cp:lastModifiedBy>
  <dcterms:modified xsi:type="dcterms:W3CDTF">2010-10-13T13:46:57Z</dcterms:modified>
  <cp:revision>231</cp:revision>
  <dc:subject/>
  <dc:title>Itcl and TclOO</dc:title>
</cp:coreProperties>
</file>