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58A9-D9D5-4534-A5D1-4A7D80171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8205-C2F2-4C69-BB84-BF001783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9CC9-2043-4E5A-94CF-5DE11736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72C0-7FA5-44AC-A86F-F302425D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7CAE-A976-4B32-A32A-01A5178A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F3691-3E04-4208-99A1-85503578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3DB7-0821-4181-9A71-8FB6DE21D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83BD-B825-44DB-9D54-5AE12224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90A3F-BC9D-425A-A1A8-A4711A9F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0AA61-6C45-4B5F-AD00-12DFA5E99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8262-D891-4AE5-ACFB-1D02C754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C7EA-08D5-41D8-88DB-E74EEA77A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0F9D1-C9A9-44C3-B598-C4220003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5EC1A-FA83-455E-B208-E2F82B348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B7AA-6F0C-42D7-B3EF-781571E89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F1EC7-0637-40F8-8F6A-207CEEE6E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2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3760" y="19047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1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2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3760" y="4012560"/>
            <a:ext cx="247680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4F05-6B98-4759-8EC9-64A07150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FDA-E45E-4549-A2C7-B8BAEB28E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E4E7-1B2D-4D44-8211-53FB528C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680-79E1-4341-9E11-E707DDAF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1760" y="533520"/>
            <a:ext cx="769284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506E-7431-4ECD-8BDF-AB9C8F62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2777-6F33-4A68-9E0B-94623F9C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3760" y="40125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21BA-C5D5-45DF-84B7-48CF4E7C8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3760" y="1904760"/>
            <a:ext cx="375408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1760" y="4012560"/>
            <a:ext cx="7692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C45F-421D-472A-AC49-9FF6A9F30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69284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904760"/>
            <a:ext cx="769284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320" y="64036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40044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705D04-ED50-4CCA-9CA3-B064C88A67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180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856800"/>
            <a:ext cx="7769160" cy="22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2120" y="6391080"/>
            <a:ext cx="20541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320" y="639108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8000" y="6391080"/>
            <a:ext cx="15969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AE21C7-6273-491A-AD13-C8D0B6717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22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Networked Digital Whiteboar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with 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Handwritten-Symbol Interpreter and</a:t>
            </a:r>
            <a:br>
              <a:rPr sz="2400"/>
            </a:br>
            <a:r>
              <a:rPr b="0" i="1" lang="en-US" sz="2400" spc="-1" strike="noStrike">
                <a:solidFill>
                  <a:srgbClr val="336666"/>
                </a:solidFill>
                <a:latin typeface="Arial Black"/>
              </a:rPr>
              <a:t> Dynamic-Display-Objec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1c3938"/>
                </a:solidFill>
                <a:latin typeface="Arial"/>
              </a:rPr>
              <a:t>Atsuhide Kobas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Henry M. Gunn High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Palo Alto, Califor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1c3938"/>
                </a:solidFill>
                <a:latin typeface="Arial"/>
              </a:rPr>
              <a:t>September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2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and arrow added by a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3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049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vas window with scrollbars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4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581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added by the participant who created the canvas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linked to a variable that affects the output (quadratic curve) on the added can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5 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(Augmented by participants)</a:t>
            </a:r>
            <a:r>
              <a:rPr b="0" lang="en-US" sz="18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1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3526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xt widget window with a scrollbar added by another particip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aster Controll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27636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by the pres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ent side controller has no page-change cap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4314960" cy="272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raw/Write Tool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946240" y="2232000"/>
            <a:ext cx="3324240" cy="12859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62120" y="3998880"/>
            <a:ext cx="76946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for all drawing and writing including the handwriting of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Hand-Written 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11480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oked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ze and color set by the Draw/Write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cation set by mouse click on the target pla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7800" y="2057400"/>
            <a:ext cx="1714680" cy="22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49528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ree types of wi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s selector helps quick compos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box can be linked to a variable that changes out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5715000" y="1905120"/>
            <a:ext cx="2741760" cy="40370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943600" y="1905120"/>
            <a:ext cx="224172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anvas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Spinbox created by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525680" y="1905120"/>
            <a:ext cx="2241360" cy="40370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761000" y="2017800"/>
            <a:ext cx="3619440" cy="3809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886200" y="3886200"/>
            <a:ext cx="6858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What is it?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696080" cy="31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cl/Tk-based whiteboard presentation tool with unique functi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ence can participate in the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60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ables quick construction of complex objects for displaying during pre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etails on the Three Functions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464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ndwritten symbol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spcBef>
                <a:spcPts val="774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 and Widget Cre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Networking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TCL’s network-related commands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25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sy to develo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of custom header to ind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ypes of data  (multiple combinations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ngth of each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to handle each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wner ID and sequence inde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onal extra information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conomy on transmit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 of wish by both server and clients reduces the amount of transmitted code  (suitable for networking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80000"/>
              </a:lnSpc>
              <a:spcBef>
                <a:spcPts val="476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the widgets created by the Widget Creator, only the specifications entered in the Widget Creator are transmit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Hand-Written-Symbol Interprete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algorithms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perfect or even near hum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lots of CPU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C module needed for sp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under development and modules for a small number of symbols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nt for the converted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s from Tex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symbols not available from Tex, custom raster symbol creation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Behind the GUI and Widget Creator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GUI Tk-ba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its of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and quick to create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all amount of code fits well for transmi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sy to inspect the transmitted code in development stage, since it is written in human readable scrip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 independent operation for each participant guaranteed by multiple interpr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urrent Problems</a:t>
            </a:r>
            <a:r>
              <a:rPr b="0" lang="en-US" sz="1900" spc="-1" strike="noStrike">
                <a:solidFill>
                  <a:srgbClr val="336666"/>
                </a:solidFill>
                <a:latin typeface="Arial Black"/>
              </a:rPr>
              <a:t> </a:t>
            </a:r>
            <a:endParaRPr b="0" lang="en-US" sz="1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all slide 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akes more time to make presentation pages than the conventional presentation tool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aphic input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re variation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dget cre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ider variety of widgets need to be handl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interpreter 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se of threaded system desirable for smooth oper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-written symbol interpr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verage of more symbols and better recognition algorithm need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 functi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age advance/backup capability on the client side without affecting  the display of the serv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state still version 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gh edges exist. Refinement need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CL/TK knowledge required to compose presentation slides.  (Less so for clients to add  objects.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convenience modules needed to compete directly with PowerPoint and Imp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potential to become a useful tool for users in various fields, not just educ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51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other tool can enable networked two-way interactive presentation with dynamically manipulable obje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Motiv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9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cational presentation in classes and 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ientific subjects: math, physics, chemistry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with the conventional presentation too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PowerPoint, Impress, etc. 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way information 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(off-site) audience cannot particip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tools to quickly cre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symbol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c display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:  Our new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1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way information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able audience to add objects on the scr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s of objects to be dynamically cre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s, arr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s, ov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gets, both static and dynamically manipul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2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22856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through network with participants at b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i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499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lo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tworked Two-Way Presentation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79440" y="2322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43000" y="2666880"/>
            <a:ext cx="94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resenter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77120" y="236232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971800"/>
            <a:ext cx="42674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266688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228600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Ob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3124080"/>
            <a:ext cx="1371600" cy="53352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876920" y="33526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90920" y="251460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5029200"/>
            <a:ext cx="1143000" cy="1143000"/>
          </a:xfrm>
          <a:prstGeom prst="ellipse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43000" y="5334120"/>
            <a:ext cx="10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articipant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4419720"/>
            <a:ext cx="1143000" cy="1600200"/>
          </a:xfrm>
          <a:prstGeom prst="rect">
            <a:avLst/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ccc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4495680"/>
            <a:ext cx="68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55800" y="4952880"/>
            <a:ext cx="119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llowing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57600" y="4876920"/>
            <a:ext cx="11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86200" y="533412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SCII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inar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676520" y="3505320"/>
            <a:ext cx="1440" cy="1523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05320" y="4114800"/>
            <a:ext cx="135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tted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3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efficiently and quickly construct complex symbol structures  (for math, logic, scientific symbols) by hand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New Function 4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pability to quickly create widgets including dynamically manipulable 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533520"/>
            <a:ext cx="76946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Presentation Screen 1 (Original)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‏</a:t>
            </a:r>
            <a:endParaRPr b="0" lang="en-US" sz="24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3770280" cy="403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k-based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ull-scree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684680" y="1905120"/>
            <a:ext cx="3772080" cy="403704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419720" y="1905120"/>
            <a:ext cx="403848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Admin</cp:lastModifiedBy>
  <cp:revision>0</cp:revision>
  <dc:subject/>
  <dc:title>Networked Digital Whiteboard  with  Handwritten-Symbol Interpreter and  Dynamic-Display-Object Creator</dc:title>
</cp:coreProperties>
</file>