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3FC-F2BB-4450-BB73-87EBDBC21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6ACD-D47E-4EB2-9395-A845D1B94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B47-958D-4BD0-91F2-411242C5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377-E1DB-418C-9338-5AE5F5F0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D225-85F1-4BD8-9DDB-185F7EA4A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CDA3-55DD-4DFE-AF94-CCB49D140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5AC9-76C8-474F-A93F-37C1C286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E4EB-2BB8-4D98-9CE1-3B545C3E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4849-D38D-4CB6-B12F-CBC745AE7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E4C9-CD0E-4EF7-AA62-1FD9682E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BDF9-9AB2-45FE-B4A5-E7D4E859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BF45-6D4D-4368-9D91-65922CC6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B4EFD-E5AE-41C5-AD4E-5CC89FEF07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2590560"/>
            <a:ext cx="7086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agle: Tcl Integration with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3581280"/>
            <a:ext cx="70866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6th Annual Tcl Confer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cript Evalu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is a Tcl script.  The "eagle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here is actually a Tcl command that 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been implemented in managed code (in th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ase, it simply maps to the "eval" comman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 Eagle).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9900"/>
                </a:solidFill>
                <a:latin typeface="Courier New"/>
              </a:rPr>
              <a:t>eagl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debug break; # type "#go" to continu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k in the Main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cre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]; # create a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This will load Tk into the new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eval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 {package require Tk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Service the Tcl event loop until we are cancel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fter 10000 [list interp cancel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atch {while {1} {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upda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}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tcl delete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interp; # delete the Tcl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reat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thread nul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active Eagle inter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interp [object invoke -alias Interpreter GetActive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Create Tcl worker thre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Create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100 true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Extract the thread name from the result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et name [$result ToString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# Get the object for the thread we just creat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$interp -alias -flags +NonPublic </a:t>
            </a: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GetTclThrea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$name \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thread resul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a Tcl Worker Threa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Initialize by-ref argument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result "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ell the worker thread to create a Tcl inter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Cre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null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Queue a script to evaluate to the worker thr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thread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QueueEvent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ff9900"/>
                </a:solidFill>
                <a:latin typeface="Courier New"/>
              </a:rPr>
              <a:t>Evaluate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Immediat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{package require Tk} tru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Delete the worker thread (this will also cause t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# Tcl interp to be deleted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$interp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DeleteTclThre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$name false resu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oes it run on Mono?</a:t>
            </a:r>
            <a:br>
              <a:rPr sz="4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by popular deman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rt Answer: Y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 Answer: Yes, it runs on version 2.0 or higher.  However, version 2.4 or higher is recommended due to serious bugs in earlier vers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no does not perfectly emulate the .NET Framework and still has bugs that affect Eagle (e.g. #473899, #478489, #479061, #490932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909880" y="1608120"/>
            <a:ext cx="3322800" cy="47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Eagl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agle is an open-source implementation of Tcl written in C# for the CL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ed to be highly extensible and easily embeddable into CLR-based applicatio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s approximately 90% of the Tcl 8.4 core command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ait a minute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ntegrate with Tcl if Eagle is already an implementation of the Tcl languag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integrate with Tcl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xisting Tcl integration solutions for the CLR were less than ide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possibility of using the expressive power of a Tcl-compatible language to control the integration of the Tcl language with the CLR was very compell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ows unit-testing of embedding scenarios that need to dynamically load and unload the Tcl librar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cl Integration Featur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ny build of Tcl/Tk, version 8.4 or higher, including "basekits" and "stardlls"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32-bit and 64-bit operating system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worker threads with their own event loop processing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xit handler creation and deletio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script cancellation via TIP 28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a unified stack trace for errors via the Eagle errorInfo variabl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upports error line number management via TIP 336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 deleted interpreter from being use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revents an interpreter with activations from being deleted via TIP 335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Tcl Automatical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library available.  The exa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algorithm used is documented 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 the pap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tcl lo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oading Tcl with Version Requirem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loads the "best" Tc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library available that meets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version requirements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–minimumversion 8.4 \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-maximumversion 8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ading a Specific Tcl Libr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if {![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ready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]} then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This command will skip the Tc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detection logic and simply load t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 specified Tcl library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cl load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{C:\full\path\to\tcl.dll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20:43:22Z</dcterms:created>
  <dc:creator>Joe Mistachkin</dc:creator>
  <dc:description/>
  <dc:language>en-US</dc:language>
  <cp:lastModifiedBy>Joe Mistachkin</cp:lastModifiedBy>
  <dcterms:modified xsi:type="dcterms:W3CDTF">2009-10-01T15:50:24Z</dcterms:modified>
  <cp:revision>369</cp:revision>
  <dc:subject>Eagle</dc:subject>
  <dc:title>Eagle: Tcl Integration with the CLR</dc:title>
</cp:coreProperties>
</file>