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2CBB-8D18-454E-9950-CE9A95788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5A64-19CD-4528-AB6F-6444C42C9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3444-58F7-45B5-8816-EC1CE7E28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9E75-7D84-4C3B-918A-06F193745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88B3-B9B0-4740-AE18-8AD216453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B7F5-A036-4941-9554-0CF63B7D8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3591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1360" y="14828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969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3591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1360" y="3729240"/>
            <a:ext cx="25351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43DE-D3AF-4E85-A707-8333DDC39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B2B9-AEBF-438A-9BD1-81053DEB2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96600" y="233280"/>
            <a:ext cx="8196120" cy="28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749A-6255-4EB1-9707-34CEFB9D1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56E8-32BE-4EB2-A5CB-CC6A99A77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731840" y="37292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F421-7545-464D-9422-9FC79A0B6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31840" y="1482840"/>
            <a:ext cx="384228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96960" y="3729240"/>
            <a:ext cx="7873920" cy="20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A0D1-58D9-4C7F-9107-7B044F978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&gt;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499"/>
              </a:spcBef>
              <a:buClr>
                <a:srgbClr val="008bb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3122280" y="6613200"/>
            <a:ext cx="14367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8bbf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685800" y="6613200"/>
            <a:ext cx="244008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8bbf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4482720" y="6613200"/>
            <a:ext cx="4683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9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79E68-15E9-4C37-8ED2-C61CBAE8CBD1}" type="slidenum">
              <a:rPr b="0" lang="nl-NL" sz="900" spc="-1" strike="noStrike">
                <a:solidFill>
                  <a:srgbClr val="008bb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-1440"/>
            <a:ext cx="9123480" cy="954000"/>
          </a:xfrm>
          <a:prstGeom prst="rect">
            <a:avLst/>
          </a:prstGeom>
          <a:solidFill>
            <a:srgbClr val="a6a6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655040" y="-1440"/>
            <a:ext cx="1488960" cy="9554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5792760" y="-22320"/>
            <a:ext cx="1585800" cy="9748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-14400" y="-27000"/>
            <a:ext cx="9123480" cy="318960"/>
          </a:xfrm>
          <a:prstGeom prst="rect">
            <a:avLst/>
          </a:pr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317520"/>
            <a:ext cx="9123480" cy="31752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35040"/>
            <a:ext cx="9123480" cy="3175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31752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63504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0" y="952560"/>
            <a:ext cx="9123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e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4" name="" descr=""/>
          <p:cNvPicPr/>
          <p:nvPr/>
        </p:nvPicPr>
        <p:blipFill>
          <a:blip r:embed="rId4"/>
          <a:stretch/>
        </p:blipFill>
        <p:spPr>
          <a:xfrm>
            <a:off x="7391520" y="6323040"/>
            <a:ext cx="1573200" cy="311040"/>
          </a:xfrm>
          <a:prstGeom prst="rect">
            <a:avLst/>
          </a:prstGeom>
          <a:ln w="0">
            <a:noFill/>
          </a:ln>
        </p:spPr>
      </p:pic>
      <p:sp>
        <p:nvSpPr>
          <p:cNvPr id="15" name=""/>
          <p:cNvSpPr/>
          <p:nvPr/>
        </p:nvSpPr>
        <p:spPr>
          <a:xfrm flipH="1">
            <a:off x="-360" y="6467400"/>
            <a:ext cx="70326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7400" y="3076200"/>
            <a:ext cx="661824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bb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8bb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0" y="4680"/>
            <a:ext cx="9144000" cy="2548080"/>
            <a:chOff x="0" y="4680"/>
            <a:chExt cx="9144000" cy="2548080"/>
          </a:xfrm>
        </p:grpSpPr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0" y="4680"/>
              <a:ext cx="4146840" cy="2548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6152760" y="319320"/>
              <a:ext cx="2349000" cy="99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1595520"/>
              <a:ext cx="9144000" cy="317880"/>
            </a:xfrm>
            <a:prstGeom prst="rect">
              <a:avLst/>
            </a:prstGeom>
            <a:solidFill>
              <a:srgbClr val="7fa1b6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913760"/>
              <a:ext cx="9144000" cy="318960"/>
            </a:xfrm>
            <a:prstGeom prst="rect">
              <a:avLst/>
            </a:prstGeom>
            <a:solidFill>
              <a:srgbClr val="7fa1b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2233080"/>
              <a:ext cx="9144000" cy="319320"/>
            </a:xfrm>
            <a:prstGeom prst="rect">
              <a:avLst/>
            </a:prstGeom>
            <a:solidFill>
              <a:srgbClr val="7fa1b6">
                <a:alpha val="7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800" rIns="82800" tIns="41400" bIns="414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414360"/>
                  <a:tab algn="l" pos="828720"/>
                  <a:tab algn="l" pos="1243080"/>
                  <a:tab algn="l" pos="1657440"/>
                  <a:tab algn="l" pos="2071800"/>
                  <a:tab algn="l" pos="2486160"/>
                  <a:tab algn="l" pos="2900520"/>
                  <a:tab algn="l" pos="3314880"/>
                  <a:tab algn="l" pos="3728880"/>
                  <a:tab algn="l" pos="4143240"/>
                  <a:tab algn="l" pos="4557600"/>
                  <a:tab algn="l" pos="4971960"/>
                  <a:tab algn="l" pos="5386320"/>
                  <a:tab algn="l" pos="5800680"/>
                  <a:tab algn="l" pos="6215040"/>
                  <a:tab algn="l" pos="6629400"/>
                  <a:tab algn="l" pos="7043760"/>
                  <a:tab algn="l" pos="7458120"/>
                  <a:tab algn="l" pos="7872480"/>
                  <a:tab algn="l" pos="82868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191376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223308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595520"/>
              <a:ext cx="9144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2057400" y="5803560"/>
            <a:ext cx="6618240" cy="3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8b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bbf"/>
                </a:solidFill>
                <a:latin typeface="Arial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bb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8bbf"/>
              </a:buClr>
              <a:buFont typeface="Arial"/>
              <a:buChar char="&gt;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8bb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8bb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-22320" y="0"/>
            <a:ext cx="9166320" cy="6453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rcRect l="0" t="0" r="0" b="9820"/>
          <a:stretch/>
        </p:blipFill>
        <p:spPr>
          <a:xfrm>
            <a:off x="0" y="5791320"/>
            <a:ext cx="9145440" cy="10666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-1440" y="0"/>
            <a:ext cx="9145440" cy="325440"/>
          </a:xfrm>
          <a:prstGeom prst="rect">
            <a:avLst/>
          </a:prstGeom>
          <a:solidFill>
            <a:srgbClr val="00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-1440" y="325440"/>
            <a:ext cx="9145440" cy="322200"/>
          </a:xfrm>
          <a:prstGeom prst="rect">
            <a:avLst/>
          </a:pr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-1440" y="647640"/>
            <a:ext cx="9145440" cy="32544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414360"/>
                <a:tab algn="l" pos="828720"/>
                <a:tab algn="l" pos="1243080"/>
                <a:tab algn="l" pos="1657440"/>
                <a:tab algn="l" pos="2071800"/>
                <a:tab algn="l" pos="2486160"/>
                <a:tab algn="l" pos="2900520"/>
                <a:tab algn="l" pos="3314880"/>
                <a:tab algn="l" pos="3728880"/>
                <a:tab algn="l" pos="4143240"/>
                <a:tab algn="l" pos="4557600"/>
                <a:tab algn="l" pos="4971960"/>
                <a:tab algn="l" pos="5386320"/>
                <a:tab algn="l" pos="5800680"/>
                <a:tab algn="l" pos="6215040"/>
                <a:tab algn="l" pos="6629400"/>
                <a:tab algn="l" pos="7043760"/>
                <a:tab algn="l" pos="7458120"/>
                <a:tab algn="l" pos="7872480"/>
                <a:tab algn="l" pos="8286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-1440" y="32544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-1440" y="64764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-1440" y="973080"/>
            <a:ext cx="9140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7391520" y="6323040"/>
            <a:ext cx="1566720" cy="3096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31800" y="350532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11280" y="4149720"/>
            <a:ext cx="8208720" cy="57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0"/>
          </a:bodyPr>
          <a:p>
            <a:pPr marL="34200" indent="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2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3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4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5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  <a:p>
            <a:pPr lvl="6" marL="34200" indent="-34200">
              <a:spcBef>
                <a:spcPts val="11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057400" y="3076200"/>
            <a:ext cx="6618240" cy="88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8bbf"/>
                </a:solidFill>
                <a:latin typeface="Arial"/>
              </a:rPr>
              <a:t>Flood risk assessment</a:t>
            </a:r>
            <a:endParaRPr b="1" lang="en-US" sz="2800" spc="-1" strike="noStrike">
              <a:solidFill>
                <a:srgbClr val="008bb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2057400" y="4113000"/>
            <a:ext cx="66182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8bbf"/>
                </a:solidFill>
                <a:latin typeface="Arial"/>
              </a:rPr>
              <a:t>Arjen Markus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8bbf"/>
                </a:solidFill>
                <a:latin typeface="Arial"/>
              </a:rPr>
              <a:t>Deltares</a:t>
            </a:r>
            <a:endParaRPr b="0" lang="en-US" sz="2000" spc="-1" strike="noStrike">
              <a:solidFill>
                <a:srgbClr val="008bbf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8bbf"/>
                </a:solidFill>
                <a:latin typeface="Arial"/>
              </a:rPr>
              <a:t>(previous name: WL | delft hydraulics)</a:t>
            </a:r>
            <a:endParaRPr b="0" lang="en-US" sz="1200" spc="-1" strike="noStrike">
              <a:solidFill>
                <a:srgbClr val="008bb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Hydrodynamic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ne-grained terrain model (100 x 100 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ood simulated using “standard” curves – known for a range of maximum flood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eriod to simulate: roughly two weeks to three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simulation takes several days or even weeks to comple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Estimating victims, damag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ps of population density and land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aps of water levels and flow velocities from hydrodynamic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IS-based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ult for each indicated are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number of victi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mount of economic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Estimate the risk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mbine the results for all scenari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isk is expected number of victims or amount of damage – so multiply with probability of occur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istogram: what is the most likely number of casualti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411280" y="3645000"/>
            <a:ext cx="381024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anaging the computation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fferent programs run on different sites or comp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, starting and checking the computations has to be automa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 set of 300 scen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ations take too l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Tcl turns out to be almost perfect for the job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Preparing the hydrodynamic computation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pying the (fixed) input files for each computation to a separate dire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ading the XML file with flood parameters and dike strength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 the timeseries for the flood wave and adjusting various input fi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[clock], [string map], [file copy] are the tools h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Interlude: some cod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constructTimeseries {begin series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obekseries {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begintime [clock scan $begi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offset    [lindex $series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{time rate} $series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econds [expr {int(86400*($time-$offset))}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datetime [expr {$begintime+$seconds}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sobektime [clock format $datetime -format \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"'%Y/%m/%d;%H:%M:%S'"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ppend sobekseries "$sobektime $rate &lt;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# Trick: using a list suppresses an end-of-line at the end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[join $sobekseries \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unning the hydrodynamic progra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heduling the jobs on the Linux clu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t too many at a time though (I am not the only us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gistering the statu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s the job started y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it finished? If so, successfull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Has it been analysed ye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mall files with specific names flag that status (“running”, “done”, “analysed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ript runs via the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cron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utility – so I keep the system bu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unning the risk estimation progra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Copying the result files from the various direc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Adapting the input files for the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Running it in batch mode (it was originally a GUI onl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Extracting the relevant inform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outfile [open "hisssm-samenvatting.txt" w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areas 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each file [glob -nocomplain "*-agg.txt"]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{ $areas == {} 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areas [extractAreaDescription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 write header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scenid  [extractScenarioId 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et numbers [extractInformation $file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ts $outfile "$scenid\t[join $numbers \t]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Lessons learned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raceability and monitoring: being able to analyse what went 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utomate as much as possible: you may need to repeat the exerci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an you run the programs in batchmo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ill a database with scenarios (here: the file syste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record (scenario) goes through various stag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    – 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eps in the chain of individual comput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rdering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betwe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scenarios is irrelev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enarios contain status inform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e"/>
                </a:solidFill>
                <a:latin typeface="Arial"/>
              </a:rPr>
              <a:t>The problem: river flood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st rivers in the Netherlands surrounded by dik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ke breaches are a hazard to be dealt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kes need to be heigh enough and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strong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ou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project: comprehensive approa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2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ach record (scenario) has the following informa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cenario ID (directory name containing all the fi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tus (not started yet, running, finished, analy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scheduler program selects a scenario with the right status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tarts the computational program that belongs to that statu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erms of tuplespaces: a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read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peration – the record is taken ou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of the databa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hen the computational program finishes, a new record is writt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nl-NL" sz="20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oper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3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n this case the stages of the computation a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reparation: from the XML file to a set of input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ation: flood wave and dike bre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nalysis: has the computation succeed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f success, estimate casualties and dam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f not: identify why no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tuplespace apprach means the scheduler program needs to k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nothing of the stage of each scenario. It simply scans the director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Formal view: tuplespaces (4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are this to approaches found in literatu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rmal specification of the computational steps (often via X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description of the complete computation needs to be analysed and transfor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Loops (iterations) are expan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he scheduler program keeps track of the stages of the comput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 loop in this set-u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imply write a record with the same status, until the stop criteriu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is fulfill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pin-off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tting up a series of computations is useful (to me) in other projects to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or instance: optimising the location of a waste water discharge in a coastal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ork in progre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arious ways of dealing with a series of compu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Possibility of calibration, not just selecting an altern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exibility in defining the variatio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1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881440" y="1482840"/>
            <a:ext cx="350496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2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urrounded by Rhine and M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pproximately 2 million peop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veral major c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Agriculture important asp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Study area (3)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460520" y="1482840"/>
            <a:ext cx="634536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River system behaviour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ke breach can mean: lower water levels downst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But also: pressure from the land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delling approa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lect locations for possible breac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Compute the water flow in the rivers and over 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stimate casualties and economic damag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Typical result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154160" y="1482840"/>
            <a:ext cx="695952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866960" y="1482840"/>
            <a:ext cx="553248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96600" y="233280"/>
            <a:ext cx="8196120" cy="611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e"/>
                </a:solidFill>
                <a:latin typeface="Arial"/>
              </a:rPr>
              <a:t>Modelling system: Scenarios</a:t>
            </a:r>
            <a:endParaRPr b="1" lang="en-US" sz="2800" spc="-1" strike="noStrike">
              <a:solidFill>
                <a:srgbClr val="fffffe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96960" y="1482840"/>
            <a:ext cx="7873920" cy="430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Monte Carlo simulation: Setting up the scen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Floods have stochastic properties: maximum flow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ikes vary in strength – parameters known approximately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Sele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Draw parameters for each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lation flow rate – water levels kn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8bb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Estimate: dike breach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Result: 3 x 100 scenarios (for different sets of potential breach locatio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04:19:57Z</dcterms:created>
  <dc:creator>markus</dc:creator>
  <dc:description/>
  <dc:language>en-US</dc:language>
  <cp:lastModifiedBy>markus</cp:lastModifiedBy>
  <dcterms:modified xsi:type="dcterms:W3CDTF">2009-08-31T09:23:30Z</dcterms:modified>
  <cp:revision>14</cp:revision>
  <dc:subject/>
  <dc:title>Flood risk assessment</dc:title>
</cp:coreProperties>
</file>