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57EE-C669-422E-96BA-4257AA2C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0BF8-E475-48BA-A8FB-B531790B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F949E-7A55-4B1C-B052-796AB098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AA024-2F11-487E-8AB7-8F81306C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F2923-20FF-4075-969C-163FFC14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C5DC3-3B5E-4D6F-AFD3-DF678C04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E2240-2A26-4A69-B726-387D45E9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C3B8E-7961-42D6-8C1F-310E5AE7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0664A-FB55-4E2B-9A4B-817881C0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EF487-17DE-48F0-B663-85BB06CD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D6759-3D33-4CC7-8C8E-39381F79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502088-69EC-47EC-88F8-19F0AE52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738B-9A56-43FE-A735-95BD1B96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A420EE-0B53-4061-A323-7D87AAB4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51A234-4D23-4970-AB5F-BEE26AC1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8DD6D8-D8BA-4575-9107-FA6FA1BA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4D9591-84A3-4151-AA37-298B3737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54A06F-764D-45E7-BA55-3F086A7E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4831CA-1004-47CC-85C6-5F3B5A95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E355BD-2610-4C9C-8C5A-6CB3B2AF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BA19ED-F979-4DAD-8732-E694FCE4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B149C0-9026-4904-A83C-CF269C2B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8EA92B-7D41-450A-95B1-2B038390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30AA-1B54-4A1A-A411-29549B0D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07B2AE-8854-4134-9320-55B0F036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FB4CC-FD48-40A9-8102-14512296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FD4DB-3843-4E8C-8FA2-33769FCD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0B2AD-9EEF-4868-921E-1A805230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FAEA9-2B4A-4FAB-9B55-42D568A0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11EC2-7087-4F33-8C7F-602FAECE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0F236-89ED-4B16-844D-4ACE7335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1C30E-54F9-46F7-9F88-38B029FA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A96E9-8390-4530-8226-DF84BB01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812EA-BF7A-492B-9C7D-FC655936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D7FE-AE1D-4E56-9F98-F167A766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BCD0A-CADC-4254-AB22-010ABAAE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5B46A-336A-4159-874B-7D15A91A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C2248-9CFE-4F0F-81E1-1BAC0A28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CC796-E3F8-4AF7-8152-FCDB70A1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16535A-BD88-45BD-92BB-A56091A2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C619F-651F-4BCC-86AC-2806AD14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CCBDB-C8D6-4985-837F-F8781B31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80704-291C-4DA1-ACC6-335E5774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E0046-5F0F-4EBA-8690-5905A95F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9A092-2918-43D8-B7DF-1B32802C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5A68-9BD3-49F9-887C-38DE8AC9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36882-C20E-4D89-BDDD-8615F5A8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BB3A3-13B0-4745-A630-F021E896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BF060B-A974-470C-9E40-6FE01B99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19174-7BC4-400D-95CC-7927AD72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31CF8-2F9A-4439-BEAA-D8D673C7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C349-614B-4B53-903F-5AD00275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03EB-3D22-4D98-B13B-8BB3327E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1647-04CE-4F67-A234-8B5FBAC0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FCED-6149-4C21-AEA2-22E353A3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B59D-8CEE-42D1-BF70-3930E6A0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1328-AC4C-40A9-84B5-5A48422D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A3A1-99BB-4B84-98F9-48989C9B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3918-4C78-466D-8D63-3164533C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54B9-DCB1-402B-8C93-52BA2135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B267-C1D4-4B3E-AEB0-FD7B03A8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50F7-3E70-46DC-B04B-F8359B8B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89CA1-3F25-4AC6-9AA5-5ABE51C1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A1AF6-4D0C-48E0-A24B-4D82E595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CE61C-2B74-468E-A218-47329488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A8A42-2B53-4B8B-831E-93F83742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1018A-0D05-4980-B9FA-C69414A9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033A-83FC-4C6E-86E3-FF291A5B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84A82-66E1-4A29-9E30-C1A59BAB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908E2-170A-4E6E-ADF8-EA1E3530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33DE3-02B9-4EF9-B696-91F3ADA1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910EB-7E8B-4A1F-B0A4-996D57CF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473DF-DA6E-468F-9BBD-7C35C46D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3EAB6-AC8D-4FDF-BC0B-E1640CF9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3C915-C10B-451A-B9D6-5A889499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D0832-C5D3-4D8F-87CE-FBD71A4F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1B4DB-4A61-4FF4-BFDA-A75FDC00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5F9F2-62DA-4ADA-867A-1D7EF192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9D6C-12A4-4762-892D-2D0E18BE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47DB1-122F-43FC-B61C-0907E805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5AE9B-6AB3-46DE-B5EC-5177B193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A664C-D32D-4F69-8799-0874FCBD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5E2E4-2F97-4C7E-91E3-DFE27E93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4DD1C-2241-41BF-8DB4-4995641E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BF23A-B1AE-4C26-A261-29B80F59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B5CEA-D293-4160-9D1B-73AE416D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1C277-A305-4FCF-9DCF-EFFCA0FA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B2C69-125B-4070-8F1D-CBC1797A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B37880-060F-4239-A23A-E0630C23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C510-86B6-46A6-9855-FC8D1128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101EE3-6936-4270-A569-B8264950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0B4AFA-ED49-4C68-A532-07397537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C7C04D-0D86-480E-9F8F-9B0B5C43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333895-DF6D-48BA-B0CB-E43384B5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C315D1-423B-4E43-A138-862E1D89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B91084-BF2A-4E56-B82F-FCC1B8BA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C19A08-4BDA-46DF-B0A7-276FE208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5C361C-523D-424A-B1ED-E09B3607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B26530-629B-4FA1-A853-67E9FAD0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1FA09F-4286-4147-A28A-6CB43D60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9F7D-1938-4FE0-A95C-7B7C318C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00AD82-337C-44BE-9AB6-5E546CE29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3916F-9DFD-4504-8EC3-01B31CD8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2B581-5878-482B-9EB9-6DC14DE0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AE696-75F9-4F09-88B2-CF61CD67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FD9E5-E58D-446B-9F58-30304094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40AEC-66E4-4AE2-B580-A10B69DE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2CE36-EA85-47E0-A791-E1E64DC4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8C46A-BE4A-46AF-84E3-BB8C84A4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8F4DF-C9FF-4099-AD70-480B4C28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12885-9649-499F-A13A-2F18763E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9CFD-55F0-4585-931E-A4DC5223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9FD01-366D-4869-8B44-B1B87F3E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1394A-EDDF-4E89-B0AA-BDF11A04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35081-ECE2-4D13-A0A6-D3FF6CAF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B79A5-11C7-4DD3-9A9B-6E56090B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A2AB5-4B80-45E3-B7D3-D83A72C6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8BA30-44D0-45AB-B430-8C917D5C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53F0C-D3DC-4BED-A2B2-6373C665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80162-ED58-4BE4-992F-E797F8D4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C7324-6AD4-4FD0-BD5C-BE7DA843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BE489-75D7-4294-85D4-A736769F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6D16-E3FD-4F11-9095-CA21E4AA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61274-9735-4036-99EB-42B621F5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5EDCA-14C4-4AFC-835F-8D8C475E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21D46-80A5-430F-86B7-2738B108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C5676-50BA-4221-A776-AF618D4E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F418A-CE90-433F-BD5F-E773A8D73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5EFF4-B949-4733-8E54-77A81C1A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8B77A-376C-422E-B874-BB9DF7B0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B00F0-7865-49B4-BDEF-9BEBB5B5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946B4-8D9E-42BF-AC06-C312FF6F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A35DA-5BDA-476E-AC02-7332C993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1DA6-1A92-495B-9AF8-D661B9A9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18F02-8FA2-4B85-A3DA-4CCD5C96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737AA-7975-4255-B9B4-7695CEA4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0436E-B513-4970-84EB-E9F49131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44D1E-4C45-44E0-8E57-26C3C27C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543F0-1557-42CB-BE14-ED0A6D17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6E6F4-266D-4B67-B236-8658EF1A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313D7-AB7E-43C4-B641-D94DC016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55580-1D74-4BBA-B7F0-C64B8D60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464FA-E1B2-49CD-A030-B42DEA79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94F17-42D8-442C-8F65-41954534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5E20-1451-4950-93DA-9CD43BC013D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60AB-7A0E-4528-9A78-98CE20B1C1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8C74-FE97-494F-AC79-2C53F21F0B8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CC9C-DCF0-444C-A4FF-2BF82056E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F63E-77A1-4776-9598-66C32250E21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9CA7-6443-4944-9139-9F80B38BE4A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6ED5-7C45-4872-BD52-ABA01F579A3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F36B-95ED-4326-AE58-7E0A2298BF7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E17F-E6C1-40C6-AE15-0D0A95D23D9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E4F5-3322-42E0-8C64-63EC62A6034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AF55-2785-4E2A-BD1A-DBB8A00D5C6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17E1-CEB2-4F42-A0E6-3FA4FED26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55D0-DB56-4EAD-93E5-A420BA69F8F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6257-87EA-44FC-9664-2526DC4E9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D656-C669-4F06-ADC0-66366838A20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EEAF-57AB-4B65-80FB-01BB0017CF3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BFDB-6191-4ABF-A060-205EBE175AB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D560-08CE-4858-96C3-40B720C6F1A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E1C0-07F8-444E-AE42-2F03AB79B6E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A78D-FA5C-4CDB-A081-FD1ECF9A07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6FC0-85B3-4690-9DEC-D3936576F22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A480-A870-4D70-AF19-196F15F1B05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FAC8-4276-4C9B-A4D7-431FEBB2D63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9875-0FE0-4A15-9F89-11D4CAFC7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C7FA-4BF6-4D73-9954-D3AEDCFEA37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E29C1-13BE-41EF-B094-DB1B43DBDCE8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784F5-CDF1-4F62-B4F9-3DBBFAA90D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CD38A54D-3F53-4713-AEE9-F0C384B9AC00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15" dur="1230" fill="hold"/>
                                        <p:tgtEl>
                                          <p:spTgt spid="119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16" dur="123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1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18" dur="123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1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76E70-296E-461C-A5A6-527DDCC8BC06}" type="slidenum">
              <a:t>3</a:t>
            </a:fld>
          </a:p>
        </p:txBody>
      </p:sp>
    </p:spTree>
  </p:cSld>
  <p:transition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242E33-1360-4127-AB25-6C28AFFCD13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B2421F94-30B3-49FE-9A31-8F6CB42DBFEB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11324-FB93-427A-8E6F-84A3F7B0ED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911B9C9F-33A1-48DA-9147-BB660F8C891F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9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6CAB9-0CC1-4803-861F-1D1CAA8E9D7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81B94AB5-13E6-4BA5-9484-81BD96DBBB9B}" type="datetime1">
              <a:rPr lang="en-US"/>
              <a:t>07/30/26</a:t>
            </a:fld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