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CA454-05C5-4054-9698-338690D0C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FD1F8-C1BD-47B5-B246-123B74130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3BD8F-A30A-4EC0-B7C0-44DADC766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D2A03-B314-4BD4-8E39-9252F2E2F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6B391-C28A-4037-8F73-E7F81AF65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35096-6820-472F-80D3-A9749897A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692F7-498C-4E0B-965E-41D4A5F61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EA696-2909-47AD-938F-232567390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C0500-9FF5-4103-A3A6-CF0FE47F8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78A60-F36A-4F81-A49F-5444BC0E2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57E7E-E346-490C-9225-8019C2950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82AC7-E549-4AE4-A04A-70DD8C259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F39E9-8474-44BA-A982-AF184E7D7E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19200" y="1400040"/>
          <a:ext cx="6105600" cy="405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9200" y="1400040"/>
                    <a:ext cx="610560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3:31Z</dcterms:created>
  <dc:creator>Oliver Craemer</dc:creator>
  <dc:description/>
  <dc:language>en-US</dc:language>
  <cp:lastModifiedBy>Oliver Craemer</cp:lastModifiedBy>
  <dcterms:modified xsi:type="dcterms:W3CDTF">2005-01-06T09:23:42Z</dcterms:modified>
  <cp:revision>1</cp:revision>
  <dc:subject/>
  <dc:title>Slide 1</dc:title>
</cp:coreProperties>
</file>