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91986"/>
        <c:axId val="185169"/>
      </c:barChart>
      <c:catAx>
        <c:axId val="53191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169"/>
        <c:crosses val="autoZero"/>
        <c:auto val="1"/>
        <c:lblAlgn val="ctr"/>
        <c:lblOffset val="100"/>
        <c:noMultiLvlLbl val="0"/>
      </c:catAx>
      <c:valAx>
        <c:axId val="185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91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ED0-337A-4078-BBB7-0400018A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D4C-5233-4272-821D-82F7BE1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FF1-8865-44C9-866C-D07C9CCE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55D-E960-45A1-A1CD-5E48829D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635-B750-4510-9086-9C83475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46B-2012-4AFA-ADD7-9232D7C7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F4D-6B1A-4CA7-A397-E28F2F4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166-058C-4FB0-ADEE-2C01F2D9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F12-BB06-4121-ADE8-D8372A4A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504-A836-4F3C-95E5-E93B138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3A7-454D-43ED-A158-5FA55D4A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356-9244-4845-8597-5FE4E20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528E-2E2B-4AAF-9191-E795926DF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