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29854"/>
        <c:axId val="69664581"/>
      </c:barChart>
      <c:catAx>
        <c:axId val="3929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664581"/>
        <c:crosses val="autoZero"/>
        <c:auto val="1"/>
        <c:lblAlgn val="ctr"/>
        <c:lblOffset val="100"/>
        <c:noMultiLvlLbl val="0"/>
      </c:catAx>
      <c:valAx>
        <c:axId val="6966458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29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12312-B1DD-4827-B3E7-23F64E3596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4B16A-7CA6-4F9C-83B2-F2D46CFEB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8C8B1-9255-4E04-AF48-66E419BA4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5B54-C939-4C49-BA51-23014A0F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4DDA-F35B-4058-8AC0-A085105C3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57A4-97B6-489C-9B4E-1664E5F38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FBB0-D514-424B-B2EF-37C778FF7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D45B-E4BC-495A-B9E0-3BB1CCE2B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BAF7B-4C79-435F-8CE8-62C11B64B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DD46-D966-4E1B-9654-08835C9C2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510C7-A244-4876-960A-D29F14FC9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097B-0127-4400-B4B6-F4A965DF3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E58FD1-092E-40D2-B520-A4857EA191C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