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333420"/>
        <c:axId val="92290414"/>
      </c:barChart>
      <c:catAx>
        <c:axId val="593334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290414"/>
        <c:crosses val="autoZero"/>
        <c:auto val="1"/>
        <c:lblAlgn val="ctr"/>
        <c:lblOffset val="100"/>
        <c:noMultiLvlLbl val="0"/>
      </c:catAx>
      <c:valAx>
        <c:axId val="922904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3334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2972-224F-4035-930F-0E82702CE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B914-98BA-4D0A-AED1-C8C1C6DCF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375F-06D7-414D-B84C-0FA023406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4A99-521F-4BBD-9357-68279EAA4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9AE2-5174-4DA5-A2AB-2DD2C68B7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2A9A-4E4B-4E8F-83CA-4D908EE4F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4D4B-3B36-4E9F-86B0-8311D7D13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6D71-EB83-4344-AA75-A7EF79F01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A44C-D006-409D-8379-DD0C81645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7CE5-08F4-4855-A58E-B1E5D247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A0D0-35A5-410B-8B0B-A7264266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59ED-5235-4B1C-8FFC-86255314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FCEEAE-0AAB-4B38-B01B-3042A28A1F5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