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47231"/>
        <c:axId val="17284855"/>
      </c:barChart>
      <c:catAx>
        <c:axId val="34472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84855"/>
        <c:crosses val="autoZero"/>
        <c:auto val="1"/>
        <c:lblAlgn val="ctr"/>
        <c:lblOffset val="100"/>
        <c:noMultiLvlLbl val="0"/>
      </c:catAx>
      <c:valAx>
        <c:axId val="172848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72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9722-AE8A-4D56-B523-A603A11B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80B3-DE8A-43AD-BF5B-8333F2CE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6C31-58E1-424A-91D0-C066E348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0D67-C76B-4E59-966E-B82086A4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6316-D45B-4184-89E3-60CD946A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A74F-05B9-4EE9-BA8C-647AE4D7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EE89-21E1-4C60-AEE1-2E669B61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DF06-C24E-444E-BFEE-130C4A60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153B-2658-49A6-B340-A43CD1AE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C9C9-A875-4C7B-B49C-0EEB760A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DB6B-5A62-4FF2-B9C5-050A26FB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F5E1-2B6F-4006-AA43-96044044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338E1-F2F7-4A3A-9CCB-07DC241A38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