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66749"/>
        <c:axId val="89522662"/>
      </c:barChart>
      <c:catAx>
        <c:axId val="472667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22662"/>
        <c:crosses val="autoZero"/>
        <c:auto val="1"/>
        <c:lblAlgn val="ctr"/>
        <c:lblOffset val="100"/>
        <c:noMultiLvlLbl val="0"/>
      </c:catAx>
      <c:valAx>
        <c:axId val="895226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667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365-C363-4412-B964-DF6BB8B9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D8EA-8FE0-425A-BCF1-CAB7AC50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1EF8-53A8-4590-8CF6-D0CCEBB6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34E-6DAA-448D-8CD8-5068CC5B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6EB0-286B-4AF9-84B3-F932BF6A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8DF6-7425-4196-A0DB-2447F304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BCFB-87AA-4010-A625-4E8F6631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43F-4A7E-458C-90D4-D155047E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AFD-B7B8-4A7A-9625-8A503E8B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EE10-0045-499D-BE77-CF5014A3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0E6-A654-422C-92F1-E0255549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FEC-7548-4A76-9F56-59F03B9A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FB5FB-B7DA-40C4-B839-89867CF20F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