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38059"/>
        <c:axId val="12056116"/>
      </c:barChart>
      <c:catAx>
        <c:axId val="25438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56116"/>
        <c:crosses val="autoZero"/>
        <c:auto val="1"/>
        <c:lblAlgn val="ctr"/>
        <c:lblOffset val="100"/>
        <c:noMultiLvlLbl val="0"/>
      </c:catAx>
      <c:valAx>
        <c:axId val="12056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38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38E-7446-4474-8148-5E001D14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231-9B65-4F81-A461-7907D90F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BA9-0975-466D-9F14-B13D459C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6D8-3862-4591-9DD7-E4CDEEC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47A-FB06-4A45-A835-A55B6035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337-D9FC-49EB-A9DC-A3072F3E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961-95B0-43D7-92B9-29F192AA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B71-A84F-4860-8D97-586CEFF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3E50-E9D2-4766-86EA-CCC10C39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403-F927-4A6A-AEF7-4EA6AB1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5ED-A31E-498B-9BDC-A794C9D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80B-FDA7-4306-BD16-0D66DAE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80CDE-472B-4D34-BF34-A742D13821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