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74284"/>
        <c:axId val="10933769"/>
      </c:barChart>
      <c:catAx>
        <c:axId val="93674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3769"/>
        <c:crosses val="autoZero"/>
        <c:auto val="1"/>
        <c:lblAlgn val="ctr"/>
        <c:lblOffset val="100"/>
        <c:noMultiLvlLbl val="0"/>
      </c:catAx>
      <c:valAx>
        <c:axId val="10933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74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94F-723B-4C65-AE7F-30A8FE09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4F5-35F4-4667-98A8-C01778B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BAF-ECF0-4AB0-BD48-387492D9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D75-1169-42F7-B30F-7C3A4282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2C7-53AA-4C0A-8A27-7ECAFEF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590-8D80-4639-A57E-1521C58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64C-1799-400B-B150-A24AA00A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6E3-9AC8-4656-8E10-0F00738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8AA-46C1-4499-BB77-4BC84E18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5EB-7914-4639-818A-BBFDF80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CD1-7F02-4D4B-B2AD-DACBB36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0FB-3A02-428B-935D-D168386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B4885-6B08-469D-B76E-236C1A14E5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