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8805"/>
        <c:axId val="1126131"/>
      </c:barChart>
      <c:catAx>
        <c:axId val="3438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6131"/>
        <c:crosses val="autoZero"/>
        <c:auto val="1"/>
        <c:lblAlgn val="ctr"/>
        <c:lblOffset val="100"/>
        <c:noMultiLvlLbl val="0"/>
      </c:catAx>
      <c:valAx>
        <c:axId val="1126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8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9A6-F3FE-41CC-9E34-984A3787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7CE7-1A46-4F3C-A8F3-42E1E736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AB36-76D9-4B96-BA1C-66C865FB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367-3D39-4164-9161-899A14AC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5CA-EF41-4FD3-9253-F6FB4FF8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66D-1771-4285-9BB0-9D80F0DB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E387-1223-4CBA-8A6D-9ACD54BC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0E5-EFC6-48D3-8958-F99AEA0E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1A7-29DB-4006-A1E8-06A49826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C27-5B35-405E-9571-E4C2217F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C9A-71AA-4997-9D26-9DFE7318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8FF-7C8A-4446-A25A-B4EF9853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73313-CEA1-4D88-9FAA-F2074BAC24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