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8737"/>
        <c:axId val="89177110"/>
      </c:barChart>
      <c:catAx>
        <c:axId val="3718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7110"/>
        <c:crosses val="autoZero"/>
        <c:auto val="1"/>
        <c:lblAlgn val="ctr"/>
        <c:lblOffset val="100"/>
        <c:noMultiLvlLbl val="0"/>
      </c:catAx>
      <c:valAx>
        <c:axId val="89177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8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FAD-8E03-4E25-97DB-47AF81B8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3B2-B261-493E-8D5E-CB981A84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AD2-10A4-42B6-8B00-64A1292C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A1B-A1F7-48F9-989F-00F9C5BC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AFE-10AF-46AA-AEB4-B700F2E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661-D325-470F-AA7B-E80C0F34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209-3271-4611-9B13-478BA99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06D-2D3B-41F6-97DC-55EB8981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408-95EF-461F-8B10-E59F0F92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6C0-4DA5-4E72-BF10-0CCD22F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8F1-CF14-46C4-919C-1829D73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C04-9CE3-48DA-A4FA-6DEFFA5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997A-E227-460A-9144-612C8739E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