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8569"/>
        <c:axId val="77129351"/>
      </c:barChart>
      <c:catAx>
        <c:axId val="75158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29351"/>
        <c:crosses val="autoZero"/>
        <c:auto val="1"/>
        <c:lblAlgn val="ctr"/>
        <c:lblOffset val="100"/>
        <c:noMultiLvlLbl val="0"/>
      </c:catAx>
      <c:valAx>
        <c:axId val="77129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8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D24-57E9-44C8-8768-9D2E1552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2B8-D114-4AA8-8ABA-BD4F15CC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6C0-BDB0-42F7-882C-C52A77E5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F99-5C5E-43AD-B996-8098F01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DF2-1DC3-4E89-A7F0-D9269917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FDC-3189-44B0-8C65-3BD7A06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04B-3DA1-4F53-8E77-9807E37A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04E-B4CA-4B60-93C4-7640C42E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39C-A727-4A6D-8FBA-4E6A1D3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B1A-D00E-4C9A-8710-51CE230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F3F-A227-461F-B080-FE6F427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A65-3DD4-44A1-A878-0FFDFD1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77413-4FF7-43B7-84C6-31DE27112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