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996332"/>
        <c:axId val="18924700"/>
      </c:barChart>
      <c:catAx>
        <c:axId val="449963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8924700"/>
        <c:crosses val="autoZero"/>
        <c:auto val="1"/>
        <c:lblAlgn val="ctr"/>
        <c:lblOffset val="100"/>
        <c:noMultiLvlLbl val="0"/>
      </c:catAx>
      <c:valAx>
        <c:axId val="189247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963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26B-4CCE-4641-AF07-A0A6115E4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471D-D25B-46B4-8964-339D7FD2C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D32E7-CFF5-4959-AF18-DFE32959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DE0E-4257-4D25-A3B8-000E59CF79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000C-001A-4B33-BA5C-D907F5E4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F268-C73F-4F9E-A0FF-47192AE0C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1913-0E69-4B7A-AD1A-FF90981D8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4445B-CFA3-4A2A-9860-4B214042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60FD-4B07-4E36-834A-749CCA955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1CBF-C115-4736-9C38-C7CC40588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87D10-153E-4310-9D38-BCE37CE44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FE38-4C8D-49EA-A5C0-BD7A62040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694A2-3116-4927-9BD1-10DEFBB11B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