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632983"/>
        <c:axId val="85337149"/>
      </c:barChart>
      <c:catAx>
        <c:axId val="356329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37149"/>
        <c:crosses val="autoZero"/>
        <c:auto val="1"/>
        <c:lblAlgn val="ctr"/>
        <c:lblOffset val="100"/>
        <c:noMultiLvlLbl val="0"/>
      </c:catAx>
      <c:valAx>
        <c:axId val="853371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329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637E-560F-4F02-952C-7B397A1B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A080-6D38-42CD-8832-3E79FFD2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C1CA-B811-4A83-94BD-9974AF1B4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E2B5-E388-4CE2-BCAF-C793995F0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54B7-A7A8-4C01-85B1-166887E3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856A-5DAE-4768-9C32-F1001843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70B7-7818-4770-BE21-F9F3E380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25FB-A70A-4742-9D4A-C10D30D3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217F-603A-4D52-99C4-17831E2A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BE04-89B9-413F-B1EF-B2B1F12E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B7E5-3E1A-4B8F-9163-0A0C90BB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A2BF-6610-4DC8-AA7A-9A19EE08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7640D-E8C3-4E01-ACC2-8264AFFF2C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