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4751"/>
        <c:axId val="24985968"/>
      </c:barChart>
      <c:catAx>
        <c:axId val="9374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85968"/>
        <c:crosses val="autoZero"/>
        <c:auto val="1"/>
        <c:lblAlgn val="ctr"/>
        <c:lblOffset val="100"/>
        <c:noMultiLvlLbl val="0"/>
      </c:catAx>
      <c:valAx>
        <c:axId val="24985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4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1A8-073A-4F16-8026-5D457529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5AC-42D7-411C-94AD-9E40F610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434-438C-4109-A80B-7CC547CC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D70-36F9-44DF-9416-5FEA08C2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037-2725-4E16-801E-1F2C97A8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F2D4-FFF7-4EF9-BDE6-840113C8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900-F68F-4F45-B25C-C0D6D503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E89-0A71-4036-9732-FC38E8C2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6A78-FBE0-4FCD-A305-87106BDF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D71-D78F-47B0-9B3A-E6AB4734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A11-A222-4EF8-BD91-24480407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95DB-9CF5-4EF1-B17D-E5B3D0A0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A87BA-247C-4382-9E98-54134A1689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