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182983"/>
        <c:axId val="80573883"/>
      </c:barChart>
      <c:catAx>
        <c:axId val="941829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73883"/>
        <c:crosses val="autoZero"/>
        <c:auto val="1"/>
        <c:lblAlgn val="ctr"/>
        <c:lblOffset val="100"/>
        <c:noMultiLvlLbl val="0"/>
      </c:catAx>
      <c:valAx>
        <c:axId val="80573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1829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D5A-687B-4A1D-A1CB-DA56315C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365-9246-44BB-B062-1A08A335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768-915B-4DA8-8ABE-3D5C658E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326-133E-499E-A2CC-33556C83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BB14-8F7C-4531-878D-3AD1A81C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DC8A-446D-4E55-8232-22464593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8BEB-827F-4881-85BD-525C6E9A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3D1-60EF-474E-B5DF-916C9424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FDC-7C65-475A-AEF7-5E522C07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EFE-3618-4382-B9A8-36130B0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BFB-D3BC-443A-B474-1C8D902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5EF-76DE-4114-B554-535D3776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6FD75-6948-40B4-B6A1-66B4DC82F2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