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874"/>
        <c:axId val="88399469"/>
      </c:barChart>
      <c:catAx>
        <c:axId val="209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9469"/>
        <c:crosses val="autoZero"/>
        <c:auto val="1"/>
        <c:lblAlgn val="ctr"/>
        <c:lblOffset val="100"/>
        <c:noMultiLvlLbl val="0"/>
      </c:catAx>
      <c:valAx>
        <c:axId val="88399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44A-2EBF-43CA-8879-9C49A7AA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F6F-2BB5-4374-9348-B2C14EA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45B-2163-4E58-B2A4-39E1275B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F4A-1CC5-4502-8B6F-C36BE22C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D92-AEEB-4BEE-B592-03C0E5C4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1D7-5CC1-4815-85A5-68A6B3F7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3A2-1887-4E2F-81E2-2D99D6A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9B4-0A8B-406D-83F8-F074D19C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A51-ADBD-46B5-9299-EF6F9B0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886-3A77-4AD7-8A96-1375DEF5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72E-60A5-4C60-A0F9-235C5D3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7E3-8687-4C2E-92CF-0B61044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B35BD-F97A-4B46-8FDE-CCF420C45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