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18822"/>
        <c:axId val="24728706"/>
      </c:barChart>
      <c:catAx>
        <c:axId val="36718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28706"/>
        <c:crosses val="autoZero"/>
        <c:auto val="1"/>
        <c:lblAlgn val="ctr"/>
        <c:lblOffset val="100"/>
        <c:noMultiLvlLbl val="0"/>
      </c:catAx>
      <c:valAx>
        <c:axId val="24728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18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747-6749-4653-A99D-49856C37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C2F-30C2-40AE-A824-6C197597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287-889C-4AE4-B0F3-80DF0D11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FAB-F452-4F25-8EC2-2BA2C6BF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0B3-8556-49C8-B109-9FE0564D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C2A-50AF-4124-8E33-99A9E9A4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E71-E51E-46BD-88B7-0A480BEA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672-4241-49A0-9FCC-01EF4560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5EF-BCAB-4480-ADA7-078D7BFB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632-C276-489B-BA62-4D17226B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88C-F1D3-4006-B86E-A6A9843F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028-F0EC-4C86-B9C9-FDB841F3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1C6BD-3FB6-4297-9324-6A04248984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