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1182"/>
        <c:axId val="22401634"/>
      </c:barChart>
      <c:catAx>
        <c:axId val="4071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01634"/>
        <c:crosses val="autoZero"/>
        <c:auto val="1"/>
        <c:lblAlgn val="ctr"/>
        <c:lblOffset val="100"/>
        <c:noMultiLvlLbl val="0"/>
      </c:catAx>
      <c:valAx>
        <c:axId val="22401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1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41E-2FDC-4B32-B8AF-C639A0FA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880-AF7C-4AFC-8D17-FBE992DC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C1C-E748-46F1-A61D-5E86F7C3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438-E0D9-40CC-BEFE-0777FCB8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D24-F98D-448A-AFE5-21754FB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C6D-D63C-4A93-91AA-9314DCF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D4D-5955-4E3C-88C8-6899C348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DB0-8AF2-4793-AF9B-BFE173C2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8AD-D2BF-4F98-84C3-88F5E66A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4F0-6F11-4FFD-9AC7-8A4D5EAF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D90-6D15-4E6B-8AFA-D3A785D3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BF8-95B6-4953-9739-B530A6C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76EEE-AA6F-47CA-A48B-7D4A095741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