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248963"/>
        <c:axId val="9516656"/>
      </c:barChart>
      <c:catAx>
        <c:axId val="862489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6656"/>
        <c:crosses val="autoZero"/>
        <c:auto val="1"/>
        <c:lblAlgn val="ctr"/>
        <c:lblOffset val="100"/>
        <c:noMultiLvlLbl val="0"/>
      </c:catAx>
      <c:valAx>
        <c:axId val="95166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2489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B58B-87C5-4753-BE89-49483735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358-7FF5-4AB9-8586-569ABA57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C2FA-D020-4D8B-9F7D-B479C764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722-90FB-4FE7-8A7E-690E02B3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0820-94F6-4590-9487-E9D38C94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1A4D-4D85-4348-8052-1D83003F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3986-B270-43C6-9AD6-A06AE909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3A25-72EC-41E7-9997-2EEA71BF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CE29-F712-40EE-8C49-0E4B5C2C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BA4-5710-4B86-A2EA-3C8030EB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6BA-67F4-47EB-9AA9-7F85CBB7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74B8-6936-4879-8A28-4595D5DD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3E6E9-0740-4E24-81D0-05AB76F2D7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