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154347"/>
        <c:axId val="42030833"/>
      </c:barChart>
      <c:catAx>
        <c:axId val="53154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30833"/>
        <c:crosses val="autoZero"/>
        <c:auto val="1"/>
        <c:lblAlgn val="ctr"/>
        <c:lblOffset val="100"/>
        <c:noMultiLvlLbl val="0"/>
      </c:catAx>
      <c:valAx>
        <c:axId val="420308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54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EF8-56AA-4EF2-8FC6-F3CA9CDF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A53D-C695-41C1-9BBD-5A42D2B5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F447-5BFB-42CD-853F-E35E2E22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5C3-E9B9-4DEC-9E71-C817C481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37BF-C7F3-4A40-B457-1A292698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35B3-D0BA-4DCC-B2D7-A0F6495B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F2D-1708-4ED8-AB84-E5F68F51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B14D-8AB2-4EA1-9823-73231363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348-CCE0-4D2C-AF36-B26247AF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2FA-1B34-4ED0-93A4-948562B2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AA8-992A-4206-92DD-DB3B52A2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2941-6116-41B9-AFEB-AB0F2AEF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8569F-91D9-4537-8160-F97C9E1A73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