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557628"/>
        <c:axId val="60523769"/>
      </c:barChart>
      <c:catAx>
        <c:axId val="395576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523769"/>
        <c:crosses val="autoZero"/>
        <c:auto val="1"/>
        <c:lblAlgn val="ctr"/>
        <c:lblOffset val="100"/>
        <c:noMultiLvlLbl val="0"/>
      </c:catAx>
      <c:valAx>
        <c:axId val="605237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5576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E1D0-4E4A-4B87-A311-6BCFE181B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6707-65D2-43EA-A984-AF93E999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88DE-8AB2-45AB-8DAA-F34D608F8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6F6D-484C-48E3-B68A-D83F4B099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F34C-6B76-4338-941C-0BE66FC0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3586-08C7-49B9-B872-6DEA019E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F537-6F90-4659-BB4E-94DE0530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00B6-76E1-410A-AAE0-457E6B16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2828-C5C6-4E39-AC9E-6E95108F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D028-4E09-4247-993F-C61531AB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494B-5507-4B30-B788-0278A03B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18B5-1175-4DEB-9700-B1AD2A91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94CC6C-E8B3-41EE-82D9-1193A9B90D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