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321861"/>
        <c:axId val="56685769"/>
      </c:barChart>
      <c:catAx>
        <c:axId val="813218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685769"/>
        <c:crosses val="autoZero"/>
        <c:auto val="1"/>
        <c:lblAlgn val="ctr"/>
        <c:lblOffset val="100"/>
        <c:noMultiLvlLbl val="0"/>
      </c:catAx>
      <c:valAx>
        <c:axId val="566857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218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60F1-C4BD-41E7-9E9F-736B0DC7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5EA2-687E-4630-A0B8-CBC7677F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FE9D-FD9E-4DF2-A182-99C17BC5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B6FF-FEB8-4DC9-8B8D-EFE9E2350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3721-E311-4F4F-9E1C-5B6CAB54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D226-8812-44FC-B2F8-103B0041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55E5-4C16-48B9-9BCF-0A6F3CA4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517D-CFD8-4B25-BAC3-2E497BF6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6991-BD99-4669-827F-161C71FF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B9D8-7E52-427B-96BD-76279A3F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2956-7E1B-466D-9A28-66934C94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126E-9676-4BD4-8309-684AD45E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D0D11-A7EA-4D72-8ABC-FCD2392564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