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02142"/>
        <c:axId val="50104924"/>
      </c:barChart>
      <c:catAx>
        <c:axId val="596021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04924"/>
        <c:crosses val="autoZero"/>
        <c:auto val="1"/>
        <c:lblAlgn val="ctr"/>
        <c:lblOffset val="100"/>
        <c:noMultiLvlLbl val="0"/>
      </c:catAx>
      <c:valAx>
        <c:axId val="50104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021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09A-AE2A-4406-B18A-491F3EFD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BD8-83E6-40C2-9C81-C55D1E2C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83A-97A6-409C-8452-AFB111DC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8E5-4787-471D-97A3-0EF6D866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A75-D109-4E4A-B553-D52F8183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350F-E458-41D5-BDC9-5833B255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DA2A-D1BF-43D0-9E1C-7937BB1E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B2DB-79C6-4670-B245-3F5C1062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D79-76DC-4630-8D4E-19FD9FCA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4BF-B0AB-43FB-B30E-6ED1403E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F40-D9E6-4FCE-95CE-406B7AD0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B28-B643-4EEE-A9BD-5D2AED64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C1A4E-8373-4C39-926B-FE32A0C0C8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