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CC28AC-8953-4C0F-BCE3-FB2A36965C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8DEF0-F81D-44E6-B7A2-B6420C786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5ADA30-2F15-48AB-8C85-4144A1DFE3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732123-B393-4871-BE6C-EEC425E611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4DD23-79E9-4189-94F0-F8545F09D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62DCEC-4C3A-4963-89CD-7B74596FFF0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B94FADD-E782-427A-B022-900FC29B4A8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01F29B3-DD19-4C82-8342-6DFA377A510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202D070-0562-49C2-816F-B62EE7E8F0C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2C59E881-EB03-43D0-99E8-BB93745E30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D2B42-2CDF-4CF6-A4A2-B82EE666D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CE2C0D89-1249-4EBA-BBB1-DB83C310746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A3D9DCF-7973-43F8-A1DF-223BBFAB402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65823FF-3E58-4AAE-8FD0-DB266876CB2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8D06FB6-FB9B-4D86-A36C-CF0545938D2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82918B9-D053-48C1-ACF4-CD22BB862A8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83111BC-9D85-4787-93C4-34DBBF7258C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35B4B98-8D97-4B94-B910-88A2098925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A7BD7-FDDE-4D73-AA77-EDE2363C2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3D291-6CF2-4C8A-A6BB-6C9FBEDF8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4209F-7582-46CC-826B-B60F1F2DD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272E5-2077-4114-BC21-8E5FFC872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7ACEF-F5E4-4E61-981D-141E9A0BB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0E0CB-D77C-4830-AF81-6B8AD9D751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773E1-AB54-4A3D-83E3-A8D33FDA52E3}"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CF62C-F525-415A-8FCC-650CFCA6E1C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A1CAB-319F-4C3C-9991-B55E3355282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2" name="Grafik 6" descr="agena.png"/>
          <p:cNvPicPr/>
          <p:nvPr/>
        </p:nvPicPr>
        <p:blipFill>
          <a:blip r:embed="rId1"/>
          <a:stretch/>
        </p:blipFill>
        <p:spPr>
          <a:xfrm>
            <a:off x="6966000" y="1655640"/>
            <a:ext cx="304920" cy="304920"/>
          </a:xfrm>
          <a:prstGeom prst="rect">
            <a:avLst/>
          </a:prstGeom>
          <a:ln w="0">
            <a:noFill/>
          </a:ln>
        </p:spPr>
      </p:pic>
      <p:pic>
        <p:nvPicPr>
          <p:cNvPr id="153"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5"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A3B09-74E9-4641-B80D-9FD96BD0D3D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7"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6A2E5-1CE3-41FE-830E-8520C0C570A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prin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C47D1-8B8B-4192-8D78-66BD7E6102C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to the name c, and you can refer to this number through the name c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c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ls statement clears the screen, restart clears all values, and bye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75D89-9F7A-4E7A-BF9D-242401A30EE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9"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null or use clear:</a:t>
            </a:r>
            <a:endParaRPr b="0" lang="en-US" sz="2000" spc="-1" strike="noStrike">
              <a:solidFill>
                <a:srgbClr val="000000"/>
              </a:solidFill>
              <a:latin typeface="Calibri"/>
            </a:endParaRPr>
          </a:p>
        </p:txBody>
      </p:sp>
      <p:sp>
        <p:nvSpPr>
          <p:cNvPr id="1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E6E04-D0ED-427A-87B5-310C3F7EB86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4"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 descr=""/>
          <p:cNvPicPr/>
          <p:nvPr/>
        </p:nvPicPr>
        <p:blipFill>
          <a:blip r:embed="rId1"/>
          <a:stretch/>
        </p:blipFill>
        <p:spPr>
          <a:xfrm>
            <a:off x="2805120" y="2357280"/>
            <a:ext cx="3533760" cy="667080"/>
          </a:xfrm>
          <a:prstGeom prst="rect">
            <a:avLst/>
          </a:prstGeom>
          <a:ln w="0">
            <a:noFill/>
          </a:ln>
        </p:spPr>
      </p:pic>
      <p:sp>
        <p:nvSpPr>
          <p:cNvPr id="17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C9FC8-C39C-41D7-9919-43C22F2162A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3"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4"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5"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CC4B6-0DBE-444D-A22C-E13C5D6371A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1"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92"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8E0C6-1050-40AC-9881-4B513C2F725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6"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7"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Raspberry Pi,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9410A-CF79-4F13-8115-F2A3A430CB5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19C79-9CB1-43DC-91B4-291D5221C20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202"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3"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12E2C-1C8B-45E9-AAE1-9EF689B8EB1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8"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CABED-D728-43D5-B212-F189D69E79B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true and false, also called `booleans`.  A third Boolean constant named fail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 &lt; b,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359FD-698E-44D1-AE6E-81B091E8E16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2786040" y="350028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F791D-5116-4454-8666-8AF048EBC97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20" name=""/>
          <p:cNvGraphicFramePr/>
          <p:nvPr/>
        </p:nvGraphicFramePr>
        <p:xfrm>
          <a:off x="8269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21"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graphicFrame>
        <p:nvGraphicFramePr>
          <p:cNvPr id="222" name=""/>
          <p:cNvGraphicFramePr/>
          <p:nvPr/>
        </p:nvGraphicFramePr>
        <p:xfrm>
          <a:off x="4816440" y="2146320"/>
          <a:ext cx="3643200" cy="1112760"/>
        </p:xfrm>
        <a:graphic>
          <a:graphicData uri="http://schemas.openxmlformats.org/drawingml/2006/table">
            <a:tbl>
              <a:tblPr/>
              <a:tblGrid>
                <a:gridCol w="2452680"/>
                <a:gridCol w="11905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291EA-5D05-46A3-8BCA-151EDB40F3B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7"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7F238-4B1D-4CFC-AC2D-8ED3D7F072C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32"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33"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1B237-E7A2-43B3-8896-2CE49A9D1EA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8"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9"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quoted keys and tildes, or with unquotes names and =.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842B2-4DAA-45DD-9E3A-A3E983DB532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4"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5"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2000" spc="-1" strike="noStrike">
                <a:solidFill>
                  <a:srgbClr val="000000"/>
                </a:solidFill>
                <a:latin typeface="Arial"/>
                <a:ea typeface="Arial"/>
              </a:rPr>
              <a:t>null.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donald' is part of the set s,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9EDB3-45BB-44AE-8569-0B53E3D42F3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50"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29EBF-2DE0-48CF-853A-126751C9D6F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insert and delete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08633-529E-4667-A403-BA4FF7E47EB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5"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nu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43FDD-84E5-47D1-A860-4274437FC12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60"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1"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null, or by applying delete.</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0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15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416A9-D41B-4BCE-953F-A3365E703C4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6" name="Rechteck 5"/>
          <p:cNvSpPr/>
          <p:nvPr/>
        </p:nvSpPr>
        <p:spPr>
          <a:xfrm>
            <a:off x="928800" y="386064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C39CE-1CDF-44C5-A5EB-4DB0751D607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71"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72"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AA7D0-262C-4762-BA62-C6C927727D4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7"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null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F050E-D04B-48E0-9374-595EE2A3F17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82"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83"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Picture 2" descr=""/>
          <p:cNvPicPr/>
          <p:nvPr/>
        </p:nvPicPr>
        <p:blipFill>
          <a:blip r:embed="rId1"/>
          <a:stretch/>
        </p:blipFill>
        <p:spPr>
          <a:xfrm>
            <a:off x="2805120" y="2357280"/>
            <a:ext cx="3533760" cy="667080"/>
          </a:xfrm>
          <a:prstGeom prst="rect">
            <a:avLst/>
          </a:prstGeom>
          <a:ln w="0">
            <a:noFill/>
          </a:ln>
        </p:spPr>
      </p:pic>
      <p:sp>
        <p:nvSpPr>
          <p:cNvPr id="28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if statement. The elif and else clauses are optional. The closing fi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f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9BA14-2382-4AC3-B605-4D1D42E5B99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92"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1</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ase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3B6F7-BAEC-4046-9ED0-217113A5A9F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357280"/>
            <a:ext cx="7572240" cy="3016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1 then        # one value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0, 1 then      # multiple values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2 to infinity  # a 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non-negative, to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2</a:t>
            </a:r>
            <a:endParaRPr b="0" lang="en-US" sz="2800" spc="-1" strike="noStrike">
              <a:solidFill>
                <a:srgbClr val="000000"/>
              </a:solidFill>
              <a:latin typeface="Calibri"/>
            </a:endParaRPr>
          </a:p>
        </p:txBody>
      </p:sp>
      <p:sp>
        <p:nvSpPr>
          <p:cNvPr id="29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variant works like the if statement and may improve readability of cod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DAA63-BA75-488A-8BE5-C3FEC33DD8D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Rechteck 4"/>
          <p:cNvSpPr/>
          <p:nvPr/>
        </p:nvSpPr>
        <p:spPr>
          <a:xfrm>
            <a:off x="928800" y="2357280"/>
            <a:ext cx="7572240" cy="1863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a:t>
            </a:r>
            <a:br>
              <a:rPr sz="1400"/>
            </a:br>
            <a:r>
              <a:rPr b="0" lang="en-US" sz="1400" spc="-1" strike="noStrike">
                <a:solidFill>
                  <a:srgbClr val="000000"/>
                </a:solidFill>
                <a:latin typeface="Courier New"/>
                <a:ea typeface="Courier New"/>
              </a:rPr>
              <a:t>&gt;    of x &lt; 0 then return -1</a:t>
            </a:r>
            <a:br>
              <a:rPr sz="1400"/>
            </a:br>
            <a:r>
              <a:rPr b="0" lang="en-US" sz="1400" spc="-1" strike="noStrike">
                <a:solidFill>
                  <a:srgbClr val="000000"/>
                </a:solidFill>
                <a:latin typeface="Courier New"/>
                <a:ea typeface="Courier New"/>
              </a:rPr>
              <a:t>&gt;    of x = 0 then return 0  </a:t>
            </a:r>
            <a:br>
              <a:rPr sz="1400"/>
            </a:br>
            <a:r>
              <a:rPr b="0" lang="en-US" sz="1400" spc="-1" strike="noStrike">
                <a:solidFill>
                  <a:srgbClr val="000000"/>
                </a:solidFill>
                <a:latin typeface="Courier New"/>
                <a:ea typeface="Courier New"/>
              </a:rPr>
              <a:t>&gt;    else return 1  </a:t>
            </a:r>
            <a:br>
              <a:rPr sz="1400"/>
            </a:br>
            <a:r>
              <a:rPr b="0" lang="en-US" sz="1400" spc="-1" strike="noStrike">
                <a:solidFill>
                  <a:srgbClr val="000000"/>
                </a:solidFill>
                <a:latin typeface="Courier New"/>
                <a:ea typeface="Courier New"/>
              </a:rPr>
              <a:t>&gt; esa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19557-B5DA-4768-8EAB-A738C09C65F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4E750-6827-4E1F-A222-68BBA449BD2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0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2" descr=""/>
          <p:cNvPicPr/>
          <p:nvPr/>
        </p:nvPicPr>
        <p:blipFill>
          <a:blip r:embed="rId1"/>
          <a:stretch/>
        </p:blipFill>
        <p:spPr>
          <a:xfrm>
            <a:off x="2805120" y="2357280"/>
            <a:ext cx="3533760" cy="667080"/>
          </a:xfrm>
          <a:prstGeom prst="rect">
            <a:avLst/>
          </a:prstGeom>
          <a:ln w="0">
            <a:noFill/>
          </a:ln>
        </p:spPr>
      </p:pic>
      <p:sp>
        <p:nvSpPr>
          <p:cNvPr id="30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i in this example) which can be used in the loop body.</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0E202-4D59-4A7B-9F81-934DC47F394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4325760"/>
            <a:ext cx="7572240" cy="151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from and step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from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step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E599F-AA1B-487C-BBBA-2EE46AAB6C1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11C8E-2434-4C8E-80C8-8FD68A8AE46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22"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in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2461F-3D74-4126-B5A0-D9035EE9E25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DC683-BBC6-42D9-B60A-29AB6B241B8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000" spc="-1" strike="noStrike">
                <a:solidFill>
                  <a:srgbClr val="000000"/>
                </a:solidFill>
                <a:latin typeface="Arial"/>
                <a:ea typeface="Arial"/>
              </a:rPr>
              <a:t>condition remains tru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B690D-1505-49D1-8250-2684A61AB72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while are the do .. as and do .. until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while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D2336-A4A9-4465-AFDC-3072A833709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86031-170F-41DD-8F25-092DCB0E50E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9F6F3-D49D-4762-8C40-7FF6D52F1BD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E2970-C747-4697-9EF7-5012BA73536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until or as condition.</a:t>
            </a: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64096-F27F-4201-B26F-97572A93A07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break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E34D2-0DCE-4506-B4F6-9A385C9485A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40514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kip and 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when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BE8C9-6B22-4475-9A55-5C4E1B06317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do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B9E31-B499-4816-BB1D-6F0960CA7FA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launch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D14B2-A10C-4C9A-8E73-BBE842A7A4A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6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7" name="Picture 2" descr=""/>
          <p:cNvPicPr/>
          <p:nvPr/>
        </p:nvPicPr>
        <p:blipFill>
          <a:blip r:embed="rId1"/>
          <a:stretch/>
        </p:blipFill>
        <p:spPr>
          <a:xfrm>
            <a:off x="2805120" y="2357280"/>
            <a:ext cx="3533760" cy="667080"/>
          </a:xfrm>
          <a:prstGeom prst="rect">
            <a:avLst/>
          </a:prstGeom>
          <a:ln w="0">
            <a:noFill/>
          </a:ln>
        </p:spPr>
      </p:pic>
      <p:sp>
        <p:nvSpPr>
          <p:cNvPr id="36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7CFD3-30EB-4945-B517-65AD2345F4C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73"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turn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A4D92-D1F4-4CC4-B5D6-306CE8B2AB5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445C7-2921-40FA-91E5-42CA428D972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unctions as Binary Operato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bject-Oriented Programm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ith and related Statements on Dictionaries</a:t>
            </a: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B9D20-F439-4D85-9D9E-D7F380FF40D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rargs system table contains all variable arguments passed with the ?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nargs contains the number of arguments passed (both with the ?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90760-871D-4A65-9852-EBA6419B8B4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E23A2-3ABE-48F4-9B9B-4B88A795184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3BDAC-1A13-4A9F-8D4E-596F6A1D2DC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5DD39-C98E-42A8-AD15-E4B5F6DF4BD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Rechteck 4"/>
          <p:cNvSpPr/>
          <p:nvPr/>
        </p:nvSpPr>
        <p:spPr>
          <a:xfrm>
            <a:off x="898560" y="26557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 or :- (the negation) operat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4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681D3-5113-454A-8EC3-838BABEB025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 number then error('no number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402"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40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40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44FBB-6E43-469D-8BCC-785B21F5C2A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407"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EFFEA-5F88-4E3F-BD04-429A728FE84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rtable.defaults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CAE64-9614-45B9-8C08-931590BFE57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defaults and remember check the manual (Chapter 7.23). Chapter 6.18.1 describes the feature</a:t>
            </a:r>
            <a:r>
              <a:rPr b="0" lang="en-GB" sz="1800" spc="-1" strike="noStrike">
                <a:solidFill>
                  <a:srgbClr val="000000"/>
                </a:solidFill>
                <a:latin typeface="Courier New"/>
                <a:ea typeface="Courier New"/>
              </a:rPr>
              <a:t> </a:t>
            </a:r>
            <a:r>
              <a:rPr b="0" lang="en-GB" sz="2000" spc="-1" strike="noStrike">
                <a:solidFill>
                  <a:srgbClr val="000000"/>
                </a:solidFill>
                <a:latin typeface="Arial"/>
                <a:ea typeface="Arial"/>
              </a:rPr>
              <a:t>reminisce shortcut.</a:t>
            </a: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785B9-45AE-4EC3-B219-D8449D4C0D9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unctions as Binary Operators</a:t>
            </a:r>
            <a:endParaRPr b="0" lang="en-US" sz="2800" spc="-1" strike="noStrike">
              <a:solidFill>
                <a:srgbClr val="000000"/>
              </a:solidFill>
              <a:latin typeface="Calibri"/>
            </a:endParaRPr>
          </a:p>
        </p:txBody>
      </p:sp>
      <p:sp>
        <p:nvSpPr>
          <p:cNvPr id="4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n ordinary function of two arguments can be called just like a binary operator.</a:t>
            </a:r>
            <a:endParaRPr b="0" lang="en-US" sz="20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n using a function this way, it has always the highest prece-de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B76FF-094A-4990-9F78-1548EACD1B7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Rechteck 4"/>
          <p:cNvSpPr/>
          <p:nvPr/>
        </p:nvSpPr>
        <p:spPr>
          <a:xfrm>
            <a:off x="928800" y="2400480"/>
            <a:ext cx="7572240" cy="1152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lus := proc(x, y) is return x + y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plus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5</a:t>
            </a:r>
            <a:endParaRPr b="0" lang="en-US" sz="28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p:txBody>
      </p:sp>
      <p:sp>
        <p:nvSpPr>
          <p:cNvPr id="14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D066B-3693-4431-9B12-D88BBC51625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1</a:t>
            </a:r>
            <a:endParaRPr b="0" lang="en-US" sz="2800" spc="-1" strike="noStrike">
              <a:solidFill>
                <a:srgbClr val="000000"/>
              </a:solidFill>
              <a:latin typeface="Calibri"/>
            </a:endParaRPr>
          </a:p>
        </p:txBody>
      </p:sp>
      <p:sp>
        <p:nvSpPr>
          <p:cNvPr id="4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ethods for tables can be implemented OOP-style using the @@ syntax:</a:t>
            </a:r>
            <a:endParaRPr b="0" lang="en-US" sz="2000" spc="-1" strike="noStrike">
              <a:solidFill>
                <a:srgbClr val="000000"/>
              </a:solidFill>
              <a:latin typeface="Calibri"/>
            </a:endParaRPr>
          </a:p>
        </p:txBody>
      </p:sp>
      <p:sp>
        <p:nvSpPr>
          <p:cNvPr id="4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ECAF8-0012-4ADA-8A54-E9959E16EC3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Rechteck 4"/>
          <p:cNvSpPr/>
          <p:nvPr/>
        </p:nvSpPr>
        <p:spPr>
          <a:xfrm>
            <a:off x="928800" y="2349360"/>
            <a:ext cx="7572240" cy="3240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 := ['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Courier New"/>
                <a:ea typeface="Courier New"/>
              </a:rPr>
              <a:t>&gt; proc account@@deposit(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n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br>
              <a:rPr sz="1400"/>
            </a:br>
            <a:br>
              <a:rPr sz="1400"/>
            </a:br>
            <a:r>
              <a:rPr b="0" lang="en-US" sz="1400" spc="-1" strike="noStrike">
                <a:solidFill>
                  <a:srgbClr val="000000"/>
                </a:solidFill>
                <a:latin typeface="Courier New"/>
                <a:ea typeface="Courier New"/>
              </a:rPr>
              <a:t>&gt; account@@deposi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00</a:t>
            </a:r>
            <a:br>
              <a:rPr sz="1400"/>
            </a:br>
            <a:br>
              <a:rPr sz="1400"/>
            </a:br>
            <a:r>
              <a:rPr b="0" lang="en-US" sz="1400" spc="-1" strike="noStrike">
                <a:solidFill>
                  <a:srgbClr val="000000"/>
                </a:solidFill>
                <a:latin typeface="Courier New"/>
                <a:ea typeface="Courier New"/>
              </a:rPr>
              <a:t>&gt; proc 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2</a:t>
            </a:r>
            <a:endParaRPr b="0" lang="en-US" sz="2800" spc="-1" strike="noStrike">
              <a:solidFill>
                <a:srgbClr val="000000"/>
              </a:solidFill>
              <a:latin typeface="Calibri"/>
            </a:endParaRPr>
          </a:p>
        </p:txBody>
      </p:sp>
      <p:sp>
        <p:nvSpPr>
          <p:cNvPr id="42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constructor that created new accounts:</a:t>
            </a:r>
            <a:endParaRPr b="0" lang="en-US" sz="2000" spc="-1" strike="noStrike">
              <a:solidFill>
                <a:srgbClr val="000000"/>
              </a:solidFill>
              <a:latin typeface="Calibri"/>
            </a:endParaRPr>
          </a:p>
        </p:txBody>
      </p:sp>
      <p:sp>
        <p:nvSpPr>
          <p:cNvPr id="4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6C90F-6BDF-43AE-8A94-3541C76D932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Rechteck 4"/>
          <p:cNvSpPr/>
          <p:nvPr/>
        </p:nvSpPr>
        <p:spPr>
          <a:xfrm>
            <a:off x="928800" y="2027160"/>
            <a:ext cx="7572240" cy="2338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account@@new(o)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tmetatable(o,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lf.__index :=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 := account@@new(['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3</a:t>
            </a:r>
            <a:endParaRPr b="0" lang="en-US" sz="2800" spc="-1" strike="noStrike">
              <a:solidFill>
                <a:srgbClr val="000000"/>
              </a:solidFill>
              <a:latin typeface="Calibri"/>
            </a:endParaRPr>
          </a:p>
        </p:txBody>
      </p:sp>
      <p:sp>
        <p:nvSpPr>
          <p:cNvPr id="43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heritance: here we define a new account class based on the one defined above that does not allow overdrafts.</a:t>
            </a:r>
            <a:br>
              <a:rPr sz="2000"/>
            </a:br>
            <a:br>
              <a:rPr sz="2000"/>
            </a:br>
            <a:br>
              <a:rPr sz="2000"/>
            </a:br>
            <a:br>
              <a:rPr sz="2000"/>
            </a:br>
            <a:br>
              <a:rPr sz="2000"/>
            </a:br>
            <a:br>
              <a:rPr sz="2000"/>
            </a:br>
            <a:br>
              <a:rPr sz="2000"/>
            </a:br>
            <a:br>
              <a:rPr sz="1100"/>
            </a:br>
            <a:br>
              <a:rPr sz="1100"/>
            </a:b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more information, please check Chapter 6.24 of the Primer and Reference.</a:t>
            </a:r>
            <a:endParaRPr b="0" lang="en-US" sz="2000" spc="-1" strike="noStrike">
              <a:solidFill>
                <a:srgbClr val="000000"/>
              </a:solidFill>
              <a:latin typeface="Calibri"/>
            </a:endParaRPr>
          </a:p>
        </p:txBody>
      </p:sp>
      <p:sp>
        <p:nvSpPr>
          <p:cNvPr id="43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F352D-EEEB-4B52-80EB-8A1D7F252E6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Rechteck 4"/>
          <p:cNvSpPr/>
          <p:nvPr/>
        </p:nvSpPr>
        <p:spPr>
          <a:xfrm>
            <a:off x="928800" y="2349360"/>
            <a:ext cx="7572240" cy="2808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reditaccount := 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credit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gt; self.balance then error('Error, not enough credi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elf.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 := credit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withdraw(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not enough cred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1</a:t>
            </a:r>
            <a:endParaRPr b="0" lang="en-US" sz="2800" spc="-1" strike="noStrike">
              <a:solidFill>
                <a:srgbClr val="000000"/>
              </a:solidFill>
              <a:latin typeface="Calibri"/>
            </a:endParaRPr>
          </a:p>
        </p:txBody>
      </p:sp>
      <p:sp>
        <p:nvSpPr>
          <p:cNvPr id="4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F0BD5-456C-459E-B517-47C370DE9FF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Rechteck 4"/>
          <p:cNvSpPr/>
          <p:nvPr/>
        </p:nvSpPr>
        <p:spPr>
          <a:xfrm>
            <a:off x="928800" y="293688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210, bonn = 53111, cologne = 5066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with duedo, bonn in zips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duedo, bonn, colog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 null  # zips.duedo is not chang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1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due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 in zips; # equals duedo, bonn := zips.duedo, zips.bonn</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2</a:t>
            </a:r>
            <a:endParaRPr b="0" lang="en-US" sz="2800" spc="-1" strike="noStrike">
              <a:solidFill>
                <a:srgbClr val="000000"/>
              </a:solidFill>
              <a:latin typeface="Calibri"/>
            </a:endParaRPr>
          </a:p>
        </p:txBody>
      </p:sp>
      <p:sp>
        <p:nvSpPr>
          <p:cNvPr id="4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lavour of the with statement allows to reference an entry by just an underscore. It also allows to actively change values in the table.</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C812E-5547-468F-86EE-62B0778B4FA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Rechteck 4"/>
          <p:cNvSpPr/>
          <p:nvPr/>
        </p:nvSpPr>
        <p:spPr>
          <a:xfrm>
            <a:off x="928800" y="2382840"/>
            <a:ext cx="7572240" cy="2414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00, bonn = 5300]</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gt; with zips do  </a:t>
            </a:r>
            <a:br>
              <a:rPr sz="1400"/>
            </a:br>
            <a:r>
              <a:rPr b="0" lang="en-US" sz="1400" spc="-1" strike="noStrike">
                <a:solidFill>
                  <a:srgbClr val="000000"/>
                </a:solidFill>
                <a:latin typeface="Courier New"/>
                <a:ea typeface="Courier New"/>
              </a:rPr>
              <a:t>&gt;    print(_.bonn);  </a:t>
            </a:r>
            <a:br>
              <a:rPr sz="1400"/>
            </a:br>
            <a:r>
              <a:rPr b="0" lang="en-US" sz="1400" spc="-1" strike="noStrike">
                <a:solidFill>
                  <a:srgbClr val="000000"/>
                </a:solidFill>
                <a:latin typeface="Courier New"/>
                <a:ea typeface="Courier New"/>
              </a:rPr>
              <a:t>&gt;    _.bonn := 53111  </a:t>
            </a:r>
            <a:br>
              <a:rPr sz="1400"/>
            </a:br>
            <a:r>
              <a:rPr b="0" lang="en-US" sz="1400" spc="-1" strike="noStrike">
                <a:solidFill>
                  <a:srgbClr val="000000"/>
                </a:solidFill>
                <a:latin typeface="Courier New"/>
                <a:ea typeface="Courier New"/>
              </a:rPr>
              <a:t>&gt; od  </a:t>
            </a:r>
            <a:br>
              <a:rPr sz="1400"/>
            </a:br>
            <a:r>
              <a:rPr b="0" lang="en-US" sz="1400" spc="-1" strike="noStrike">
                <a:solidFill>
                  <a:srgbClr val="000000"/>
                </a:solidFill>
                <a:latin typeface="Courier New"/>
                <a:ea typeface="Courier New"/>
              </a:rPr>
              <a:t>5300  </a:t>
            </a:r>
            <a:br>
              <a:rPr sz="1400"/>
            </a:br>
            <a:br>
              <a:rPr sz="1400"/>
            </a:br>
            <a:r>
              <a:rPr b="0" lang="en-US" sz="1400" spc="-1" strike="noStrike">
                <a:solidFill>
                  <a:srgbClr val="000000"/>
                </a:solidFill>
                <a:latin typeface="Courier New"/>
                <a:ea typeface="Courier New"/>
              </a:rPr>
              <a:t>&gt; zips:  </a:t>
            </a:r>
            <a:br>
              <a:rPr sz="1400"/>
            </a:br>
            <a:r>
              <a:rPr b="0" lang="en-US" sz="1400" spc="-1" strike="noStrike">
                <a:solidFill>
                  <a:srgbClr val="000000"/>
                </a:solidFill>
                <a:latin typeface="Courier New"/>
                <a:ea typeface="Courier New"/>
              </a:rPr>
              <a:t>[bonn ~ 53111, duedo ~ 4000]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4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2" descr=""/>
          <p:cNvPicPr/>
          <p:nvPr/>
        </p:nvPicPr>
        <p:blipFill>
          <a:blip r:embed="rId1"/>
          <a:stretch/>
        </p:blipFill>
        <p:spPr>
          <a:xfrm>
            <a:off x="2805120" y="2357280"/>
            <a:ext cx="3533760" cy="667080"/>
          </a:xfrm>
          <a:prstGeom prst="rect">
            <a:avLst/>
          </a:prstGeom>
          <a:ln w="0">
            <a:noFill/>
          </a:ln>
        </p:spPr>
      </p:pic>
      <p:sp>
        <p:nvSpPr>
          <p:cNvPr id="44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ne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run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map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2000" spc="-1" strike="noStrike">
                <a:solidFill>
                  <a:srgbClr val="000000"/>
                </a:solidFill>
                <a:latin typeface="Arial"/>
                <a:ea typeface="Arial"/>
              </a:rPr>
              <a:t>countitems, remove, select, subs, and 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gena.ini file (Windows, OS/2, DOS) or .agenainit (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5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476FF-3367-4BE2-9DCB-37F19F5BA09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52"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save function to be read into another session later by read.</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xml package or the utils.readcsv and utils.readxml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protec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8613D-3521-42F1-BA78-6E452FBAB14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5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6" name="Picture 2" descr=""/>
          <p:cNvPicPr/>
          <p:nvPr/>
        </p:nvPicPr>
        <p:blipFill>
          <a:blip r:embed="rId1"/>
          <a:stretch/>
        </p:blipFill>
        <p:spPr>
          <a:xfrm>
            <a:off x="2805120" y="2357280"/>
            <a:ext cx="3533760" cy="667080"/>
          </a:xfrm>
          <a:prstGeom prst="rect">
            <a:avLst/>
          </a:prstGeom>
          <a:ln w="0">
            <a:noFill/>
          </a:ln>
        </p:spPr>
      </p:pic>
      <p:sp>
        <p:nvSpPr>
          <p:cNvPr id="45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E71EC-BCA7-4624-81E3-68CC7FCE811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1"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 n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 n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lt;&lt;&lt; &gt;&gt;&gt; &lt;&lt;&lt;&lt; &gt;&gt;&gt;&gt; &amp;&amp; *%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2805120" y="2357280"/>
            <a:ext cx="3533760" cy="667080"/>
          </a:xfrm>
          <a:prstGeom prst="rect">
            <a:avLst/>
          </a:prstGeom>
          <a:ln w="0">
            <a:noFill/>
          </a:ln>
        </p:spPr>
      </p:pic>
      <p:sp>
        <p:nvSpPr>
          <p:cNvPr id="145"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impor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8CFE7-AA9A-45F7-AD84-2BCBA8AF3D3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5"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A1ED8-2186-4D84-BE74-830A322DF96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9"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 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arr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ic C arr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CE0C3-C22D-4A14-A2F2-0306C21CF4C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2" name=""/>
          <p:cNvGraphicFramePr/>
          <p:nvPr/>
        </p:nvGraphicFramePr>
        <p:xfrm>
          <a:off x="900000" y="1727280"/>
          <a:ext cx="7858080" cy="439416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access the 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to list, read, and extract UNIX tar arch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4</a:t>
            </a:r>
            <a:endParaRPr b="0" lang="en-US" sz="2800" spc="-1" strike="noStrike">
              <a:solidFill>
                <a:srgbClr val="000000"/>
              </a:solidFill>
              <a:latin typeface="Calibri"/>
            </a:endParaRPr>
          </a:p>
        </p:txBody>
      </p:sp>
      <p:sp>
        <p:nvSpPr>
          <p:cNvPr id="47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43DE5-06E2-4028-894D-65ABF965CE0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5" name=""/>
          <p:cNvGraphicFramePr/>
          <p:nvPr/>
        </p:nvGraphicFramePr>
        <p:xfrm>
          <a:off x="900000" y="1727280"/>
          <a:ext cx="7858080" cy="109692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6BC61-159D-4A57-8183-87EA86B16A7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9"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604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um:</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sourceforge.net/projects/agena/forum</a:t>
            </a:r>
            <a:endParaRPr b="0" lang="en-US" sz="2000" spc="-1" strike="noStrike">
              <a:solidFill>
                <a:srgbClr val="000000"/>
              </a:solidFill>
              <a:latin typeface="Calibri"/>
            </a:endParaRPr>
          </a:p>
        </p:txBody>
      </p:sp>
      <p:sp>
        <p:nvSpPr>
          <p:cNvPr id="4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1DCB8-F231-4DD1-886D-717B5E4768F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83" name="Picture 2" descr="Manual"/>
          <p:cNvPicPr/>
          <p:nvPr/>
        </p:nvPicPr>
        <p:blipFill>
          <a:blip r:embed="rId1"/>
          <a:stretch/>
        </p:blipFill>
        <p:spPr>
          <a:xfrm>
            <a:off x="6143760" y="1643040"/>
            <a:ext cx="2857320" cy="2143080"/>
          </a:xfrm>
          <a:prstGeom prst="rect">
            <a:avLst/>
          </a:prstGeom>
          <a:ln w="0">
            <a:noFill/>
          </a:ln>
        </p:spPr>
      </p:pic>
      <p:pic>
        <p:nvPicPr>
          <p:cNvPr id="484"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AA74F-8B8B-498D-9025-47A9833FB49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5-11-05T15:40:49Z</dcterms:modified>
  <cp:revision>555</cp:revision>
  <dc:subject/>
  <dc:title>Agena Language Summary</dc:title>
</cp:coreProperties>
</file>