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749E56-4FB9-479D-8856-E6F38AFCA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8C519-9576-41FD-BEF1-931AF41FF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E97A4-C5B8-44AF-AE75-584D2779D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145F4-86F9-49F3-9930-C6945787B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28498-FA31-4FEA-AB3B-B8986F9BA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63D189-1FD4-4B6B-9329-A7205E9213E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B1C0FCC-541B-4F98-A16D-382EBDB92E6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8909AFE-08CA-47C8-A0E6-14F883152EE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29E4DCB-293A-4514-A4D8-F92917E4B7E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FA736B82-B4F4-4486-A33F-F87E1C019B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FC45E-239C-490E-B80F-F483949A7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C591266-9C19-4750-AB21-35BF5A439A6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5B7A4B2-8313-4F6B-8967-913F295B37C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92CA0F4-D75C-4671-9287-BB48F66D011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2FB050F-E3D6-4BED-9BDC-2AD56763290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58674FF-E18E-4133-A968-020B500722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3667D04-1251-4BE1-9663-C8EC1E2DC3F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CC7F2E0-03C6-4485-B7C5-CD1D3B8202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5C7F5D-4183-4E58-96CC-964B38FA8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11DA2-2030-42E3-A506-FB09E3AD4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4E93C-EFED-4F00-8C02-9B526DB3E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E46C4-DDB2-4076-ADE1-9A12CECE7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96D7D-F776-4E3A-8CB4-6F3F6D433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D1700-5A74-470B-8E57-3098879EB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D7902-555A-42EC-A66E-72D6A5E1837F}"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DF24C-F5CF-4A03-9A3F-4806BCA734D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2330-6281-4EC2-8D9E-0B680C798B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A233D-52B8-46DF-B6BC-374ADEA6AC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5D60-3B5B-4901-BA2E-4FF2F36F3C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2F2B-676C-4E6C-8A09-6ACBB3179A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C6D9-C1E2-45B6-9999-07E7761723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89231-7FBD-44D1-B81F-183D7ABF96B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57C1-F3E7-46C7-B827-1C419B8F93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BB7E-4125-42DD-82B5-4CF44BC2C9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CEBE-3C19-4AB3-92D8-92C78AEC23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32B4-400C-47E7-8726-7B22B26D894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3BF90-6682-41FC-9A17-043CF41390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7D8C-7BCE-47E3-99D5-88D0617C0A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A51E-9424-447E-8C0C-DFF6941281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ED59-262B-4E17-8449-111744EA03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0D0D-6691-4F26-9BE3-370A535E640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D29ED-29EB-49CA-800D-07E9CE5B04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7B59A-614B-426F-AE74-D70E3BBE3A9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8560-3714-4D0E-99DB-2FB14ABB47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B2D1-B0DC-4DFA-9691-2D204592B5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DF37F-17E3-47E3-A66B-034C72CE27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3D43-0087-4106-BCBC-12276FB0D3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53098-4F95-4D96-96DC-027D420D2A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F8298-88B7-473C-8EFA-879C74BC72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6901E-4E17-4A99-AB83-E63416FE30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67"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8"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26A46-53FA-40CA-BC27-E469B94230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3"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DED6A-EE93-48FC-B6C0-E54D2342DA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78"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79"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1"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Picture 2" descr=""/>
          <p:cNvPicPr/>
          <p:nvPr/>
        </p:nvPicPr>
        <p:blipFill>
          <a:blip r:embed="rId1"/>
          <a:stretch/>
        </p:blipFill>
        <p:spPr>
          <a:xfrm>
            <a:off x="2805120" y="2357280"/>
            <a:ext cx="3533760" cy="667080"/>
          </a:xfrm>
          <a:prstGeom prst="rect">
            <a:avLst/>
          </a:prstGeom>
          <a:ln w="0">
            <a:noFill/>
          </a:ln>
        </p:spPr>
      </p:pic>
      <p:sp>
        <p:nvSpPr>
          <p:cNvPr id="283"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50FDF-4990-4F9F-AD54-CD4853A937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88"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FAE4-1D85-4708-A3D4-B9F49CE489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0A77-FE93-4822-831A-BA0FCFF5BC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9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2" descr=""/>
          <p:cNvPicPr/>
          <p:nvPr/>
        </p:nvPicPr>
        <p:blipFill>
          <a:blip r:embed="rId1"/>
          <a:stretch/>
        </p:blipFill>
        <p:spPr>
          <a:xfrm>
            <a:off x="2805120" y="2357280"/>
            <a:ext cx="3533760" cy="667080"/>
          </a:xfrm>
          <a:prstGeom prst="rect">
            <a:avLst/>
          </a:prstGeom>
          <a:ln w="0">
            <a:noFill/>
          </a:ln>
        </p:spPr>
      </p:pic>
      <p:sp>
        <p:nvSpPr>
          <p:cNvPr id="30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5828E-2891-4BA8-A2F6-C277FC6FA4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1E903-C4A7-4368-97AC-225680568B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9C28-42EF-4FAF-8317-84AE6D93B7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3FE1-7BCB-4535-8CC6-37BCB470E2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14"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4116-6C96-41B7-9E51-398DD4E6D1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A951-5224-4B58-AB12-33CCD3DFAE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619E2-1C4B-4682-A96A-EFB9D451B2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AC39-FC38-489F-A1E8-2C361BCB0A0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AE69A-8429-46CF-897A-D5CEC148395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04461-2024-4E6C-920E-475ABC15809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0BF1-2AEF-4B0B-8258-A922A97728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5205-2B5E-4E13-BD64-DC7124EA96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C78E-9AD7-4701-B802-E11605ADA1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a:t>
            </a:r>
            <a:r>
              <a:rPr b="0" lang="en-US" sz="1800" spc="-1" strike="noStrike">
                <a:solidFill>
                  <a:srgbClr val="000000"/>
                </a:solidFill>
                <a:latin typeface="Courier New"/>
                <a:ea typeface="Courier New"/>
              </a:rPr>
              <a:t>when</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624C-9E2D-4D44-87F3-5AC6298EA1E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ACCDF-EFE2-43CA-9236-112AE53EAE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launch</a:t>
            </a:r>
            <a:r>
              <a:rPr b="0" lang="en-US" sz="2000" spc="-1" strike="noStrike">
                <a:solidFill>
                  <a:srgbClr val="000000"/>
                </a:solidFill>
                <a:latin typeface="Arial"/>
                <a:ea typeface="Arial"/>
              </a:rPr>
              <a:t>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2A630-9E46-4C8C-BA4B-C9A194E4B2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58"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2" descr=""/>
          <p:cNvPicPr/>
          <p:nvPr/>
        </p:nvPicPr>
        <p:blipFill>
          <a:blip r:embed="rId1"/>
          <a:stretch/>
        </p:blipFill>
        <p:spPr>
          <a:xfrm>
            <a:off x="2805120" y="2357280"/>
            <a:ext cx="3533760" cy="667080"/>
          </a:xfrm>
          <a:prstGeom prst="rect">
            <a:avLst/>
          </a:prstGeom>
          <a:ln w="0">
            <a:noFill/>
          </a:ln>
        </p:spPr>
      </p:pic>
      <p:sp>
        <p:nvSpPr>
          <p:cNvPr id="360"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A1CA-D9B8-42AA-B20C-11FB741B9D7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65"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3DE6-E5B7-4A3D-A74F-27B9CBDF5E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D7D98-D985-45BE-895A-8DA51D2030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4FDB-A4F4-4EAF-B424-C6924F037C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7B24-EC5B-4BBD-9EB5-0DD42A7118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283A5-7CC8-4656-87F4-B59883CC72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1624A-5B0D-412A-B019-B68254085F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B7CC-FF9C-429B-9119-A6C8738DAD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F3DDA-23A1-4C3C-9AE3-1CFA3BFA53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94"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A8D08-4F75-46DF-B92B-CAC42086F1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399"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0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A1686-3EA6-441C-9193-F8ABF6E5EE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264F2-F2BA-4510-90F0-0897D3D173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46E6-9C6A-45ED-A9D9-D2676F8E5A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1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2" descr=""/>
          <p:cNvPicPr/>
          <p:nvPr/>
        </p:nvPicPr>
        <p:blipFill>
          <a:blip r:embed="rId1"/>
          <a:stretch/>
        </p:blipFill>
        <p:spPr>
          <a:xfrm>
            <a:off x="2805120" y="2357280"/>
            <a:ext cx="3533760" cy="667080"/>
          </a:xfrm>
          <a:prstGeom prst="rect">
            <a:avLst/>
          </a:prstGeom>
          <a:ln w="0">
            <a:noFill/>
          </a:ln>
        </p:spPr>
      </p:pic>
      <p:sp>
        <p:nvSpPr>
          <p:cNvPr id="41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2140-CFCF-4221-AEB7-0F90BB8345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94A4-DF8A-41FD-B296-24A1AE0A97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2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4" name="Picture 2" descr=""/>
          <p:cNvPicPr/>
          <p:nvPr/>
        </p:nvPicPr>
        <p:blipFill>
          <a:blip r:embed="rId1"/>
          <a:stretch/>
        </p:blipFill>
        <p:spPr>
          <a:xfrm>
            <a:off x="2805120" y="2357280"/>
            <a:ext cx="3533760" cy="667080"/>
          </a:xfrm>
          <a:prstGeom prst="rect">
            <a:avLst/>
          </a:prstGeom>
          <a:ln w="0">
            <a:noFill/>
          </a:ln>
        </p:spPr>
      </p:pic>
      <p:sp>
        <p:nvSpPr>
          <p:cNvPr id="42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7357-CA8F-40BB-BE8C-DF9EA73C78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lt;&lt;&lt; &gt;&gt;&gt; &amp;&amp; *% /% +% -% sur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import</a:t>
            </a:r>
            <a:r>
              <a:rPr b="0" lang="en-GB" sz="2000" spc="-1" strike="noStrike">
                <a:solidFill>
                  <a:srgbClr val="000000"/>
                </a:solidFill>
                <a:latin typeface="Arial"/>
                <a:ea typeface="Arial"/>
              </a:rPr>
              <a: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173F9-442F-4FF6-B775-D4316DE126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D1C9-CAC8-41F3-B24D-29B6B94705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3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F4550-B0C5-42DC-A859-47C358271A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0" name=""/>
          <p:cNvGraphicFramePr/>
          <p:nvPr/>
        </p:nvGraphicFramePr>
        <p:xfrm>
          <a:off x="900000" y="1727280"/>
          <a:ext cx="7858080" cy="365760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5BBD2-7BD3-4ADE-97A3-D9FE37F3F0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4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62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1CDE-53C0-44B0-B0D5-2142C97996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48" name="Picture 2" descr="Manual"/>
          <p:cNvPicPr/>
          <p:nvPr/>
        </p:nvPicPr>
        <p:blipFill>
          <a:blip r:embed="rId1"/>
          <a:stretch/>
        </p:blipFill>
        <p:spPr>
          <a:xfrm>
            <a:off x="6143760" y="1643040"/>
            <a:ext cx="2857320" cy="2143080"/>
          </a:xfrm>
          <a:prstGeom prst="rect">
            <a:avLst/>
          </a:prstGeom>
          <a:ln w="0">
            <a:noFill/>
          </a:ln>
        </p:spPr>
      </p:pic>
      <p:pic>
        <p:nvPicPr>
          <p:cNvPr id="44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9ABBD-5121-4372-B6F7-14CE99B646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2769-EEAB-4C84-9091-82392D5D54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696600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4-11-12T19:06:26Z</dcterms:modified>
  <cp:revision>474</cp:revision>
  <dc:subject/>
  <dc:title>Agena Language Summary</dc:title>
</cp:coreProperties>
</file>