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64871-63FE-41CE-BD8D-C21C1953C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B1CD9-BD33-48D9-973D-FED33CF40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818E3-6F02-4875-AE77-209E4F478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A3DE1-9D17-456A-BAD5-BC99E7833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E9523-2233-4A4D-A448-0A1F93DDC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DB557F-DEE9-4DD3-A0CE-A7A2D3A8A4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7F5BCC4A-6BC4-44D1-86E2-ED08D12602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38DDA513-C66A-409F-B3A6-4C3DF919DBA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680DD1B9-BCAD-4958-A50F-2B4FCC4FB8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B4D283A9-646A-48B0-ACD6-EFD619D873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72A73-D74B-48E7-95EB-F05402C9D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A4B5A4FC-1E68-47B1-B415-56565EDCCB4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239FBC1E-9E84-4DCC-B4BE-9ED4A07EEA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C7217C33-0428-4461-9314-29C2994691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D9C8B00C-C7B9-4F64-ACE3-474B909269A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65082701-EA4F-4F88-B484-EBD1544C8D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60CC748A-9235-484B-B639-3F91C048FB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8B5B06BB-F8F9-4644-BAD3-9BF9B1F900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6C5CC-78FD-44FB-92B3-522D29E13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598BD-D54A-405B-8F9E-B7E5BAEFD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4CFDE-6DF6-4E72-A7F0-5B0E35C09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70930-AEDC-4B0A-A702-2AB529480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185BE-CC74-4A1B-9398-9DF12900B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BE6D5-4E93-485B-8F6B-615ABCA95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F3FBC4E5-0192-414B-8DE8-738A0B2C551E}"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A677C29E-2BAC-4B9F-9702-ED679A3F4E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E10490-62F3-4C7A-A2F4-03ADA702A3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55"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 A3 of the Primer and Reference.</a:t>
            </a:r>
            <a:endParaRPr b="0" lang="en-US" sz="2200" spc="-1" strike="noStrike">
              <a:solidFill>
                <a:srgbClr val="000000"/>
              </a:solidFill>
              <a:latin typeface="Calibri"/>
            </a:endParaRPr>
          </a:p>
        </p:txBody>
      </p:sp>
      <p:sp>
        <p:nvSpPr>
          <p:cNvPr id="5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7EFCA0-5E6F-492A-9590-B28EDA911A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7"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97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95E317-E5B0-4645-9366-6C87BE47A5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1" name="Picture 2" descr="Manual"/>
          <p:cNvPicPr/>
          <p:nvPr/>
        </p:nvPicPr>
        <p:blipFill>
          <a:blip r:embed="rId1"/>
          <a:stretch/>
        </p:blipFill>
        <p:spPr>
          <a:xfrm>
            <a:off x="6921360" y="1859040"/>
            <a:ext cx="3341880" cy="2363760"/>
          </a:xfrm>
          <a:prstGeom prst="rect">
            <a:avLst/>
          </a:prstGeom>
          <a:ln w="0">
            <a:noFill/>
          </a:ln>
        </p:spPr>
      </p:pic>
      <p:pic>
        <p:nvPicPr>
          <p:cNvPr id="562"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4C1BC6-A94D-451A-A6A0-088B0A5781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F6C086-6C67-4DFF-A1A1-DFDDC8D154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356A00-75DE-4465-A122-C041E5E9C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9DB097-4E2A-4F32-BEB3-977F781266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EFDF09-792A-41F5-8714-26B94BBC87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05C4A7-CFAF-4CF8-9D1C-319F667C65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4"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7" name="Picture 2" descr=""/>
          <p:cNvPicPr/>
          <p:nvPr/>
        </p:nvPicPr>
        <p:blipFill>
          <a:blip r:embed="rId1"/>
          <a:stretch/>
        </p:blipFill>
        <p:spPr>
          <a:xfrm>
            <a:off x="3279600" y="2598840"/>
            <a:ext cx="4133880" cy="734760"/>
          </a:xfrm>
          <a:prstGeom prst="rect">
            <a:avLst/>
          </a:prstGeom>
          <a:ln w="0">
            <a:noFill/>
          </a:ln>
        </p:spPr>
      </p:pic>
      <p:sp>
        <p:nvSpPr>
          <p:cNvPr id="18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9E0B3E-8B96-472E-A407-AE37111715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3"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4"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5"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3845F5-29AE-4983-B7D4-4CAFD28E3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2"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E09446-BB9B-424F-80D4-F81603308F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FB41E7-4E63-4805-A0E7-24CA247B6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6"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7"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CC7C5B1-CD87-424B-8608-4D040BEB59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2"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3"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69C4390-BC96-46B9-A001-17F3787D8B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8"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1F6201-F60B-4CCC-BD3A-76F84ABCF5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4D0D19-5CB6-443D-A938-1423CD8523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6"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0F13AB-5E69-49AB-8860-AEFD105044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0"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1"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2"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477C38-B7C2-4CED-89E7-130F1573A4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echteck 5"/>
          <p:cNvSpPr/>
          <p:nvPr/>
        </p:nvSpPr>
        <p:spPr>
          <a:xfrm>
            <a:off x="105264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3E3756-2AA6-41D0-BB70-252A4BE874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1"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2" name="Rechteck 4"/>
          <p:cNvSpPr/>
          <p:nvPr/>
        </p:nvSpPr>
        <p:spPr>
          <a:xfrm>
            <a:off x="5600880" y="3463920"/>
            <a:ext cx="435420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3"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4"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6"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68C6FF-92CC-48F8-87F0-507D0B4E62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9"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0"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6F36D3-7BB5-47EC-9CD6-97A407287D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5" name="Rechteck 5"/>
          <p:cNvSpPr/>
          <p:nvPr/>
        </p:nvSpPr>
        <p:spPr>
          <a:xfrm>
            <a:off x="1085760" y="4057560"/>
            <a:ext cx="885528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DF69C4-C9C8-4A9C-B78E-50320F8E8F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8214B9-43C9-4CB9-8D5B-6999018F3F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0"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1"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9CCF86-768E-4A75-BF34-54FAB048BA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6"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7"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0BAFAA-AFC4-4222-BB2D-F2258F00C5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2"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F394E5A-84A7-445E-8897-2CBF06066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7"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7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B292C2-54A1-463C-ACDC-935E780BBE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2"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3"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E4BB39-988E-4FD8-91CE-B3B74D1ABD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8"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32B93B-E96D-4CF9-B1C6-30E132A0CE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3"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4"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FC39B1-73DE-4C85-9CEB-1584E04873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99"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542532-9295-4344-BF72-6E2FA45D9D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4"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5"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0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08" name="Picture 2" descr=""/>
          <p:cNvPicPr/>
          <p:nvPr/>
        </p:nvPicPr>
        <p:blipFill>
          <a:blip r:embed="rId1"/>
          <a:stretch/>
        </p:blipFill>
        <p:spPr>
          <a:xfrm>
            <a:off x="3279600" y="2598840"/>
            <a:ext cx="4133880" cy="734760"/>
          </a:xfrm>
          <a:prstGeom prst="rect">
            <a:avLst/>
          </a:prstGeom>
          <a:ln w="0">
            <a:noFill/>
          </a:ln>
        </p:spPr>
      </p:pic>
      <p:sp>
        <p:nvSpPr>
          <p:cNvPr id="30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B1B2C8-40B8-4D2C-B44F-224B6A300D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4C1407-7A77-4E82-8F46-B1E5119079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4"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C53782-3E31-44FF-89C1-1CFB29D70E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2564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1F2176-38DE-4139-B010-4318CBAE08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23"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FD5146-0C5D-487F-AEFD-08B3E758F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4DA069-2A26-4985-8689-533719737A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Rechteck 4"/>
          <p:cNvSpPr/>
          <p:nvPr/>
        </p:nvSpPr>
        <p:spPr>
          <a:xfrm>
            <a:off x="108576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1AC9A9-2EA3-4DB1-BD55-03A53F0B9D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1F300D-344B-4144-A86C-CD138F30F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078D93-B775-44C6-B1DD-A9E26A0348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8576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4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46" name="Picture 2" descr=""/>
          <p:cNvPicPr/>
          <p:nvPr/>
        </p:nvPicPr>
        <p:blipFill>
          <a:blip r:embed="rId1"/>
          <a:stretch/>
        </p:blipFill>
        <p:spPr>
          <a:xfrm>
            <a:off x="3279600" y="2598840"/>
            <a:ext cx="4133880" cy="734760"/>
          </a:xfrm>
          <a:prstGeom prst="rect">
            <a:avLst/>
          </a:prstGeom>
          <a:ln w="0">
            <a:noFill/>
          </a:ln>
        </p:spPr>
      </p:pic>
      <p:sp>
        <p:nvSpPr>
          <p:cNvPr id="34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9D13F3-5CCF-4623-91E4-10732CCFCF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4D8F9D-DD8B-4AC9-8E6E-550BBC973F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6448D6-4DF4-4A25-90F9-EEEAC89413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BEE543-09C1-485F-B727-BE2297FDB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1"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AA0EE1-60B7-48DA-BDB8-91B02D90D1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2BBF2A-AFF2-4748-A34B-32EF31A1EA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90720C-0329-4406-9865-5A0B5CF708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717DFD-32DF-4ED8-861D-B2F07DC7C3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3E564A-4D0D-4486-B4AB-DC156269C8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5E134A-3842-4A6C-B66B-21A1BB8687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791352-EA6E-4BBB-A5CA-D50388074C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88"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8395F8-B53E-47C5-B7EA-C3A0470DF8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2"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67748B-49AA-4C11-8532-71F517BF25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72794A-7CF5-4E6B-B59C-0B748D9F69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C2E4DA-0715-4547-9FC3-29BBF7A313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6BEB0C-D751-4747-BFD1-35B9F2EF8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A84C5C-B13D-451D-95EB-9FF70832A9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1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11" name="Picture 2" descr=""/>
          <p:cNvPicPr/>
          <p:nvPr/>
        </p:nvPicPr>
        <p:blipFill>
          <a:blip r:embed="rId1"/>
          <a:stretch/>
        </p:blipFill>
        <p:spPr>
          <a:xfrm>
            <a:off x="3279600" y="2598840"/>
            <a:ext cx="4133880" cy="734760"/>
          </a:xfrm>
          <a:prstGeom prst="rect">
            <a:avLst/>
          </a:prstGeom>
          <a:ln w="0">
            <a:noFill/>
          </a:ln>
        </p:spPr>
      </p:pic>
      <p:sp>
        <p:nvSpPr>
          <p:cNvPr id="41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28298A-A0FE-43AA-B21F-FF37E3803B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FC836F-603D-4963-AC72-8270975A2A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646238-2698-4AA7-85ED-437BC64036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07C050-5E65-479D-95D9-5279C212C1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5D4C73-A111-4000-89D0-DE6109FC1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801B05-1463-4456-B9FD-B70731720A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01EC5B-832A-4F16-8694-583696B044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C7EB1C-4332-4029-9717-BAF698039C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958F77-7476-49C9-AF45-19ED23A16E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45"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B43C82-3017-45B8-ACEB-10E674F863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9"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50"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28095C-8CFD-48F2-BD7B-A501C7BB1D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55"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57"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151A89-A6A2-4C3C-8EA0-D80D386EFC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DCBE9B-2E4B-4E9B-9506-B6FE3832A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Rechteck 5"/>
          <p:cNvSpPr/>
          <p:nvPr/>
        </p:nvSpPr>
        <p:spPr>
          <a:xfrm>
            <a:off x="1052640" y="480708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64"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1BAB76-167A-48D9-BD62-C54848FC07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5CCFBD-E1E5-41C1-99D7-82345A869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B5E21C-0333-440C-9D85-CE9ED7431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 store[1], stor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613FC9-EB97-4422-87BD-46AB90EE83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56DFBD-919D-4F5D-94C4-F399574056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85"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8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8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1D641F-2CDB-4AEF-868E-4737A2454D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9"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490"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9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9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36DE6E-9C2E-495B-B352-62D66353FC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E5C278-9D7E-4DF9-8744-81CD54F3F9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0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0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AFD5AC-5727-4907-96E7-9544A3B29C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3C135D-7C81-44E7-998C-A603B1EC8A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38F1CA-FB04-4EAE-9E3C-7556C8EB0D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57C0E6-61ED-4A46-8F4A-64C3589DFB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85760" y="262728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E7B2FF-D917-4A60-AD79-2D0DECF38D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298DD2-F1E1-4134-A26B-F2F9B3B29D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2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21" name="Picture 2" descr=""/>
          <p:cNvPicPr/>
          <p:nvPr/>
        </p:nvPicPr>
        <p:blipFill>
          <a:blip r:embed="rId1"/>
          <a:stretch/>
        </p:blipFill>
        <p:spPr>
          <a:xfrm>
            <a:off x="3279600" y="2598840"/>
            <a:ext cx="4133880" cy="734760"/>
          </a:xfrm>
          <a:prstGeom prst="rect">
            <a:avLst/>
          </a:prstGeom>
          <a:ln w="0">
            <a:noFill/>
          </a:ln>
        </p:spPr>
      </p:pic>
      <p:sp>
        <p:nvSpPr>
          <p:cNvPr id="52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8315091-CC98-47A5-9DE2-D7C2774CEA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5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4E171B-E522-4997-8C7D-6D6A430DCC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3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31" name="Picture 2" descr=""/>
          <p:cNvPicPr/>
          <p:nvPr/>
        </p:nvPicPr>
        <p:blipFill>
          <a:blip r:embed="rId1"/>
          <a:stretch/>
        </p:blipFill>
        <p:spPr>
          <a:xfrm>
            <a:off x="3279600" y="2598840"/>
            <a:ext cx="4133880" cy="734760"/>
          </a:xfrm>
          <a:prstGeom prst="rect">
            <a:avLst/>
          </a:prstGeom>
          <a:ln w="0">
            <a:noFill/>
          </a:ln>
        </p:spPr>
      </p:pic>
      <p:sp>
        <p:nvSpPr>
          <p:cNvPr id="53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DAF71C-CCF9-44BC-84DB-0B44FA29D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6"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F1F51FA-9B91-4D17-9DCA-DE4EC758EB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74BB9E-8CCD-4F2F-987A-EF2C9AEF4E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5FD706-4153-405F-A6F0-DBAC2EB048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C9A223-3974-492A-8779-95A76053AA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0"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5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356D95-FA6A-4BE0-8C03-AD84AE3D39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3" name=""/>
          <p:cNvGraphicFramePr/>
          <p:nvPr/>
        </p:nvGraphicFramePr>
        <p:xfrm>
          <a:off x="1052640" y="1905120"/>
          <a:ext cx="9190080" cy="1631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2-12-09T11:48:44Z</dcterms:modified>
  <cp:revision>698</cp:revision>
  <dc:subject/>
  <dc:title>Agena Language Summary</dc:title>
</cp:coreProperties>
</file>