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FD51E-3E14-43A6-8B33-C54A4AADD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784FA-E000-46FD-9DF3-1DCB30F92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A766C-BA75-43D3-966F-12DC69D02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B4A47-3F8A-4F6F-BA4C-650DE2E88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617A1-B93B-45EA-AE27-844998978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7B768-A8BF-4641-9D22-78433C1E3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2F6F4-7C7D-4A4C-B133-AF36B1E37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43E17-9E8D-42FA-82DC-08C3A3048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294BE-8F02-4E0F-88F7-0856F3DBB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A0121-37ED-439E-8C06-FF051A036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300AF-3216-495F-AD80-41F0BB8E9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9ADA9-A9C9-4F20-B4C1-9A0240C85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5A08D-9B27-407A-88EB-9515BF84EE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295280"/>
            <a:ext cx="3733920" cy="685800"/>
          </a:xfrm>
          <a:prstGeom prst="cloudCallout">
            <a:avLst>
              <a:gd name="adj1" fmla="val -38902"/>
              <a:gd name="adj2" fmla="val 16087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2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537000" y="4713120"/>
            <a:ext cx="3581280" cy="48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 reci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4-11-07T16:47:07Z</dcterms:modified>
  <cp:revision>43</cp:revision>
  <dc:subject/>
  <dc:title>PowerPoint Presentation</dc:title>
</cp:coreProperties>
</file>