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5980"/>
        <c:axId val="23254371"/>
      </c:barChart>
      <c:catAx>
        <c:axId val="9585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54371"/>
        <c:crosses val="autoZero"/>
        <c:auto val="1"/>
        <c:lblAlgn val="ctr"/>
        <c:lblOffset val="100"/>
        <c:noMultiLvlLbl val="0"/>
      </c:catAx>
      <c:valAx>
        <c:axId val="23254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5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5C3-75B6-4627-A343-28BA0AEA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FD6-BE52-4813-BC51-6B8CD7B0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86D-F360-4249-8400-03803FEA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910-4A64-4DB8-9EAC-70298633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7F0-3D5D-43A2-8105-972149F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E0C-E351-4476-9CCC-A047AF1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DE2-C08D-48C5-9F65-1668FB2C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BBD-6160-4EDC-AE46-F01235C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607-CF7B-4F50-9ECB-181E98B9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2EA-3517-4F08-B8FB-6DF3A49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1C3-92B8-44BF-A9C4-A5FAE50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476-B1CB-43FE-BFFF-FD56598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7C4F2-7C24-4880-A7F3-7C3777F077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