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97278"/>
        <c:axId val="69244392"/>
      </c:barChart>
      <c:catAx>
        <c:axId val="38797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4392"/>
        <c:crosses val="autoZero"/>
        <c:auto val="1"/>
        <c:lblAlgn val="ctr"/>
        <c:lblOffset val="100"/>
        <c:noMultiLvlLbl val="0"/>
      </c:catAx>
      <c:valAx>
        <c:axId val="69244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97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17D-8EBD-42C5-87B0-6B708C4F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88E-D994-408D-A1EE-38711393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037-15E9-4D60-BC9E-E4302710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949-8D8B-4C46-BD14-A8F92177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1C9-E974-4981-8DF7-8F132763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4FB-F4BB-4E8A-AC71-B7F785B0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9A5-2838-4738-BCC1-4D9846DF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139-8D65-435C-BA00-6ED651E7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B73-8889-4CB0-8A90-BA6C49FA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A73-8ACF-4318-9EC9-F4F3128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055-3F4C-4B49-8255-D56ED96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C9E-D460-4ED0-90D3-42183F8C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4FA87-BFF1-4954-A888-98F9ADA03B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