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53603"/>
        <c:axId val="26776479"/>
      </c:barChart>
      <c:catAx>
        <c:axId val="85453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76479"/>
        <c:crosses val="autoZero"/>
        <c:auto val="1"/>
        <c:lblAlgn val="ctr"/>
        <c:lblOffset val="100"/>
        <c:noMultiLvlLbl val="0"/>
      </c:catAx>
      <c:valAx>
        <c:axId val="26776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53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AD8-BBCA-4429-8579-07ECDEF7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BD8-D6AB-451D-AC93-727B92DF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9EA-DF06-44AB-B551-E6D32F82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357-06AB-4A07-842E-13490430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840-3A20-47D5-A7FB-4DC0553A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A27-0AD5-40A8-969A-A938B5C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E7B-BE76-4A43-916D-C5C22960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419-64C9-45A2-AACB-16B7D15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477-D3F7-4A63-8C0E-57FD49A3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D56-FB73-478B-B31F-4E4F75F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65F-9121-4CFD-82CD-171994C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CDD-09AC-47BB-BBBE-69C1BC9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FFBAA-7599-4865-B7CA-0CDC5A70E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