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771238"/>
        <c:axId val="43176230"/>
      </c:barChart>
      <c:catAx>
        <c:axId val="477712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176230"/>
        <c:crosses val="autoZero"/>
        <c:auto val="1"/>
        <c:lblAlgn val="ctr"/>
        <c:lblOffset val="100"/>
        <c:noMultiLvlLbl val="0"/>
      </c:catAx>
      <c:valAx>
        <c:axId val="431762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7712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07C3-7836-4DE0-89F4-D5894F110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0490-BBDA-4743-9CBB-E0FFC0A4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D89F-07CC-437E-AF9A-03FEF2DC4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A57E-72C0-4392-B854-CA051BB19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127D-CE25-45D9-A24B-FC4FD060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3394-DF0A-4D0C-A956-5ED4D01B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2CD7-CCD5-4173-BA86-C7EED8A5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077B-A91D-4E0D-B661-A8B07C3A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F7FF-23B7-48C3-BE1D-44967911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AE48-BD2D-4D4E-862A-3B18C122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9E2D-0EA1-43FB-A489-69DA80E5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4B27-A2A1-4421-9D9B-1D98D6C8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404E28-88AF-4D3B-89D0-B8374CC9A6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