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0993122"/>
        <c:axId val="15961612"/>
      </c:barChart>
      <c:catAx>
        <c:axId val="2099312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961612"/>
        <c:crosses val="autoZero"/>
        <c:auto val="1"/>
        <c:lblAlgn val="ctr"/>
        <c:lblOffset val="100"/>
        <c:noMultiLvlLbl val="0"/>
      </c:catAx>
      <c:valAx>
        <c:axId val="1596161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99312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084D5-DC16-4D3F-AA03-AE872D447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B777A-4D94-4012-A448-9AB29BCC7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5EA5D-FBF9-4539-B486-09F9F2970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E6B0B-A99F-4C17-8B19-6C44800CB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44C2E-7FB8-46CE-83C5-0A32BE94E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77265-30FE-4874-B6EA-A14521A9E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D3040-E250-46D4-8DAD-933F5DA64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35DF4-F29F-4137-AB44-FBA89E98B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9D891-3100-4018-8A31-5E6FC2EFB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2CCBE-BED4-42B7-8C50-CD58B8B60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9E501-AABE-44FD-A5A0-849968281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7FFCA-5074-4E27-B940-37DC722B1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D027AC-D730-4870-B7E6-8E0A3F31AE6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