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39598"/>
        <c:axId val="20691054"/>
      </c:barChart>
      <c:catAx>
        <c:axId val="72739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1054"/>
        <c:crosses val="autoZero"/>
        <c:auto val="1"/>
        <c:lblAlgn val="ctr"/>
        <c:lblOffset val="100"/>
        <c:noMultiLvlLbl val="0"/>
      </c:catAx>
      <c:valAx>
        <c:axId val="20691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39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CF6-69B7-4009-98DC-71A529E3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44B-ACB3-44E9-8B3D-20A45B9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134-DF22-424E-A4BD-6031D61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FAF-4608-4D7A-AC8A-92B19DD5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ACC-99EF-4DAF-9F26-0408887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E80-3DAF-4AC6-A9A0-BFD2318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996-1071-44D8-B7FC-1C76217E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A4A-9CD5-4EC4-B14C-DCED6E5B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E99-6047-4475-BC1C-AB0E2F05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9E9-9968-49FA-B58A-A50CEFA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896-0717-4CAB-9E28-7FEEBD7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D0B-CA30-423C-ACC1-43AD5A1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6088A-C4B6-4E39-902E-8BB8745B0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