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8582"/>
        <c:axId val="62354887"/>
      </c:barChart>
      <c:catAx>
        <c:axId val="8218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54887"/>
        <c:crosses val="autoZero"/>
        <c:auto val="1"/>
        <c:lblAlgn val="ctr"/>
        <c:lblOffset val="100"/>
        <c:noMultiLvlLbl val="0"/>
      </c:catAx>
      <c:valAx>
        <c:axId val="62354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8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276-05EF-427D-9AC4-B0F8D9B7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98C-6D7D-4355-BF37-DC3CA837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BCF-58FB-46FD-854E-19FB2C20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4E7-E4F8-449D-AD52-DBEEA82B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CF4-3D4A-42FD-BC37-5A8E06E6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944-4D35-43D8-BE42-0E578DA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847-1F53-4E0F-BEDE-6932833F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E06-AF2B-4AA9-8175-421296CA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0BE-F3DF-455A-8DD8-471794BE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11C-CCE5-4767-ACEC-EE705F2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3DA-65B3-4AB8-B938-F5A42576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21F-5D84-4C50-A5EC-018BF4C1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F5E5E-2BFC-4B57-A28B-7BD29AB43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