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390485"/>
        <c:axId val="80839125"/>
      </c:barChart>
      <c:catAx>
        <c:axId val="513904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39125"/>
        <c:crosses val="autoZero"/>
        <c:auto val="1"/>
        <c:lblAlgn val="ctr"/>
        <c:lblOffset val="100"/>
        <c:noMultiLvlLbl val="0"/>
      </c:catAx>
      <c:valAx>
        <c:axId val="808391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3904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EE4-46E7-4CBA-B864-A2DB6EC4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452-3C58-47B7-832B-371A729E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1286-256F-4648-88BB-7A219CF7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3B4-1A45-40FB-9B8D-57264879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A63-B8CA-4481-9607-1E792B1D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145F-C682-41E7-9326-3024AAF1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C31-3A3E-4CAF-9C5D-40FDDA0B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A798-BBF6-47FC-AC92-BFA882DE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4F8-39E4-404E-8010-E38A0265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D25-0A8A-429B-A0C4-DD68CDBF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E43-2C22-4674-8AA6-A0FE86A5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3E13-B5CA-4536-A1B9-E6C4936A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FA08D-0CA1-4FA7-A888-1DD394F83C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