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2173"/>
        <c:axId val="62809019"/>
      </c:barChart>
      <c:catAx>
        <c:axId val="3822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09019"/>
        <c:crosses val="autoZero"/>
        <c:auto val="1"/>
        <c:lblAlgn val="ctr"/>
        <c:lblOffset val="100"/>
        <c:noMultiLvlLbl val="0"/>
      </c:catAx>
      <c:valAx>
        <c:axId val="62809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2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957-C087-43B1-8F71-5D5DB4DD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BE1-8492-4369-96F2-17D0AEFB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E33-F0AA-4E17-8686-FE1B57C6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FD8-7A98-44CE-97C0-A97CC05A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8C8-39FA-4611-859E-DFBA932E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E78-C866-40E9-956E-312ED57B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047-5174-4A58-9109-ACF6CE48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634-3003-4735-A918-85D36819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3BD-2D3B-406F-93AB-35F26F70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6B2-3EFF-48E1-B56E-76C49F40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191-59C6-44AC-91FC-00FBBBAD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AA8-AE56-4262-A8BD-56AED117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D5FA5-2F90-4361-AEC7-0B6A7456BF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