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86492"/>
        <c:axId val="62656552"/>
      </c:barChart>
      <c:catAx>
        <c:axId val="28286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56552"/>
        <c:crosses val="autoZero"/>
        <c:auto val="1"/>
        <c:lblAlgn val="ctr"/>
        <c:lblOffset val="100"/>
        <c:noMultiLvlLbl val="0"/>
      </c:catAx>
      <c:valAx>
        <c:axId val="62656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6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E5D-36F9-461F-93B7-8389176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858-1BBF-4BE9-82BA-372ACB1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83E-DB0A-4BDB-BD65-B140459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C2D-78F0-49B2-BDC8-CD730613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B0A-A938-4B2E-9718-46157E3D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5F7-782F-436E-849C-2E15F6C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3E6-F119-424C-94B1-2886AE4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B52-42A8-4143-97F6-99E2786D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C2F-F4C6-46DF-930D-E6C4074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128-D3DE-4739-AA78-156FCCE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C3F-102D-4959-A768-30EBA0C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85B-183A-470D-8EE9-AD6F4FB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F0924-8EC8-4D57-A164-C5098B9D9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