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389361"/>
        <c:axId val="1489938"/>
      </c:barChart>
      <c:catAx>
        <c:axId val="693893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9938"/>
        <c:crosses val="autoZero"/>
        <c:auto val="1"/>
        <c:lblAlgn val="ctr"/>
        <c:lblOffset val="100"/>
        <c:noMultiLvlLbl val="0"/>
      </c:catAx>
      <c:valAx>
        <c:axId val="1489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893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1C9-CDFB-4D7E-A7C6-215745A3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1CA-5B10-4877-8A19-78DDBEB4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E2C-5C4F-41B5-B395-4B41AF54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B0D-E972-4983-A5D6-A69EF9CF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FAF-B379-45ED-A7E7-F6D0DE1E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A6A-8F22-4671-B5F4-81060428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3BB-9824-4A6B-B38E-74E5F605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D9D-D66F-45DA-923C-76967DD9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77AC-B879-42F1-B34C-4A1FF720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B13-5012-4B45-808A-1181899A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F2A-D143-4829-9AE0-C239AF0D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0338-3F03-45E0-841E-DAE74DFD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25AA3-9C1F-4DF5-8323-B5063B1811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