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554632"/>
        <c:axId val="59920493"/>
      </c:barChart>
      <c:catAx>
        <c:axId val="555546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920493"/>
        <c:crosses val="autoZero"/>
        <c:auto val="1"/>
        <c:lblAlgn val="ctr"/>
        <c:lblOffset val="100"/>
        <c:noMultiLvlLbl val="0"/>
      </c:catAx>
      <c:valAx>
        <c:axId val="599204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5546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2C94-7DC5-4095-97DE-B4148AC99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4421-9C2A-4E66-AAA4-E0E0CD2F0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C941-4367-4D49-BDAD-63B16CC3F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D1E0-574F-4CBD-A28A-38880D509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8715-5ABB-45E3-84A6-7EFBE6543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29EE-915C-4E1F-8435-4E3C55073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0C69-FFAF-4AE2-BD44-3FB472666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4A71-76C7-4CF3-8EDE-FB257930A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F296-39A2-4153-9475-AF37245A3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508C-03D9-4074-92E3-ECBCDD77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9666-3B5E-411D-A172-8E4E338B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D1EB-F6DB-4360-A933-1FD8EE1C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09DF27-0687-4801-8FB9-4B1E0B53362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