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arbrake.wav" ContentType="audio/x-wav"/>
  <Override PartName="/ppt/media/The%20Microsoft%20Sound.wav" ContentType="audio/x-wav"/>
  <Override PartName="/ppt/media/image2.png" ContentType="image/png"/>
  <Override PartName="/ppt/media/image3.png" ContentType="image/png"/>
  <Override PartName="/ppt/media/clap.wav" ContentType="audio/x-wav"/>
  <Override PartName="/ppt/media/driveby.wav" ContentType="audio/x-wav"/>
  <Override PartName="/ppt/media/image4.jpeg" ContentType="image/jpeg"/>
  <Override PartName="/ppt/media/image5.jpeg" ContentType="image/jpeg"/>
  <Override PartName="/ppt/media/image6.jpeg" ContentType="image/jpeg"/>
  <Override PartName="/ppt/media/LOGOFF.WAV" ContentType="audio/x-wav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  <p:custShowLst>
    <p:custShow name="Custom Show 1" id="0">
      <p:sldLst>
        <p:sld r:id="rId3"/>
        <p:sld r:id="rId5"/>
        <p:sld r:id="rId6"/>
        <p:sld r:id="rId7"/>
        <p:sld r:id="rId8"/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2386-85A8-4815-BF46-C2ED10D7F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F15A-E2CB-48E0-94FC-9A0DAD87D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48F7-96C2-4709-85C7-950720141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2391-C593-4BEA-975E-23CCA2281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715D-8454-4AF1-8C87-41558F5B0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9B12-9F31-4E39-B4F8-F7A3765C3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A2FB-D297-4075-B2C6-5C84F1DD9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5918-26B4-400B-8D0C-FE8A85215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0EB1-B178-43DC-B6F9-78978B147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129D-6F36-43BF-BC1C-481ECCDA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21AC-F785-4812-BD08-0873153E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6E4F-846F-4FEE-85D9-8802C428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303F1-C6AF-484D-B6EA-64BEBB732E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The%20Microsoft%20Sound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LOGOFF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" descr=""/>
          <p:cNvPicPr/>
          <p:nvPr/>
        </p:nvPicPr>
        <p:blipFill>
          <a:blip r:embed="rId1"/>
          <a:stretch/>
        </p:blipFill>
        <p:spPr>
          <a:xfrm>
            <a:off x="880920" y="704880"/>
            <a:ext cx="7380360" cy="5448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random/>
    <p:sndAc>
      <p:stSnd>
        <p:snd r:embed="rId2" name="The%20Microsoft%20Sound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b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5280" cy="56865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5280" cy="56865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  <p:sndAc>
      <p:stSnd>
        <p:snd r:embed="rId2" name="driveby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d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6720" cy="56865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random/>
    <p:sndAc>
      <p:stSnd>
        <p:snd r:embed="rId2" name="carbrak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e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6720" cy="56865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  <p:sndAc>
      <p:stSnd>
        <p:snd r:embed="rId2" name="clap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f" descr=""/>
          <p:cNvPicPr/>
          <p:nvPr/>
        </p:nvPicPr>
        <p:blipFill>
          <a:blip r:embed="rId1"/>
          <a:stretch/>
        </p:blipFill>
        <p:spPr>
          <a:xfrm>
            <a:off x="507960" y="376200"/>
            <a:ext cx="8126280" cy="610380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  <p:sndAc>
      <p:stSnd>
        <p:snd r:embed="rId2" name="LOGOFF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g" descr=""/>
          <p:cNvPicPr/>
          <p:nvPr/>
        </p:nvPicPr>
        <p:blipFill>
          <a:blip r:embed="rId1"/>
          <a:stretch/>
        </p:blipFill>
        <p:spPr>
          <a:xfrm>
            <a:off x="142920" y="160200"/>
            <a:ext cx="8858160" cy="653760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8T23:56:44Z</dcterms:created>
  <dc:creator>DirtySlesk</dc:creator>
  <dc:description/>
  <dc:language>en-US</dc:language>
  <cp:lastModifiedBy>DirtySlesk</cp:lastModifiedBy>
  <dcterms:modified xsi:type="dcterms:W3CDTF">2000-10-04T04:47:42Z</dcterms:modified>
  <cp:revision>2</cp:revision>
  <dc:subject/>
  <dc:title> </dc:title>
</cp:coreProperties>
</file>