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5DF27E-AB88-4A7C-B9E4-DAE944668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FE420D-F6B3-44C4-B4F3-E65CEAA3A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3122DE-EB89-4032-8FF8-F7B3FEF746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807572-E8AE-44AC-AB24-9FBD2F63A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61B0E3E-0C58-4B19-BB29-8C147DC260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3FA1C8-9CDC-4016-ABF1-A0B3527C6D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BEC9F-5936-48FB-95BD-506453BD1C7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6169A8-7766-49FC-97D3-ED08BB8537D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9E38F8-4379-4AC9-A22A-BC6CA2D7F1B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2EA343C-5209-4668-B270-8C77082DD13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525FB4-4F32-4F00-8392-53B8171F08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6E231E-1118-4AF3-A6D1-E618471F51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F3B177-1553-414B-84F3-D3160F2015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A731D2-FA46-4141-8661-AF71E76857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CCD4FB-C3C2-402E-9CAB-B70464ED2E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05EA31-F9C7-4834-92B7-E9D4907F00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B1C07E-2D83-4C79-A86E-F9577B6060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7346B45-3E51-493A-BB00-7EFC86A295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F0C493-9688-41A4-B0DD-0BC75E8663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16F282-9D53-4B5A-A38F-9C66D3FDEF6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6D13AA-5450-40C6-9F78-F2FA287FDD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A8D038-34EF-4D55-BB5E-02D37307C0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4B38D0-6653-44CA-B7B2-D0171E7583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1532E-400A-407C-A19D-3A0D883A1AB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DDDFE-4E49-4C75-9422-FD75B731C20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E7803-70BF-4733-BA90-361BC9B8B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16E9413-703B-44A5-ABF6-3A705888BF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01BB8-F1C3-4C4C-858E-6DB75D9722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8C9E3-E253-40BD-8554-679E2E251EA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562621-B908-4FC3-A4D0-AEBF116E4B2A}"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8E438B-68EC-4032-9C59-A31DB1E52B5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75610-7778-47AB-9036-6F2CE3426B3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53716-FA71-4622-9DF2-BC3B5484AC2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BBF9C-5D17-4712-A9B3-03B3400A16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8DAB1-F774-4125-AC17-6CADBB69AA9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8358F3-846D-4391-82A3-2DDD5ABB857B}"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CA9C36-7303-41A3-86E8-8B20BF3CB64D}"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EB79F-92D7-44B5-AA73-B54C6524EAAA}"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FBCC49-FC74-4BCE-B98F-F7E00D69E6F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696A5A-BD5C-4563-BC02-F1137F1E8DD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10375-7A01-420D-9C02-EEEAD4646337}"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FD14E0-6EFA-4517-B6FE-4FD8EC42B054}"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5CC1C-A985-49B0-A515-9951DD44B52D}"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F97CB-30FC-478A-92B3-F840A2E895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CE737-C557-4E6B-82E2-F23F0EB8C58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FCD4CB-CDD9-4F92-BCF0-D5DDF5C181A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67C675-E089-4C1D-8D53-FDBE9E9FA58B}"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4738F-F38D-4208-9A26-51BCC99FCF6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B9B13-62A4-40CF-AF65-8ABAA575B1DC}"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7ED99-B83D-4C9E-9B0F-46327670049F}"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87759F-9DCA-4680-BB24-F1022528D5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5DD40-34EB-47BA-AC6D-8E589115B5B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1E2CBC-1075-4502-BFAB-019EBFBE0F6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9955AD9-81A4-4A76-ABCE-714A71E1BC0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3A3A81-B0CE-46CC-B790-CEEFB78EA00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2D48F-D5FE-422B-B2D4-8251428C477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FF65E6-9704-4C77-90F0-B7C34D542D1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513E3-257D-4828-A9FE-110BDA7E6B6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2D29C-1728-4556-A261-14027DDEE49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8B493-9B48-4F99-B567-062FABC2ABF9}"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2106F-A2CA-433F-80AC-572D597647F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033852-06FE-4E24-AFDC-E24A781948F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1B338-E736-4E27-9BE2-D4F256ADD4B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3FA16-D7BC-47D2-87DF-24C3C6E896A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C930F9-A86E-46E6-9C7C-5B849074BA3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9C1686-ED0F-4636-B8D7-48EFF02211A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F89BCF-36A8-46FF-8FA8-AC96DBB83902}"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955FF1-7C64-4590-B9D3-C70789A2CB17}"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C348D-666C-4BA2-9534-5AE278DE196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8DA7E-98B1-4302-8993-E49E736A0A4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E50C-76EA-44AA-A059-41116C92196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A7E96-E1C0-47CE-AAB6-2D7A1D88F73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3A15A-CA89-434A-AED3-7713F3AD9F1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71662-FD31-4977-B70D-FDCFCACC9882}"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DAD6E4-12F9-4EDA-B7AC-AC53C0C084A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F7296-F8D6-4A77-B4EE-4F1CCADAD96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A646E0-2695-420C-A139-DA309C473E7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11081A-61F0-4761-A5C7-3C2528B2028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E5FA5-64D9-4242-B1E4-D41C89409D2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D6E1D-F585-4A8A-85C9-B28D6C5AA03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B86530-20EF-4395-8997-CE49577FFBA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EE2F7-D10E-4B52-8779-AC4B68C01CE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7DE5A-203E-45FE-97EB-F59C3173BFB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171E33-F346-4D60-84AC-8F60DCF8F8F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A12B-D310-4A00-8C1B-142908942E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C94EDAB-B7ED-4143-91CC-4150F8D6464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724955-41F1-4B32-A6C0-4A056BAE50E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951C01-CCB5-4AFB-B39A-F08A3B20214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85B3D-C9DC-4CD2-9DAD-CC1543C1857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4EF14-BC43-4D58-AF17-8F8756E0BA4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BBF85-CF73-4099-8F83-16360891C4F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E5C59E-39B9-4833-AFF7-31E192F5B98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20979E-B63C-4DBF-8A06-616C689D36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F1DEA3-121E-43FB-AA1E-61970E427FD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A05AB7-F3B4-4D1C-8C76-ECFBE0F9EB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1590B1-BBCB-4905-BDBC-A5AF3F9FF83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F2C5EE-2FFF-46DA-A0EE-A15D09AE424B}"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29577-BA44-4CB0-8464-5A6CFD4E0A1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FEDBB-D3C3-442D-AFC4-A773305863C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7EC05C-1309-4BD0-BB97-7AEF44B925F1}"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F218E1-69A1-4F47-B6BA-51E766C4C3A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D62B08-4750-42DF-B70E-F687E7020A43}"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29AC0A-3A4B-49F1-8A98-2065B2D8EED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44E8268-5071-4917-9F50-CFF7AA0B46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9B3B5-FE6C-4972-B2FF-06F7073486E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8CD08-536C-4077-A4A3-65ABA959198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488B5-FB12-4687-97D9-60C62B3E04F7}"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5E042C7-6946-4ED3-8EA5-9F6D62DEC98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83BF1-81C4-40B4-84B7-F53F444B6BD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5C2D1ED-E583-4D47-AC17-78D35FD80544}"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D6E398-D9D1-4116-AAE1-5D9A3F82C4F8}"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35948-4A62-4937-999D-BF71E5EDA27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770D6-4F55-4FF7-91D0-A82E6954506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2BAA8E-386A-48E2-ADD7-FFC5C6B51C71}"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AC0E36-CD6D-4F3D-8578-AC8F815AB14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B1C71-D00D-4D14-8FFE-5E1287BA841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8520D1-929C-44DB-A6AB-FBE1FC31631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6DB49-B804-44BB-9DF9-08835835497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802F68-F70A-484C-B1E4-D7B559D9968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40EB5-91F1-4247-85CD-DC4B6631088A}"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3D18D-D480-4C85-85D8-970AB299D26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6917B-81AC-4B7E-9397-6A5AF091D85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D13E-8415-4389-BEEA-314DC8CAD8B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075F2-DB68-4896-BDB0-C3E74FC4495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C4CE-87D9-4F44-BA5B-8A71CC02A6C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86DB530-DBA3-47E9-854F-ABBD69D02639}"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D9E29-373F-48EB-BF0C-6D8F56AA1C9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BFDAD-3050-442F-B446-C28484F3417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43FCC-9249-4267-808C-DB7392AB7C30}"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071C-3D20-4E74-9329-AE9DE1F4D71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617AF-1B5D-49C2-8685-E30F265F8543}"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9B4BF-11F0-4DB5-93DD-952F6EDE1D2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F6296-4153-4C6A-A4FB-D3B1EB93B76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65D996-DD01-45A2-8DE8-5A5ED588B16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5E185F-83D8-461C-AA02-098E9494980F}"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1168F-89E2-4CEB-B70B-AFFAC5B18A6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EDEDC-EF92-484F-B2BB-713E3330AC55}"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C526-58A0-42D7-B093-1CD7DA8BB83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831790-F68E-4E41-8519-A13CC5A83D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AD90B-8421-41B5-AD2E-5D92B7B3FF5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A5D463-4A51-4BC3-B807-D74E5A9E7BF9}"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4AC27-044A-4600-B016-C6F4C0017AC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F4D33F-4B3E-4DA7-B0B4-BC02231AD576}"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7A71-0137-40A5-B84E-6C092969F2E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49F7A8-3519-4052-84E9-5F987D7AD6C4}"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3DF83-3926-4E84-AAB3-9CBE10D1D4FA}"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084E1C-78EC-4B23-B940-BCB22F34563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DBD6B-FF22-45C0-B06F-15B6C582A64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AC447-9477-4D5C-89A3-3332F4AEFA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E7496-F69D-4150-A836-FD9C042F77E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75D11E-E1B0-432A-B5BC-7E5A82A758B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06699-77F5-4010-9F60-CD2008BE4DC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5B090-BBD1-4E08-972C-B1B13DC8D0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02F549-9B06-4D38-875D-0238C1BDCA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28373C-D9C9-4463-A087-835D6365F79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4FFD5-03CB-4085-951B-F281B5BF968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1023F-D3C5-4C57-90ED-32742D79DBF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529629-6D70-4F4F-80CD-1479BB132BC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EC326-E47E-4D62-B829-CCF2BDD6631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79EDE-8ED7-4239-8B09-ABE66CB793D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0207203-114D-458A-A3F9-88B5C2E332D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7C24D-9071-4E63-9DF7-1DC8DCCAD5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79CB66-AD3D-47B3-8DD6-BE4EF25EE98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9C134-63C6-4138-B90A-160615D9304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C3C292-51EA-46C0-BAA3-FD8D745C460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74F1B6-B41B-4ACC-A57E-3DA67A7E73E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AE3E1A-2B43-4BA0-BA49-24B7741E47D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B1800-619E-427B-A4D5-F07027389AA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2162-DA9C-47D2-9394-95AC9E2F0BB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EEDCE-B9B8-427B-A762-9FF8E654F3D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95DDB-3289-4A19-9749-8D3BB4E3DAD0}"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22206-2D41-437A-A668-281C5204ACF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3AA68-75A0-4CA4-A71A-042B47AD02C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7DFEA-E2AF-4345-BD0E-4CBD1159D07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035E48-8828-44FE-9EEE-6DBBE290470E}"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76AC5-FA28-4E5C-903B-50CE25E20B5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12645-49E6-4443-8812-178508DD4C9A}"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2F51-3CA9-45BD-AE09-D4BDAF3DD68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C428E-BDB5-408F-9D12-76A6524FC36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ECA65-FF79-4E5A-8888-40FF8AAE56B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BF6A3E-C50B-43C1-8EC1-44BD87660569}"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039073-00AF-4558-BD8F-6CE73F93B8A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91332-F0BD-4EBC-8F39-71C8FFF3991E}"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76B9D-EAAE-49F5-BE41-048F3FEE05D9}"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083690-2C35-4DB6-8660-FFBEF4B0B00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917C43-FE31-4A43-B3D3-06C8073C9631}"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AAF8F6-20F0-4838-8851-1F8835355ECD}"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8BEFB7-D718-4F9A-9044-7A42D7293CF4}"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5A8DB-8A06-438F-B8B4-A5532380F30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2F6802-0E19-4774-B2CF-1A69DA039D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DA4A2-B2DD-4D3A-809F-00965D04FC82}"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571F6D-A394-4441-A955-65DEF4BD20D5}"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48648-673C-46D1-A3ED-805B1BDB43E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E4059-E60D-4F83-9585-2B4C630BF49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74C44F-FF6F-4AE4-AD04-A77A2EFEE33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5E99C-8A40-462B-AAA0-E5372C266DE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B66AA-E16F-4F7A-BA57-BEA81258979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CB9CA-195B-4426-89EF-BA29D84E4C70}"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3AAB8-D8F2-44CD-A39B-C664430873A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17EBD-E25C-499E-A618-BC5072BB4BC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0395-7F5B-4444-8D8B-1B3EEBD3519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3733EA-1B0D-42AF-95E1-F131B849516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94FB1-CD15-4EE7-8DF2-C823C76A8FCC}"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7EC3E-7E28-447B-A698-D19226BC8FE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12409-ECE5-4E45-9132-FED2144FA7A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2BF10-F445-46E4-B53C-CBD45167517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EB889A-10EF-492C-ACCC-1D41D1B49E0A}"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254D9A-F71E-47DE-BD6C-FA1C20545D8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50150-9FD1-4D5E-AE72-3DFB8CCA35C0}"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AA1C0-4A37-485A-B353-301196D91DC0}"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CCE6D3-3FD2-46A3-BC1F-29658439802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370D7-678C-4D3C-96C0-0A733C5FB15D}"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FCE525-37A3-4A4F-B8FA-7C4A723AC537}"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55436-02F2-4500-BE07-2C43B91E8619}"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DCE9C-2064-4E34-BA08-6C69CEA275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2455B6-BC69-43BD-8B54-879288D40CF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A6EC8-3A5E-4EF8-9EFC-D1F4744DA2D0}"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61BF3-F8E4-4AAA-9F05-5C77954E5FA3}"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15DB8-DE7B-43F8-976B-5027ADEF67D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C7A475-4692-4A30-98F8-23432D0000D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60BB-5833-4DE4-BB3F-550DD1BD919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025DF-FCBA-4FA3-A62D-03F0144D19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99B708-A09D-4FF5-9B07-3EB081D3A1D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15A80-9101-4FC5-813D-20C4F694309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0E4B1-AB46-47C6-8983-CCA9CB2612E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C2EB17-8FAC-4E5E-8016-F1D9845ECDAB}"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D3357-37AA-41B6-BABF-A0867C799C5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143EA-F349-4EFF-9747-0422B887415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B8EC8-0622-4847-BFBA-3B016F52F872}"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1DDFB-605F-4AD3-8906-B84461B26F10}"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0EED99-9825-464F-8D82-59CD2BDBF07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2BB1A-666E-46D1-99C7-6A812F4DBB34}"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FBFE3-1477-4032-8B8E-039EA901C1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4A8F4-687B-428B-8D3E-F1FA821C337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F576D5-7722-47AD-A2C3-1D87BEA8D1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8B1B9-C238-4C54-BBD2-AC62FEC4847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17EE1-3584-4E9F-98EE-735478A1815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925530-35CB-4BD7-9D8F-F9C46E98C9C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A5023-B22F-43A2-9120-0E9FEE7DA227}"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