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4F769D-2DDA-4315-9FA6-D6A09B2EB7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CC83E1-5A69-4B8C-9B2E-5C4E6E5BD6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4ABD50-3CCD-4BE7-9142-E4EA539329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E583AE-40D3-4EC3-BCCB-9CB490FB8D9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1F422E-6159-4E48-9511-3A36FD9AA0C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9C7A87-5725-4410-AD62-6BF0A45766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226120-C2D2-45EB-A191-9E405AB98A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FDE56C-38F9-432F-89E6-F433AD8B6A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31EB84-832E-4D30-9F13-037B249C7F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EF5C43-76E1-4B7D-8137-D8478C98B6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F1E08C-028F-4451-8330-CF29021979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CA8557-128D-476F-8099-D33222A735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E238D-DA4D-44C4-956E-6B197AD7CC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496880" y="2239920"/>
            <a:ext cx="312840" cy="495360"/>
            <a:chOff x="1496880" y="223992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575000" y="22399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653120" y="23814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53540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5312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496880" y="24876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2136600" y="21733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174760" y="2260440"/>
            <a:ext cx="1063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9280" y="223992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197240" y="2400480"/>
            <a:ext cx="295560" cy="587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V="1">
            <a:off x="3260880" y="2550960"/>
            <a:ext cx="65088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36600" y="285264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49440" y="280368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43200" y="2421000"/>
            <a:ext cx="2491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97360" y="2011320"/>
            <a:ext cx="6490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91120" y="292572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7560" y="208764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8200" y="185904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6880" y="277344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249880" y="2697120"/>
            <a:ext cx="312840" cy="495360"/>
            <a:chOff x="5249880" y="2697120"/>
            <a:chExt cx="312840" cy="495360"/>
          </a:xfrm>
        </p:grpSpPr>
        <p:sp>
          <p:nvSpPr>
            <p:cNvPr id="60" name=""/>
            <p:cNvSpPr/>
            <p:nvPr/>
          </p:nvSpPr>
          <p:spPr>
            <a:xfrm>
              <a:off x="5328000" y="26971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406120" y="28386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528840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40612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249880" y="29448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572000" y="350820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095880" y="24112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21440" y="254808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23120" y="304164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91200" y="3103560"/>
            <a:ext cx="1125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6149880" y="15987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08840" y="17002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Document"/>
          <p:cNvSpPr/>
          <p:nvPr/>
        </p:nvSpPr>
        <p:spPr>
          <a:xfrm>
            <a:off x="6777000" y="159876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24800" y="1700280"/>
            <a:ext cx="57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8015400" y="363060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961400" y="363060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831000" y="3757680"/>
            <a:ext cx="312840" cy="501480"/>
            <a:chOff x="6831000" y="3757680"/>
            <a:chExt cx="312840" cy="501480"/>
          </a:xfrm>
        </p:grpSpPr>
        <p:sp>
          <p:nvSpPr>
            <p:cNvPr id="77" name=""/>
            <p:cNvSpPr/>
            <p:nvPr/>
          </p:nvSpPr>
          <p:spPr>
            <a:xfrm>
              <a:off x="6909120" y="37576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987240" y="39009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686952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8724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831000" y="40082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 flipV="1">
            <a:off x="5562720" y="2894040"/>
            <a:ext cx="5205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67080" y="23162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6477120" y="2080800"/>
            <a:ext cx="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6934320" y="21067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188120" y="3255840"/>
            <a:ext cx="812880" cy="47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7110000" y="3909960"/>
            <a:ext cx="927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86400" y="463716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24560" y="48369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94320" y="529272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11840" y="526896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48520" y="407520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95680" y="2697120"/>
            <a:ext cx="787680" cy="19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915080" y="298908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7848720" y="2563920"/>
            <a:ext cx="293400" cy="587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8026560" y="264168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7238880" y="2792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86200" y="3809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410080" y="32130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25257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Document"/>
          <p:cNvSpPr/>
          <p:nvPr/>
        </p:nvSpPr>
        <p:spPr>
          <a:xfrm>
            <a:off x="5170320" y="384012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18120" y="387360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6238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Z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603840" y="5727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59Z</dcterms:modified>
  <cp:revision>154</cp:revision>
  <dc:subject/>
  <dc:title>Slide 1</dc:title>
</cp:coreProperties>
</file>